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A58-1A71-4148-9CF3-55BF9E86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71B-4486-4E61-A7CC-0E157BC0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469-DC53-458A-8FAF-6F83C90B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8DA-D5E4-4196-B096-70B195D2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3A2-0B6C-4F6E-BBB9-4D505B49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E64-0FAA-44BC-A544-60EFE2C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352-80C0-4EC4-A9FD-574E54F8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F14-B7D0-4358-8F2E-ADB99D4A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1D2-4CE1-48DD-A249-14DA3ED7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C1E-D726-4713-8B2A-58F02D4F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6EC-ECF5-4375-A06A-881782F1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E5B-C223-48F3-9832-9BCFED20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097" descr="优选横版PPT--高中(1024X768) (3)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E04E-14FE-4D01-8B82-6AB00D3DD1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鉴赏古代诗歌考点阐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考点要求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能阅读浅易的古代诗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鉴赏文学作品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形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语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表达技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评价文学作品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思想内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作者的观点态度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上凸带形 7171"/>
          <p:cNvSpPr/>
          <p:nvPr/>
        </p:nvSpPr>
        <p:spPr>
          <a:xfrm>
            <a:off x="352440" y="828720"/>
            <a:ext cx="1944720" cy="86364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0 h 863640"/>
              <a:gd name="textAreaBottom" fmla="*/ 756000 h 863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00ff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对象 1126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11266"/>
          <p:cNvSpPr/>
          <p:nvPr/>
        </p:nvSpPr>
        <p:spPr>
          <a:xfrm>
            <a:off x="1763640" y="263700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诗歌的语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2289"/>
          <p:cNvSpPr txBox="1"/>
          <p:nvPr/>
        </p:nvSpPr>
        <p:spPr>
          <a:xfrm>
            <a:off x="2340000" y="2565360"/>
            <a:ext cx="3959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推敲字词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3313"/>
          <p:cNvSpPr/>
          <p:nvPr/>
        </p:nvSpPr>
        <p:spPr>
          <a:xfrm>
            <a:off x="2484360" y="0"/>
            <a:ext cx="3529080" cy="703440"/>
          </a:xfrm>
          <a:prstGeom prst="rect">
            <a:avLst/>
          </a:prstGeom>
          <a:solidFill>
            <a:srgbClr val="99cc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3314"/>
          <p:cNvSpPr/>
          <p:nvPr/>
        </p:nvSpPr>
        <p:spPr>
          <a:xfrm>
            <a:off x="468360" y="13413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般动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3315"/>
          <p:cNvSpPr/>
          <p:nvPr/>
        </p:nvSpPr>
        <p:spPr>
          <a:xfrm>
            <a:off x="250920" y="1989000"/>
            <a:ext cx="8424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陶潜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仙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破月来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楼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杏枝头春意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记得跨清溪半里桥，旧红板没一条，秋水长天人过少。冷清清的落照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树柳弯腰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羌笛何须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柳，春风不度玉门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时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泪，恨别鸟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标注 13316"/>
          <p:cNvSpPr/>
          <p:nvPr/>
        </p:nvSpPr>
        <p:spPr>
          <a:xfrm>
            <a:off x="2627280" y="1197000"/>
            <a:ext cx="3529080" cy="792000"/>
          </a:xfrm>
          <a:prstGeom prst="wedgeRoundRectCallout">
            <a:avLst>
              <a:gd name="adj1" fmla="val -48694"/>
              <a:gd name="adj2" fmla="val 84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见”字表现出自然而然的悠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3317"/>
          <p:cNvSpPr/>
          <p:nvPr/>
        </p:nvSpPr>
        <p:spPr>
          <a:xfrm>
            <a:off x="3564000" y="1989000"/>
            <a:ext cx="38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联系修饰语”悠然”考虑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3318"/>
          <p:cNvSpPr/>
          <p:nvPr/>
        </p:nvSpPr>
        <p:spPr>
          <a:xfrm>
            <a:off x="5940360" y="2421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体会意境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3319"/>
          <p:cNvSpPr/>
          <p:nvPr/>
        </p:nvSpPr>
        <p:spPr>
          <a:xfrm>
            <a:off x="6012000" y="285264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感受情趣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标注 13320"/>
          <p:cNvSpPr/>
          <p:nvPr/>
        </p:nvSpPr>
        <p:spPr>
          <a:xfrm>
            <a:off x="4427640" y="765000"/>
            <a:ext cx="4716360" cy="2592720"/>
          </a:xfrm>
          <a:prstGeom prst="wedgeRoundRectCallout">
            <a:avLst>
              <a:gd name="adj1" fmla="val -48990"/>
              <a:gd name="adj2" fmla="val 76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个“剩”字引人注目，作者并没有用“留”、“见”，其妙处就在“剩”虽与“留”意思相近，但“剩”字一般是被动的，而且有“残存”，“残余”的意思；另外“剩”字有时间性，给人一种“无可奈何”之感。“留”则无这么多含义。“见”只就眼前而言，不能给人以今昔对比的变迁感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321"/>
          <p:cNvSpPr/>
          <p:nvPr/>
        </p:nvSpPr>
        <p:spPr>
          <a:xfrm>
            <a:off x="611280" y="4149720"/>
            <a:ext cx="56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与其他词义相近的词比较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标注 13322"/>
          <p:cNvSpPr/>
          <p:nvPr/>
        </p:nvSpPr>
        <p:spPr>
          <a:xfrm>
            <a:off x="4788000" y="765000"/>
            <a:ext cx="4356000" cy="1656000"/>
          </a:xfrm>
          <a:prstGeom prst="wedgeRoundRectCallout">
            <a:avLst>
              <a:gd name="adj1" fmla="val -39393"/>
              <a:gd name="adj2" fmla="val 64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弄”字使人联想到不仅花在风中摇动，影子也在舞动，描绘出一幅影随花动的和谐画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标注 13323"/>
          <p:cNvSpPr/>
          <p:nvPr/>
        </p:nvSpPr>
        <p:spPr>
          <a:xfrm>
            <a:off x="5292720" y="1341360"/>
            <a:ext cx="3635280" cy="15112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闹”字把无声的姿态描摹得好像有声音，写尽一派盎然的春意，蓬勃的生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324"/>
          <p:cNvSpPr/>
          <p:nvPr/>
        </p:nvSpPr>
        <p:spPr>
          <a:xfrm>
            <a:off x="622764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由物及人思考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3325"/>
          <p:cNvSpPr/>
          <p:nvPr/>
        </p:nvSpPr>
        <p:spPr>
          <a:xfrm>
            <a:off x="6227640" y="5013360"/>
            <a:ext cx="66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由景及情考虑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13326"/>
          <p:cNvSpPr/>
          <p:nvPr/>
        </p:nvSpPr>
        <p:spPr>
          <a:xfrm>
            <a:off x="2268360" y="3141720"/>
            <a:ext cx="3743640" cy="1295280"/>
          </a:xfrm>
          <a:prstGeom prst="wedgeRoundRectCallout">
            <a:avLst>
              <a:gd name="adj1" fmla="val -44231"/>
              <a:gd name="adj2" fmla="val 74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怨”字明显用了拟人手法，既是曲中之情，又是吹笛人之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标注 13327"/>
          <p:cNvSpPr/>
          <p:nvPr/>
        </p:nvSpPr>
        <p:spPr>
          <a:xfrm>
            <a:off x="4211640" y="3716280"/>
            <a:ext cx="4681440" cy="1298520"/>
          </a:xfrm>
          <a:prstGeom prst="wedgeRoundRectCallout">
            <a:avLst>
              <a:gd name="adj1" fmla="val -50203"/>
              <a:gd name="adj2" fmla="val 623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溅”、“惊”二字，不仅用字新鲜，而且增添了诗人感时恨别的内心痛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4337" descr="图片8"/>
          <p:cNvPicPr/>
          <p:nvPr/>
        </p:nvPicPr>
        <p:blipFill>
          <a:blip r:embed="rId1"/>
          <a:stretch/>
        </p:blipFill>
        <p:spPr>
          <a:xfrm>
            <a:off x="0" y="549360"/>
            <a:ext cx="8755200" cy="564516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4338"/>
          <p:cNvSpPr/>
          <p:nvPr/>
        </p:nvSpPr>
        <p:spPr>
          <a:xfrm>
            <a:off x="717120" y="291240"/>
            <a:ext cx="911520" cy="62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鉴赏字词的角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左大括号 14339"/>
          <p:cNvSpPr/>
          <p:nvPr/>
        </p:nvSpPr>
        <p:spPr>
          <a:xfrm>
            <a:off x="1692360" y="1628640"/>
            <a:ext cx="215640" cy="288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74880 h 2880000"/>
              <a:gd name="textAreaBottom" fmla="*/ 2805120 h 28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4340"/>
          <p:cNvSpPr/>
          <p:nvPr/>
        </p:nvSpPr>
        <p:spPr>
          <a:xfrm>
            <a:off x="2332440" y="1268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形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4341"/>
          <p:cNvSpPr/>
          <p:nvPr/>
        </p:nvSpPr>
        <p:spPr>
          <a:xfrm>
            <a:off x="2332440" y="39654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内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4342"/>
          <p:cNvSpPr/>
          <p:nvPr/>
        </p:nvSpPr>
        <p:spPr>
          <a:xfrm>
            <a:off x="4510800" y="1197000"/>
            <a:ext cx="266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表达技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4343"/>
          <p:cNvSpPr/>
          <p:nvPr/>
        </p:nvSpPr>
        <p:spPr>
          <a:xfrm>
            <a:off x="4698360" y="220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描写对象的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特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4344"/>
          <p:cNvSpPr/>
          <p:nvPr/>
        </p:nvSpPr>
        <p:spPr>
          <a:xfrm>
            <a:off x="4626720" y="3068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字词营造的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意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4345"/>
          <p:cNvSpPr/>
          <p:nvPr/>
        </p:nvSpPr>
        <p:spPr>
          <a:xfrm>
            <a:off x="4766760" y="49417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字词中包含的作者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情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4346"/>
          <p:cNvSpPr/>
          <p:nvPr/>
        </p:nvSpPr>
        <p:spPr>
          <a:xfrm>
            <a:off x="4675320" y="4005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字词揭示的内容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主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左大括号 14347"/>
          <p:cNvSpPr/>
          <p:nvPr/>
        </p:nvSpPr>
        <p:spPr>
          <a:xfrm>
            <a:off x="3635280" y="2565360"/>
            <a:ext cx="216000" cy="28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5361"/>
          <p:cNvSpPr/>
          <p:nvPr/>
        </p:nvSpPr>
        <p:spPr>
          <a:xfrm>
            <a:off x="380880" y="685800"/>
            <a:ext cx="906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5362"/>
          <p:cNvSpPr/>
          <p:nvPr/>
        </p:nvSpPr>
        <p:spPr>
          <a:xfrm>
            <a:off x="468360" y="155736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寻找并鉴赏诗句中精练的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5363"/>
          <p:cNvSpPr/>
          <p:nvPr/>
        </p:nvSpPr>
        <p:spPr>
          <a:xfrm>
            <a:off x="826920" y="22050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鉴赏精练的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动词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5364"/>
          <p:cNvSpPr/>
          <p:nvPr/>
        </p:nvSpPr>
        <p:spPr>
          <a:xfrm>
            <a:off x="4500720" y="220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0810"/>
                </a:solidFill>
                <a:latin typeface="华文行楷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060810"/>
                </a:solidFill>
                <a:latin typeface="华文行楷"/>
                <a:ea typeface="华文行楷"/>
              </a:rPr>
              <a:t>鉴赏精练的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形容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365"/>
          <p:cNvSpPr/>
          <p:nvPr/>
        </p:nvSpPr>
        <p:spPr>
          <a:xfrm>
            <a:off x="539640" y="27813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如何进行语言表述（步骤如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5366"/>
          <p:cNvSpPr/>
          <p:nvPr/>
        </p:nvSpPr>
        <p:spPr>
          <a:xfrm>
            <a:off x="179280" y="357336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810"/>
                </a:solidFill>
                <a:latin typeface="华文行楷"/>
                <a:ea typeface="华文行楷"/>
              </a:rPr>
              <a:t>　　</a:t>
            </a: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第一、把这个词放在句中作具体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第二、看这个字或者词有没有构成语法现象，有没有用到什么修辞手法以及其他的表达技巧，然后加一些描述性的术语，如精练传神、绘声绘色、生动形象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60810"/>
                </a:solidFill>
                <a:latin typeface="黑体"/>
                <a:ea typeface="黑体"/>
              </a:rPr>
              <a:t>第三、回答它这样用有什么作用（意境、感情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5367"/>
          <p:cNvSpPr/>
          <p:nvPr/>
        </p:nvSpPr>
        <p:spPr>
          <a:xfrm>
            <a:off x="838080" y="5181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0810"/>
                </a:solidFill>
                <a:latin typeface="Arial"/>
                <a:ea typeface="黑体"/>
              </a:rPr>
              <a:t>　　回答“精练词语在诗歌中所起的作用”这类题的思考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5369"/>
          <p:cNvSpPr/>
          <p:nvPr/>
        </p:nvSpPr>
        <p:spPr>
          <a:xfrm>
            <a:off x="838080" y="51055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6385"/>
          <p:cNvSpPr/>
          <p:nvPr/>
        </p:nvSpPr>
        <p:spPr>
          <a:xfrm>
            <a:off x="838080" y="762120"/>
            <a:ext cx="731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6386"/>
          <p:cNvSpPr/>
          <p:nvPr/>
        </p:nvSpPr>
        <p:spPr>
          <a:xfrm>
            <a:off x="2514600" y="1905120"/>
            <a:ext cx="39625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6387"/>
          <p:cNvSpPr/>
          <p:nvPr/>
        </p:nvSpPr>
        <p:spPr>
          <a:xfrm>
            <a:off x="1258920" y="17002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咏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巩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条犹未变初黄，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东风势便狂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把飞花蒙日月，不知天地有清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6388"/>
          <p:cNvSpPr/>
          <p:nvPr/>
        </p:nvSpPr>
        <p:spPr>
          <a:xfrm>
            <a:off x="755640" y="907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081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60810"/>
                </a:solidFill>
                <a:latin typeface="Arial"/>
              </a:rPr>
              <a:t>例如：请分析鉴赏“依”字的艺术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6389"/>
          <p:cNvSpPr/>
          <p:nvPr/>
        </p:nvSpPr>
        <p:spPr>
          <a:xfrm>
            <a:off x="324000" y="393372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案：“依”字有倚仗，依靠之意，写出了柳条依靠东风飞舞地狂放之态（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具体解释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，用拟人的修辞手法（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修辞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，不仅写柳，更形象地讽刺了倚势猖狂得志的小人（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作用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6390"/>
          <p:cNvSpPr/>
          <p:nvPr/>
        </p:nvSpPr>
        <p:spPr>
          <a:xfrm>
            <a:off x="6877080" y="189000"/>
            <a:ext cx="2016000" cy="57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课堂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7409"/>
          <p:cNvSpPr/>
          <p:nvPr/>
        </p:nvSpPr>
        <p:spPr>
          <a:xfrm>
            <a:off x="684360" y="1268280"/>
            <a:ext cx="7524720" cy="20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提问方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这首诗在语言上有何特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提问变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请分析这首诗的语言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谈谈此诗的语言艺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7410"/>
          <p:cNvSpPr/>
          <p:nvPr/>
        </p:nvSpPr>
        <p:spPr>
          <a:xfrm>
            <a:off x="395280" y="3284640"/>
            <a:ext cx="8610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解答分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题型不是要求揣摩个别字词运用的巧妙，而是要品味整首诗表现出来的语言风格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7411"/>
          <p:cNvSpPr/>
          <p:nvPr/>
        </p:nvSpPr>
        <p:spPr>
          <a:xfrm>
            <a:off x="324000" y="4365720"/>
            <a:ext cx="84978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题步骤：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叙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两个词准确点明语言特色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诗中有关语句具体分析这种特色。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评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出表现了作者怎样的感情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7412"/>
          <p:cNvSpPr/>
          <p:nvPr/>
        </p:nvSpPr>
        <p:spPr>
          <a:xfrm>
            <a:off x="1692360" y="40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答语言风格题的思考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8433"/>
          <p:cNvSpPr/>
          <p:nvPr/>
        </p:nvSpPr>
        <p:spPr>
          <a:xfrm>
            <a:off x="468360" y="981000"/>
            <a:ext cx="8381880" cy="18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谈谈下面这首诗的语言艺术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　　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 怨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金昌绪</a:t>
            </a: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起黄莺儿，莫教枝上啼。               啼时惊妾梦，不得到辽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8434"/>
          <p:cNvSpPr/>
          <p:nvPr/>
        </p:nvSpPr>
        <p:spPr>
          <a:xfrm>
            <a:off x="468360" y="378936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此诗语言特点是</a:t>
            </a:r>
            <a:r>
              <a:rPr b="1" lang="zh-CN" sz="2800" spc="-1" strike="noStrike">
                <a:solidFill>
                  <a:srgbClr val="009999"/>
                </a:solidFill>
                <a:latin typeface="华文行楷"/>
                <a:ea typeface="华文行楷"/>
              </a:rPr>
              <a:t>清新自然，口语化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叙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“黄莺儿”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儿化音，显出女子的纯真娇憨。“啼时惊妾梦，不得到辽西”用质朴的语言表明了打黄莺是因为它惊扰了自己思念丈夫的美梦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析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这样非常自然地表现了女子对丈夫的思念之情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评</a:t>
            </a:r>
            <a:r>
              <a:rPr b="1" lang="en-US" sz="2800" spc="-1" strike="noStrike">
                <a:solidFill>
                  <a:srgbClr val="333399"/>
                </a:solidFill>
                <a:latin typeface="华文行楷"/>
                <a:ea typeface="华文行楷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435"/>
          <p:cNvSpPr/>
          <p:nvPr/>
        </p:nvSpPr>
        <p:spPr>
          <a:xfrm>
            <a:off x="6877080" y="189000"/>
            <a:ext cx="2016000" cy="57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课堂示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用来答语言风格的词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92360" y="1844280"/>
            <a:ext cx="66247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清新自然、朴实无华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华美绚丽、明白晓畅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多用口语、简练生动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婉约缠绵、委婉含蓄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Arial"/>
                <a:ea typeface="楷体_GB2312"/>
              </a:rPr>
              <a:t>雄浑豪放、慷慨悲凉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诗歌形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标全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下面这首宋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礼部贡院阅进士就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欧阳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紫案焚香暖吹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广庭清晓席群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哗战士衔枚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笔春蚕食叶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乡里献贤先德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朝廷列爵待公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惭衰病心神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赖有群公鉴裁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21505"/>
          <p:cNvSpPr/>
          <p:nvPr/>
        </p:nvSpPr>
        <p:spPr>
          <a:xfrm>
            <a:off x="13680" y="2060640"/>
            <a:ext cx="606960" cy="2232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歌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左大括号 21506"/>
          <p:cNvSpPr/>
          <p:nvPr/>
        </p:nvSpPr>
        <p:spPr>
          <a:xfrm>
            <a:off x="826920" y="189000"/>
            <a:ext cx="216000" cy="626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3080 h 6264360"/>
              <a:gd name="textAreaBottom" fmla="*/ 6101280 h 62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1507"/>
          <p:cNvSpPr/>
          <p:nvPr/>
        </p:nvSpPr>
        <p:spPr>
          <a:xfrm>
            <a:off x="1187280" y="260280"/>
            <a:ext cx="505080" cy="21283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508"/>
          <p:cNvSpPr/>
          <p:nvPr/>
        </p:nvSpPr>
        <p:spPr>
          <a:xfrm>
            <a:off x="1187280" y="4797360"/>
            <a:ext cx="648000" cy="9471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景物形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左大括号 21509"/>
          <p:cNvSpPr/>
          <p:nvPr/>
        </p:nvSpPr>
        <p:spPr>
          <a:xfrm>
            <a:off x="1763640" y="260280"/>
            <a:ext cx="432000" cy="2448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1510"/>
          <p:cNvSpPr/>
          <p:nvPr/>
        </p:nvSpPr>
        <p:spPr>
          <a:xfrm>
            <a:off x="2340000" y="260280"/>
            <a:ext cx="4968720" cy="119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、 诗中的诗人形象“我”，一般指抒情主人公，即诗人自己；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偏重抒情的诗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1511"/>
          <p:cNvSpPr/>
          <p:nvPr/>
        </p:nvSpPr>
        <p:spPr>
          <a:xfrm>
            <a:off x="2133720" y="2362320"/>
            <a:ext cx="4392360" cy="752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、作品中其他人物。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偏重叙事的诗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1512"/>
          <p:cNvSpPr/>
          <p:nvPr/>
        </p:nvSpPr>
        <p:spPr>
          <a:xfrm>
            <a:off x="4427640" y="5300640"/>
            <a:ext cx="45003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意象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山川草木等客观物象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)-------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诗歌中浸染了作者感情的东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右箭头 21513"/>
          <p:cNvSpPr/>
          <p:nvPr/>
        </p:nvSpPr>
        <p:spPr>
          <a:xfrm>
            <a:off x="1763640" y="5373720"/>
            <a:ext cx="2737080" cy="360360"/>
          </a:xfrm>
          <a:prstGeom prst="rightArrow">
            <a:avLst>
              <a:gd name="adj1" fmla="val 50000"/>
              <a:gd name="adj2" fmla="val 1898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1514"/>
          <p:cNvSpPr/>
          <p:nvPr/>
        </p:nvSpPr>
        <p:spPr>
          <a:xfrm>
            <a:off x="1908000" y="472428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诗人借以表达主观感情的载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515"/>
          <p:cNvSpPr/>
          <p:nvPr/>
        </p:nvSpPr>
        <p:spPr>
          <a:xfrm>
            <a:off x="8101080" y="1197000"/>
            <a:ext cx="574560" cy="3506040"/>
          </a:xfrm>
          <a:prstGeom prst="rect">
            <a:avLst/>
          </a:prstGeom>
          <a:solidFill>
            <a:srgbClr val="fae6fa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一切景语皆情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角星 21516"/>
          <p:cNvSpPr/>
          <p:nvPr/>
        </p:nvSpPr>
        <p:spPr>
          <a:xfrm>
            <a:off x="8101080" y="836640"/>
            <a:ext cx="574560" cy="431640"/>
          </a:xfrm>
          <a:custGeom>
            <a:avLst/>
            <a:gdLst/>
            <a:ahLst/>
            <a:rect l="l" t="t" r="r" b="b"/>
            <a:pathLst>
              <a:path w="574675" h="431800">
                <a:moveTo>
                  <a:pt x="0" y="164932"/>
                </a:moveTo>
                <a:lnTo>
                  <a:pt x="219507" y="164933"/>
                </a:lnTo>
                <a:lnTo>
                  <a:pt x="287337" y="0"/>
                </a:lnTo>
                <a:lnTo>
                  <a:pt x="355167" y="164933"/>
                </a:lnTo>
                <a:lnTo>
                  <a:pt x="574674" y="164932"/>
                </a:lnTo>
                <a:lnTo>
                  <a:pt x="397088" y="266865"/>
                </a:lnTo>
                <a:lnTo>
                  <a:pt x="464921" y="431798"/>
                </a:lnTo>
                <a:lnTo>
                  <a:pt x="287337" y="329863"/>
                </a:lnTo>
                <a:lnTo>
                  <a:pt x="109753" y="431798"/>
                </a:lnTo>
                <a:lnTo>
                  <a:pt x="177586" y="2668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1517"/>
          <p:cNvSpPr/>
          <p:nvPr/>
        </p:nvSpPr>
        <p:spPr>
          <a:xfrm>
            <a:off x="1371600" y="62164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偏重写景的诗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22529"/>
          <p:cNvSpPr/>
          <p:nvPr/>
        </p:nvSpPr>
        <p:spPr>
          <a:xfrm>
            <a:off x="611280" y="765000"/>
            <a:ext cx="82818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李白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坐敬亭山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试分析诗中所塑造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诗人形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独坐敬亭山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隶书"/>
                <a:ea typeface="隶书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众鸟高飞尽，孤云独去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相看两不厌，只有敬亭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23553"/>
          <p:cNvSpPr/>
          <p:nvPr/>
        </p:nvSpPr>
        <p:spPr>
          <a:xfrm>
            <a:off x="611280" y="835560"/>
            <a:ext cx="7777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独坐敬亭山　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众鸟高飞尽，孤云独去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相看两不厌，只有敬亭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3554"/>
          <p:cNvSpPr/>
          <p:nvPr/>
        </p:nvSpPr>
        <p:spPr>
          <a:xfrm>
            <a:off x="395280" y="3376080"/>
            <a:ext cx="835992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个山头，一座亭子，一个人，所有的鸟儿都飞走了，连云儿都不愿停留。清冷的环境中，诗人守望山头，“相看两不厌”写出了作者的凄凉，最后“只有敬亭山”道出了作者内心的感受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云形标注 23555"/>
          <p:cNvSpPr/>
          <p:nvPr/>
        </p:nvSpPr>
        <p:spPr>
          <a:xfrm>
            <a:off x="4643280" y="4724280"/>
            <a:ext cx="3745080" cy="1441440"/>
          </a:xfrm>
          <a:prstGeom prst="cloudCallout">
            <a:avLst>
              <a:gd name="adj1" fmla="val -45337"/>
              <a:gd name="adj2" fmla="val -10253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解答不具体，且答非所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4577"/>
          <p:cNvSpPr/>
          <p:nvPr/>
        </p:nvSpPr>
        <p:spPr>
          <a:xfrm>
            <a:off x="539640" y="671400"/>
            <a:ext cx="7777440" cy="19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阅读李白诗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独坐敬亭山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，试分析诗中所塑造的诗人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独坐敬亭山　</a:t>
            </a:r>
            <a:r>
              <a:rPr b="1" lang="zh-CN" sz="2400" spc="-1" strike="noStrike">
                <a:solidFill>
                  <a:srgbClr val="cc6600"/>
                </a:solidFill>
                <a:latin typeface="宋体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众鸟高飞尽，孤云独去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相看两不厌，只有敬亭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4578"/>
          <p:cNvSpPr/>
          <p:nvPr/>
        </p:nvSpPr>
        <p:spPr>
          <a:xfrm>
            <a:off x="250920" y="4118760"/>
            <a:ext cx="8713800" cy="12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00"/>
                </a:solidFill>
                <a:latin typeface="宋体"/>
              </a:rPr>
              <a:t>参考答案：</a:t>
            </a:r>
            <a:r>
              <a:rPr b="1" lang="zh-CN" sz="2500" spc="-1" strike="noStrike">
                <a:solidFill>
                  <a:srgbClr val="009900"/>
                </a:solidFill>
                <a:latin typeface="宋体"/>
              </a:rPr>
              <a:t>全诗塑造了一个不与世俗同列，自由、闲适又有点孤傲的诗人的形象。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众鸟之“高飞”与孤云的“独去”，写出了山静而空的特点，暗示了世俗对诗人的冷遇，表现出诗人自由而闲适的孤身生活；只有“相看不厌”的敬亭山才是自己惟一的知己。同时，诗人愈是写山的“有情”，愈是表现出人的“无情”，从而又写出了诗人孤独寂寞之中的傲岸倔强的性格。</a:t>
            </a:r>
            <a:r>
              <a:rPr b="1" lang="zh-CN" sz="2500" spc="-1" strike="noStrike">
                <a:solidFill>
                  <a:srgbClr val="d60093"/>
                </a:solidFill>
                <a:latin typeface="宋体"/>
              </a:rPr>
              <a:t>表现出诗人从自然中寻求快乐，忘怀得失的思想感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标注 24579"/>
          <p:cNvSpPr/>
          <p:nvPr/>
        </p:nvSpPr>
        <p:spPr>
          <a:xfrm>
            <a:off x="324000" y="2276640"/>
            <a:ext cx="1152360" cy="792000"/>
          </a:xfrm>
          <a:prstGeom prst="wedgeRoundRectCallout">
            <a:avLst>
              <a:gd name="adj1" fmla="val 149722"/>
              <a:gd name="adj2" fmla="val 76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总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标注 24580"/>
          <p:cNvSpPr/>
          <p:nvPr/>
        </p:nvSpPr>
        <p:spPr>
          <a:xfrm>
            <a:off x="7020000" y="2276640"/>
            <a:ext cx="1366920" cy="647640"/>
          </a:xfrm>
          <a:prstGeom prst="wedgeRoundRectCallout">
            <a:avLst>
              <a:gd name="adj1" fmla="val -146282"/>
              <a:gd name="adj2" fmla="val 306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标注 24581"/>
          <p:cNvSpPr/>
          <p:nvPr/>
        </p:nvSpPr>
        <p:spPr>
          <a:xfrm>
            <a:off x="3780000" y="5877000"/>
            <a:ext cx="1295280" cy="647640"/>
          </a:xfrm>
          <a:prstGeom prst="wedgeRoundRectCallout">
            <a:avLst>
              <a:gd name="adj1" fmla="val 150365"/>
              <a:gd name="adj2" fmla="val -561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25601"/>
          <p:cNvSpPr/>
          <p:nvPr/>
        </p:nvSpPr>
        <p:spPr>
          <a:xfrm>
            <a:off x="1692360" y="1989000"/>
            <a:ext cx="6696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案一般有三部分构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概括形象特点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分析形象的基本特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指出形象的意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5602"/>
          <p:cNvSpPr/>
          <p:nvPr/>
        </p:nvSpPr>
        <p:spPr>
          <a:xfrm>
            <a:off x="611280" y="476280"/>
            <a:ext cx="82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文鼎霹雳体"/>
              </a:rPr>
              <a:t>人物形象鉴赏题如何规范作答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26625"/>
          <p:cNvSpPr/>
          <p:nvPr/>
        </p:nvSpPr>
        <p:spPr>
          <a:xfrm>
            <a:off x="539640" y="1052640"/>
            <a:ext cx="822960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824"/>
                </a:solidFill>
                <a:latin typeface="迷你简启体"/>
                <a:ea typeface="迷你简启体"/>
              </a:rPr>
              <a:t>　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迷你简启体"/>
                <a:ea typeface="迷你简启体"/>
              </a:rPr>
              <a:t>鉴赏人物形象常用到的重要词语</a:t>
            </a:r>
            <a:r>
              <a:rPr b="1" lang="zh-CN" sz="3600" spc="-1" strike="noStrike">
                <a:solidFill>
                  <a:srgbClr val="9c0824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慕权贵、豪放洒脱、傲岸不羁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忧天下、忧国忧民、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寄情山水、归隐田园、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怀才不遇、壮志难酬、慷慨愤世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矢志报国、报国无门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功立业、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友人送别、思念故乡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献身边塞、反对征伐、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爱恨情长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悯农怜农、热爱山川、哀叹昔盛今衰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27649"/>
          <p:cNvSpPr/>
          <p:nvPr/>
        </p:nvSpPr>
        <p:spPr>
          <a:xfrm>
            <a:off x="2124000" y="278136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理解意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28673"/>
          <p:cNvSpPr/>
          <p:nvPr/>
        </p:nvSpPr>
        <p:spPr>
          <a:xfrm>
            <a:off x="755640" y="260280"/>
            <a:ext cx="7772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李白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子夜吴歌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长安一片月，万户捣衣声。秋风吹不尽，总是玉关情。何日平胡虏，良人罢远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8674"/>
          <p:cNvSpPr/>
          <p:nvPr/>
        </p:nvSpPr>
        <p:spPr>
          <a:xfrm>
            <a:off x="900000" y="2133720"/>
            <a:ext cx="1462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意象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8675"/>
          <p:cNvSpPr/>
          <p:nvPr/>
        </p:nvSpPr>
        <p:spPr>
          <a:xfrm>
            <a:off x="900000" y="3809880"/>
            <a:ext cx="15382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意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标注 28676"/>
          <p:cNvSpPr/>
          <p:nvPr/>
        </p:nvSpPr>
        <p:spPr>
          <a:xfrm>
            <a:off x="3203640" y="1197000"/>
            <a:ext cx="5330880" cy="2308320"/>
          </a:xfrm>
          <a:prstGeom prst="wedgeRoundRectCallout">
            <a:avLst>
              <a:gd name="adj1" fmla="val -66500"/>
              <a:gd name="adj2" fmla="val -2476"/>
              <a:gd name="adj3" fmla="val 16667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一片月色，家家户户捣衣声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浓郁的秋意，深切的思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秋风、玉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寒衣送给戍守边关的亲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标注 28677"/>
          <p:cNvSpPr/>
          <p:nvPr/>
        </p:nvSpPr>
        <p:spPr>
          <a:xfrm>
            <a:off x="2771640" y="3733920"/>
            <a:ext cx="6067440" cy="2574720"/>
          </a:xfrm>
          <a:prstGeom prst="wedgeRoundRectCallout">
            <a:avLst>
              <a:gd name="adj1" fmla="val -56513"/>
              <a:gd name="adj2" fmla="val -37115"/>
              <a:gd name="adj3" fmla="val 16667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境界阔大。秋风乍起，明月高悬，长安城笼在浓浓的月色之中。家家户户传出捣衣之声，那急促而凄凉的声音散布出浓郁的秋意，这寒衣是送给戍守边关的亲人，声声寒砧都传递着对于边关的思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9697"/>
          <p:cNvSpPr/>
          <p:nvPr/>
        </p:nvSpPr>
        <p:spPr>
          <a:xfrm>
            <a:off x="826920" y="90792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如何分析诗歌的意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9698"/>
          <p:cNvSpPr/>
          <p:nvPr/>
        </p:nvSpPr>
        <p:spPr>
          <a:xfrm>
            <a:off x="838080" y="23623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中宋"/>
                <a:ea typeface="华文中宋"/>
              </a:rPr>
              <a:t>意境是诗人的主观思想感情与诗中  所描绘的生活图景有机融合而形成的一种耐人寻味的艺术境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9699"/>
          <p:cNvSpPr/>
          <p:nvPr/>
        </p:nvSpPr>
        <p:spPr>
          <a:xfrm>
            <a:off x="838080" y="4724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意境可由一个意象来表现，但更多是由多个意象共同来表现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48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d60093"/>
                </a:solidFill>
                <a:latin typeface="宋体"/>
              </a:rPr>
              <a:t>形成比较规范的答题模式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运用什么手法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抓住什么意象，（形成和谐画面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营造什么意境（气氛、氛围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表达什么情感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d60093"/>
                </a:solidFill>
                <a:latin typeface="宋体"/>
              </a:rPr>
              <a:t> 了解形容意境特点的常用形容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孤寂、凄凉、幽静、空灵、恬淡闲适、清新自然、安谧娴静、苍凉雄浑、旷远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列对这首诗的赏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恰当的两项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的第一句写出了考场肃穆而又怡人的环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衬托出作者的喜悦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句重点在表现考生们奋勇争先、一往无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把他们比作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加礼部考试的考生都由各地选送而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道德品行是选送的首要依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朝廷对考生寄予了殷切的期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希望他们能够成长为国家的栋梁之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承认自己体弱多病的事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选材工作要依靠其他考官来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31745"/>
          <p:cNvSpPr/>
          <p:nvPr/>
        </p:nvSpPr>
        <p:spPr>
          <a:xfrm>
            <a:off x="609480" y="228600"/>
            <a:ext cx="7543800" cy="47034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枫桥夜泊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张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月落乌啼霜满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江枫渔火对愁眠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姑苏城外寒山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夜半钟声到客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1746"/>
          <p:cNvSpPr/>
          <p:nvPr/>
        </p:nvSpPr>
        <p:spPr>
          <a:xfrm>
            <a:off x="228600" y="5105520"/>
            <a:ext cx="8534520" cy="1117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这幅枫桥夜泊图的情调是孤寂的，由月亮、乌鸦、寒霜、枫树、渔火、寒山寺和夜半钟声等诸多意象构成一种凄美的忧愁意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对象 3276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32770"/>
          <p:cNvSpPr/>
          <p:nvPr/>
        </p:nvSpPr>
        <p:spPr>
          <a:xfrm>
            <a:off x="1332000" y="2492280"/>
            <a:ext cx="6767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Arial"/>
                <a:ea typeface="楷体_GB2312"/>
              </a:rPr>
              <a:t>表达技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33793"/>
          <p:cNvSpPr/>
          <p:nvPr/>
        </p:nvSpPr>
        <p:spPr>
          <a:xfrm>
            <a:off x="539640" y="105264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主要包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表达方式、表现手法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修辞手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3794"/>
          <p:cNvSpPr/>
          <p:nvPr/>
        </p:nvSpPr>
        <p:spPr>
          <a:xfrm>
            <a:off x="395280" y="285264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修辞手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比喻、拟人、对比、借代、夸张、排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衬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衬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喜景衬喜情，哀景衬哀情  情乐则景乐，情哀则景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乐景衬哀情 反衬：以乐景写哀，更见其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设问、反问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3795"/>
          <p:cNvSpPr/>
          <p:nvPr/>
        </p:nvSpPr>
        <p:spPr>
          <a:xfrm>
            <a:off x="2124000" y="0"/>
            <a:ext cx="5543640" cy="825120"/>
          </a:xfrm>
          <a:prstGeom prst="rect">
            <a:avLst/>
          </a:prstGeom>
          <a:solidFill>
            <a:srgbClr val="99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古典诗歌表达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3796"/>
          <p:cNvSpPr/>
          <p:nvPr/>
        </p:nvSpPr>
        <p:spPr>
          <a:xfrm>
            <a:off x="250920" y="486900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74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表达方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（白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渲染，正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侧面，实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虚写，动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景，近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景、细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议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抒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接抒情：直抒胸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接抒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也叫以景衬情、烘托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借景抒情、托物言志、借用典故、借古喻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表现手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抒胸臆、借景抒情、托物言志（象征）、衬托、借古讽今（喻今、伤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用典）、虚实相生、先抑后扬、借形象说理（寓道理于形象之中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36865"/>
          <p:cNvSpPr/>
          <p:nvPr/>
        </p:nvSpPr>
        <p:spPr>
          <a:xfrm>
            <a:off x="1763640" y="0"/>
            <a:ext cx="5400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见修辞格表达效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6866"/>
          <p:cNvSpPr/>
          <p:nvPr/>
        </p:nvSpPr>
        <p:spPr>
          <a:xfrm>
            <a:off x="0" y="9810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喻、比拟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绘事物生动、形象、鲜明。增强了感染力。比喻用在议论中使深奥的道理浅显化，易于理解，接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借代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象突出，特点鲜明，具体生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夸张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丰富的联想，突出了事物的本质和特征，便于抒发强烈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关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语言幽默，饶有风趣；生动活泼，含蓄曲折地表达微妙的神态和情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节整齐匀称，节奏鲜明，有结构美和音乐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比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强语势，强化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比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事物特征鲜明突出，表达强烈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顶真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回环跌宕的旋律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典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语言精炼，内容丰富。古人常用典故在作品中或鲜明强烈、或含蓄曲折地表达自己的情感，在表达上增强艺术感染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考题设计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鉴赏诗词的表达技巧就是分析作品运用了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哪些表达技巧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这些表达技巧在作品中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起了什么作用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表达了什么内容情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37890"/>
          <p:cNvSpPr/>
          <p:nvPr/>
        </p:nvSpPr>
        <p:spPr>
          <a:xfrm>
            <a:off x="1908000" y="0"/>
            <a:ext cx="5334120" cy="17524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表达技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38913"/>
          <p:cNvSpPr/>
          <p:nvPr/>
        </p:nvSpPr>
        <p:spPr>
          <a:xfrm>
            <a:off x="2178000" y="516600"/>
            <a:ext cx="413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答题模式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: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分析技巧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8914"/>
          <p:cNvSpPr/>
          <p:nvPr/>
        </p:nvSpPr>
        <p:spPr>
          <a:xfrm>
            <a:off x="852480" y="2059560"/>
            <a:ext cx="705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提问变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分析这首诗的表现技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手法，或手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人是怎样抒发自己的情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效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8915"/>
          <p:cNvSpPr/>
          <p:nvPr/>
        </p:nvSpPr>
        <p:spPr>
          <a:xfrm>
            <a:off x="247680" y="4219920"/>
            <a:ext cx="889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解答分析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表现手法是诗人用以抒发感情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段方法，要准确答题，必须熟悉常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一些表现手法。表现手法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抒情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法、描写手法、修辞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大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8916"/>
          <p:cNvSpPr/>
          <p:nvPr/>
        </p:nvSpPr>
        <p:spPr>
          <a:xfrm>
            <a:off x="1245600" y="1268280"/>
            <a:ext cx="50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提问方式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首诗用了怎样的表现手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39937"/>
          <p:cNvSpPr/>
          <p:nvPr/>
        </p:nvSpPr>
        <p:spPr>
          <a:xfrm>
            <a:off x="1813320" y="700920"/>
            <a:ext cx="51548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答题步骤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准确指出用了何种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诗句阐释为什么是用了这种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手法有效传达出诗人怎样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9938"/>
          <p:cNvSpPr/>
          <p:nvPr/>
        </p:nvSpPr>
        <p:spPr>
          <a:xfrm>
            <a:off x="1365120" y="2923560"/>
            <a:ext cx="61912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早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陈与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露侵驼褐晓寒轻，星斗阑干分外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寂寞小桥和梦过，稻田深处草虫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此诗主要用了什么表现手法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何效果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40961"/>
          <p:cNvSpPr/>
          <p:nvPr/>
        </p:nvSpPr>
        <p:spPr>
          <a:xfrm>
            <a:off x="539640" y="52995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处反衬都突出了诗人出行之早，心中由飘泊引起的孤独寂寞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步骤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0962"/>
          <p:cNvSpPr/>
          <p:nvPr/>
        </p:nvSpPr>
        <p:spPr>
          <a:xfrm>
            <a:off x="1064160" y="3213000"/>
            <a:ext cx="47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主要用了反衬手法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步骤一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0963"/>
          <p:cNvSpPr/>
          <p:nvPr/>
        </p:nvSpPr>
        <p:spPr>
          <a:xfrm>
            <a:off x="324000" y="407664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未放亮，星斗纵横，分外明亮，反衬夜色之暗；“草虫鸣”反衬出环境的寂静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步骤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0964"/>
          <p:cNvSpPr/>
          <p:nvPr/>
        </p:nvSpPr>
        <p:spPr>
          <a:xfrm>
            <a:off x="1292040" y="238680"/>
            <a:ext cx="61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早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陈与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露侵驼褐晓寒轻，星斗阑干分外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寂寞小桥和梦过，稻田深处草虫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驼褐：驼毛做的外衣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阑干：横斜貌。</a:t>
            </a:r>
            <a:br>
              <a:rPr sz="28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此诗主要用了什么表现手法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何效果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答案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此题考查对诗歌内容手法的赏析能力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句的重点不是“表现考生们奋勇争先、一往无前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是写考场的安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果关系也不正确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承认自己体弱多病的事实”理解不符合诗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是诗人的自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说自己年纪大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精神不济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赖各位鉴裁。客套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未必是“事实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已录下的声音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1986" descr="0727-25-s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74" name="矩形 41987"/>
          <p:cNvSpPr/>
          <p:nvPr/>
        </p:nvSpPr>
        <p:spPr>
          <a:xfrm>
            <a:off x="1342440" y="303840"/>
            <a:ext cx="2210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歌鉴赏表述程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1988"/>
          <p:cNvSpPr/>
          <p:nvPr/>
        </p:nvSpPr>
        <p:spPr>
          <a:xfrm>
            <a:off x="324000" y="2379240"/>
            <a:ext cx="8820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首诗采用了（表达方式、修辞手法、表现手法）技法，写出了（意象）的（某某）特点，表现了（突出了）（某某）思想、感情，起到了（某某）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达方式有：叙述、描写、抒情、议论。（说明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修辞手法有：比喻、比拟、夸张、对偶、排比、反复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现手法有：象征、衬托、对比、想象、联想、照应、借景      抒情、寓情于景、托物言志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意象：作品中具体的人、物、景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思想感情有：迷恋、忧愁、惆怅、寂寞、伤感、孤独、烦闷、恬淡、闲适、欢乐、仰慕、激愤，坚守节操、忧国忧民等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作用：深化意境 、深化主旨、 意境深远 、意境优美 、意味深长、 耐人寻味、 言近旨远等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43009"/>
          <p:cNvSpPr/>
          <p:nvPr/>
        </p:nvSpPr>
        <p:spPr>
          <a:xfrm>
            <a:off x="3200400" y="4952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43010" descr="le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矩形 43011"/>
          <p:cNvSpPr/>
          <p:nvPr/>
        </p:nvSpPr>
        <p:spPr>
          <a:xfrm>
            <a:off x="1343880" y="304920"/>
            <a:ext cx="2131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歌鉴赏表达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3012"/>
          <p:cNvSpPr/>
          <p:nvPr/>
        </p:nvSpPr>
        <p:spPr>
          <a:xfrm>
            <a:off x="250920" y="128916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的过程要完整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种感悟、一份情感，它的表达，一定有一个过程。我们在表达这种感悟、情感时，一定要把过程讲清楚。如”请分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鸣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诗春山月夜图”这样的一个题目，我们就要在月出前的“人闲”、“花落”，到月出后“鸟鸣”这一过程中来分析。 诗歌赏析的一般的步骤是叙析评。“叙”即概括地引述原句；“析”就是作过程的简析；“评”就是旗帜鲜明的亮出观点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要求回答，重点明确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题目要求你回答什么，你就回答什么，要求你分析意境、环境描写、语言特点、修辞运用，等等，一定要看清，看清了，表达才能有的放矢，重点明确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流畅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流畅，一是指文句通畅，二是指先后有序，三是反映用语准确、表达到位。只要真正地理解了，表达流畅应该是能做到的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诗的第四句“下笔春蚕食叶声”广受后世称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赏析这一句的精妙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诗的第四句“下笔春蚕食叶声”广受后世称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赏析这一句的精妙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参考答案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春蚕食叶描摹考场内考生落笔纸上的声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动贴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动中见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越发见出考场的庄严寂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强化作者充满希望的喜悦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【解析】 此题考查鉴赏诗歌表达技巧的能力。要紧扣比喻修辞手法和以声衬静分析其中的精妙。“春蚕食叶”与考生书写之间的相似点是鉴赏的关键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作品思想内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3360" y="618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内容情感定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367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忧国忧民之感慨、国破家亡之痛楚、游子逐客之凄凉、征夫思妇之幽怨、怀才不遇之寂寞、报国无门之激愤、建功立业之豪迈、自由悠闲之恬淡、秀美山河之热爱、亲情友情之真挚、归耕隐居之乐、黑暗官场之苦、离别思念之绪、贬官谪居之恨、时光易逝韶光不再之感慨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1532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寂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愁绪万端、欲说还休、凄清冷落、感伤失落、报国无门、物是人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超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寄情山水、向往安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豪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咏史述志、状景抒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婉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闺中独处、思念情郎、泪洒楼台、月影自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思乡、怀友、题赠。愉悦、欣喜；郁闷、忧愁；孤独、凄清；悲观、伤感；激昂、奔放；仰慕、激愤；恬淡、闲适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6T10:18:50Z</dcterms:created>
  <dc:creator>AutoBVT</dc:creator>
  <dc:description/>
  <dc:language>en-US</dc:language>
  <cp:lastModifiedBy>Administrator</cp:lastModifiedBy>
  <dcterms:modified xsi:type="dcterms:W3CDTF">2017-10-11T08:11:29Z</dcterms:modified>
  <cp:revision>3</cp:revision>
  <dc:subject/>
  <dc:title>       鉴赏古代诗歌考点阐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