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5ED-9FEF-4A19-BC7D-1D23D27A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106-16A6-4086-AE75-1DC7B064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9BD-13E7-436D-AB06-E43861B8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FF9-5EFF-4F60-BC01-95C58D85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CCD2-A1AD-4BFA-B33A-5482EA9F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3807-B6A4-4032-93F9-FE341E9F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0351-B57B-4EBA-8AF2-B81FBDDB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3E2E-9A0E-4930-A4C1-384E1F6E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7A5F-2D3C-4DF4-BA18-49C1CC4A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B29C-12AF-48AE-828F-E6F2A219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534F-86B9-4A6F-94AA-AA3075F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A24-550D-4925-B189-CCC0734E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BE86-AC37-478F-B49A-A62DDC8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04CA-1F9F-4095-9AE9-0C781849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CF37-948E-427C-B504-6C13A0D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869E-E4EE-4912-9701-FE6BC81D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4A7F-6F61-437D-A142-DB60BA78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3C1B-6477-4117-BBB5-392EA450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D4F-423F-4DAC-9DFE-C4B1C456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8BD-96CC-4D02-A22A-74B55C68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286-1B44-4C27-8434-5E0AB0ED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4BD-654A-4FA6-9054-0F684B0A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125-DD30-420F-BD37-4FF728E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DCE-CE0B-4B80-9E38-E017658D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6CF4-BCDD-4B35-BD29-830C793461A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EA3C-843E-4553-8088-722587EB565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57000"/>
            <a:ext cx="80629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  <a:ea typeface="华文新魏"/>
              </a:rPr>
              <a:t>家园共育</a:t>
            </a:r>
            <a:br>
              <a:rPr sz="7200"/>
            </a:b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—谈幼儿园教师家长关系的处理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楚雄州幼儿园   金凤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2012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年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1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7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7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与家长谈话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选择时机，场地：避开家长高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注意说话的态度和语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多听家长的愿望、需求、意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&lt;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三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&gt;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分类处理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对症下药、药到病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476440" cy="1876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500720" y="2781360"/>
            <a:ext cx="2476440" cy="2289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059280" y="2637000"/>
            <a:ext cx="1647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3316"/>
                </a:solidFill>
                <a:latin typeface="Arial"/>
              </a:rPr>
              <a:t>常见的三种类型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弱势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常规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刺头（钉子户）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注意与家长沟通的语言艺术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5616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用平和的语气，委婉的态度，一分为二的观点与家长交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语言得体、有分寸，称呼得当 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先讲优点，后讲缺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言行、动作恰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忌：告状式、教训式语气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964720" y="1773360"/>
            <a:ext cx="179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666ff"/>
              </a:solidFill>
              <a:latin typeface="Arial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-747720"/>
            <a:ext cx="8540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3316"/>
                </a:solidFill>
                <a:latin typeface="Arial"/>
              </a:rPr>
              <a:t>注意在与家长沟通时的情感、态度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1640" y="549360"/>
            <a:ext cx="69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尊重家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真诚与家长交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细心听取家长的意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换位思考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多途径与家长沟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345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通过家教园地与家长进行沟通、交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（温馨提示、请您帮忙、家长信箱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组织“快乐星期天”活动，增进与家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的沟通、交流（郊游、登山、农家乐、游乐场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利用现代化技术途径与家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进行沟通、交流。（短讯、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QQ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群、邮箱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252360" y="-387360"/>
            <a:ext cx="9793080" cy="7245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487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316"/>
                </a:solidFill>
                <a:latin typeface="Arial"/>
              </a:rPr>
              <a:t>与家长沟通的方法：</a:t>
            </a:r>
            <a:br>
              <a:rPr sz="4000"/>
            </a:br>
            <a:br>
              <a:rPr sz="4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一句话沟通法：利用接孩子环节用一两句简洁明了的话向家长反映情况。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（常规类家长）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真情感动法：孩子发展中没什么太大的问题，家长总有许多的不放心。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（弱势类、刺头类）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3212640"/>
            <a:ext cx="8540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注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特殊事件主动、坦诚与家长沟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保护家庭隐私，保护孩子的自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549360"/>
            <a:ext cx="85406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3316"/>
                </a:solidFill>
                <a:latin typeface="Arial"/>
              </a:rPr>
              <a:t>沟 通 的 策 略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家长性别的不同，选择不同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家长年龄的不同，选择不同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家长对孩子的期望值，选择不同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家长的受教育程度，选择不同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孩子的个人状况，选择不同的沟通策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549360"/>
            <a:ext cx="85406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3316"/>
                </a:solidFill>
                <a:latin typeface="Arial"/>
              </a:rPr>
              <a:t>沟 通 的 策 略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99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以交流孩子情况为主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以反映孩子问题为主的沟通策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以布置配合工作为主的沟通策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孩子在幼儿园出现事故时的沟通策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家长误解情绪过激时的沟通策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共     勉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19280" y="1599840"/>
            <a:ext cx="6192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对人的工作是最复杂的事。千变万化、形形色色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本着：真诚、公正、人性、合理合法的原则，与家长交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工作的过程就是学的过程，是自己事业的第一步，主观上为幼儿园、客观上就是为自己。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3316"/>
                </a:solidFill>
                <a:latin typeface="Arial"/>
              </a:rPr>
              <a:t>幼儿教师：心存理想蓝天，工作脚踏实地，有善良心地。</a:t>
            </a:r>
            <a:r>
              <a:rPr b="0" lang="zh-CN" sz="2400" spc="-1" strike="noStrike">
                <a:solidFill>
                  <a:srgbClr val="e4331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请批评指正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谢谢大家！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6" dur="2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8" dur="2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10" dur="2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师处理家长关系是一门艺术、是一门学问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84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华文新魏"/>
              </a:rPr>
              <a:t>教育角度：处理好家长关系，与家长有效沟通，积极寻找教育幼 儿的最佳切入点，从而提高教育质量，发展幼儿个性，充分利用家长资，为幼儿园的发展服务，为幼儿教育服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华文新魏"/>
              </a:rPr>
              <a:t>教师角度：可以提高教师的教育素质，树立良好的教师“口碑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华文新魏"/>
              </a:rPr>
              <a:t>幼儿园发展的角度：显得犹为重要，教师好—幼儿园好，宣传幼儿园，扩大社会声誉，影响生源，决定幼儿园的生存和发展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</a:rPr>
              <a:t>一、幼儿园教师家长关系的处理方式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、集中型处理：家长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、日常型处理：每天接送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、分类处理：个别谈话、家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&lt;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&gt;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集中型处理（家长会）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①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新生家长会：仪容仪表、教师服务承诺、                      个人自我介绍、园长气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微笑、阳光、亲和、干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严禁：严肃、呆板、说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               ②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班级家长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会前准备非常重要：查保教理论资料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掌握孩子年龄特点、拟提纲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该说什么，不该说什么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（ 专业、言简意赅、短而精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③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隔代家长会”（爷爷奶奶辈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播放电影、视频孩子对老师的关爱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先感动他们，再提要求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cc"/>
                </a:solidFill>
                <a:latin typeface="Arial"/>
              </a:rPr>
              <a:t>④</a:t>
            </a:r>
            <a:r>
              <a:rPr b="0" lang="zh-CN" sz="4400" spc="-1" strike="noStrike">
                <a:solidFill>
                  <a:srgbClr val="0066cc"/>
                </a:solidFill>
                <a:latin typeface="Arial"/>
              </a:rPr>
              <a:t>毕业生家长会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7993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请毕业生家长发言、毕业的优秀学生到会发言、送礼物（孩子在园的活动、表演、学习、生活、玩耍的有意义的视频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DV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纪念照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组织有意义的感恩系列活动：唱歌、表演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朗诵、献花、种纪念树、签名留念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&lt;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二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&gt;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日常处理方式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家长看到的一刹那，决定你一日的工作成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把好两个重要环节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、朝迎（晨接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第一关：幼儿园大门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礼仪、微笑、阳光、温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第二关：教室门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热情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自信</a:t>
            </a: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微笑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平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职业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同意</a:t>
            </a: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干练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精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、晚送（孩子离园）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离开一天的家长，迫不及待见到孩子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看：家长首先看孩子是否毫发无损，是否开心有笑脸、孩子的仪容仪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问：学什么、吃什么、老师批评你了吗，其他孩子欺负你吗，玩得开心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66ff"/>
                </a:solidFill>
                <a:latin typeface="Arial"/>
              </a:rPr>
              <a:t>              </a:t>
            </a:r>
            <a:r>
              <a:rPr b="0" lang="zh-CN" sz="4400" spc="-1" strike="noStrike">
                <a:solidFill>
                  <a:srgbClr val="6666ff"/>
                </a:solidFill>
                <a:latin typeface="Arial"/>
              </a:rPr>
              <a:t>保障晚送成功的三个环节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生活整理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清洁手和脸、梳头、整理衣裤、鞋子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②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一日美好生活回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不是全部重复，只 强化重要事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③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调动幼儿快乐情绪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游戏、滑稽表演、趣味儿歌、模仿游戏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笑话、幽默小故事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6:54:42Z</dcterms:created>
  <dc:creator>猪猪猫.CN</dc:creator>
  <dc:description/>
  <dc:language>en-US</dc:language>
  <cp:lastModifiedBy>用户州幼儿园</cp:lastModifiedBy>
  <dcterms:modified xsi:type="dcterms:W3CDTF">2012-01-08T13:41:59Z</dcterms:modified>
  <cp:revision>23</cp:revision>
  <dc:subject/>
  <dc:title>中国幼儿园博览会暨优质品牌幼儿园创建与发展研讨会 </dc:title>
</cp:coreProperties>
</file>