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8.png" ContentType="image/png"/>
  <Override PartName="/ppt/media/image5.gif" ContentType="image/gif"/>
  <Override PartName="/ppt/media/image6.jpeg" ContentType="image/jpeg"/>
  <Override PartName="/ppt/media/image9.png" ContentType="image/png"/>
  <Override PartName="/ppt/media/image13.jpeg" ContentType="image/jpeg"/>
  <Override PartName="/ppt/media/image25.jpeg" ContentType="image/jpeg"/>
  <Override PartName="/ppt/media/image21.png" ContentType="image/png"/>
  <Override PartName="/ppt/media/image4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5.jpeg" ContentType="image/jpeg"/>
  <Override PartName="/ppt/media/image22.jpeg" ContentType="image/jpeg"/>
  <Override PartName="/ppt/media/image1.jpeg" ContentType="image/jpeg"/>
  <Override PartName="/ppt/media/image2.jpeg" ContentType="image/jpeg"/>
  <Override PartName="/ppt/media/image23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7183-BFCE-4366-AC4F-4B3062654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1B86-7302-4698-82B3-A61B288B2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DD2B-42CB-4CE4-8291-03535BD52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C31F-8ABF-4515-AC4C-B9707E6CC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E777-393D-407F-BF0B-9719DCC81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6A97-C71F-4AE3-94D6-789B930D3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D10C-7117-4CD3-8D5A-F0DC6249F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9043-1472-4CAD-AED5-6B19BF16E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12B9-4A53-4043-88F6-AD0D66996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8157-8B08-409A-8F40-C247E5B67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B13D-D1A4-48FC-94D6-2B7FC7003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5367-F73F-48D9-BA54-33AA29303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F7454-2A8E-4DD5-9C2E-941E68BCE4F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1ydt.com/video/n_show/Nav_6/1679091C_1.htm" TargetMode="External"/><Relationship Id="rId4" Type="http://schemas.openxmlformats.org/officeDocument/2006/relationships/hyperlink" Target="http://www.1ydt.com/video/n_show/Nav_6/1679091C_1.htm" TargetMode="External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www.1ydt.com/video/n_show/Nav_6/1679091C_1.htm" TargetMode="External"/><Relationship Id="rId3" Type="http://schemas.openxmlformats.org/officeDocument/2006/relationships/hyperlink" Target="http://www.1ydt.com/video/n_show/Nav_6/1679091C_1.htm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1ydt.com/video/n_show/Nav_6/1679091C_1.htm" TargetMode="External"/><Relationship Id="rId3" Type="http://schemas.openxmlformats.org/officeDocument/2006/relationships/hyperlink" Target="http://www.1ydt.com/video/n_show/Nav_6/1679091C_1.htm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http://www.1ydt.com/video/n_show/Nav_6/1679091C_1.htm" TargetMode="External"/><Relationship Id="rId3" Type="http://schemas.openxmlformats.org/officeDocument/2006/relationships/hyperlink" Target="http://www.1ydt.com/video/n_show/Nav_6/1679091C_1.htm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hyperlink" Target="http://www.1ydt.com/video/n_show/Nav_6/1679091C_1.htm" TargetMode="External"/><Relationship Id="rId4" Type="http://schemas.openxmlformats.org/officeDocument/2006/relationships/hyperlink" Target="http://www.1ydt.com/video/n_show/Nav_6/1679091C_1.htm" TargetMode="External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8.png"/><Relationship Id="rId3" Type="http://schemas.openxmlformats.org/officeDocument/2006/relationships/hyperlink" Target="http://www.1ydt.com/video/n_show/Nav_6/1679091C_1.htm" TargetMode="External"/><Relationship Id="rId4" Type="http://schemas.openxmlformats.org/officeDocument/2006/relationships/hyperlink" Target="http://www.1ydt.com/video/n_show/Nav_6/1679091C_1.htm" TargetMode="Externa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3.jpeg"/><Relationship Id="rId3" Type="http://schemas.openxmlformats.org/officeDocument/2006/relationships/image" Target="../media/image21.png"/><Relationship Id="rId4" Type="http://schemas.openxmlformats.org/officeDocument/2006/relationships/hyperlink" Target="http://www.1ydt.com/video/n_show/Nav_6/1679091C_1.htm" TargetMode="External"/><Relationship Id="rId5" Type="http://schemas.openxmlformats.org/officeDocument/2006/relationships/hyperlink" Target="http://www.1ydt.com/video/n_show/Nav_6/1679091C_1.htm" TargetMode="External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3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image" Target="../media/image5.gif"/><Relationship Id="rId14" Type="http://schemas.openxmlformats.org/officeDocument/2006/relationships/image" Target="../media/image5.gif"/><Relationship Id="rId15" Type="http://schemas.openxmlformats.org/officeDocument/2006/relationships/hyperlink" Target="http://www.1ydt.com/video/n_show/Nav_6/1679091C_1.htm" TargetMode="External"/><Relationship Id="rId16" Type="http://schemas.openxmlformats.org/officeDocument/2006/relationships/hyperlink" Target="http://www.1ydt.com/video/n_show/Nav_6/1679091C_1.htm" TargetMode="External"/><Relationship Id="rId1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hyperlink" Target="http://www.1ydt.com/video/n_show/Nav_6/1679091C_1.htm" TargetMode="External"/><Relationship Id="rId4" Type="http://schemas.openxmlformats.org/officeDocument/2006/relationships/hyperlink" Target="http://www.1ydt.com/video/n_show/Nav_6/1679091C_1.htm" TargetMode="Externa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wallcoo.com/cartoon/good_morning/html/image18.html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hyperlink" Target="http://www.tucoo.com/vector/B_dog/ai/dog035.rar" TargetMode="External"/><Relationship Id="rId6" Type="http://schemas.openxmlformats.org/officeDocument/2006/relationships/image" Target="../media/image9.png"/><Relationship Id="rId7" Type="http://schemas.openxmlformats.org/officeDocument/2006/relationships/hyperlink" Target="http://www.1ydt.com/video/n_show/Nav_6/1679091C_1.htm" TargetMode="External"/><Relationship Id="rId8" Type="http://schemas.openxmlformats.org/officeDocument/2006/relationships/hyperlink" Target="http://www.1ydt.com/video/n_show/Nav_6/1679091C_1.htm" TargetMode="External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wallcoo.com/cartoon/good_morning/html/image18.html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hyperlink" Target="http://www.tucoo.com/vector/B_dog/ai/dog035.rar" TargetMode="External"/><Relationship Id="rId6" Type="http://schemas.openxmlformats.org/officeDocument/2006/relationships/image" Target="../media/image9.png"/><Relationship Id="rId7" Type="http://schemas.openxmlformats.org/officeDocument/2006/relationships/hyperlink" Target="http://www.1ydt.com/video/n_show/Nav_6/1679091C_1.htm" TargetMode="External"/><Relationship Id="rId8" Type="http://schemas.openxmlformats.org/officeDocument/2006/relationships/hyperlink" Target="http://www.1ydt.com/video/n_show/Nav_6/1679091C_1.htm" TargetMode="External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" Target="slide1.xml"/><Relationship Id="rId4" Type="http://schemas.openxmlformats.org/officeDocument/2006/relationships/image" Target="../media/image12.png"/><Relationship Id="rId5" Type="http://schemas.openxmlformats.org/officeDocument/2006/relationships/hyperlink" Target="http://www.1ydt.com/video/n_show/Nav_6/1679091C_1.htm" TargetMode="External"/><Relationship Id="rId6" Type="http://schemas.openxmlformats.org/officeDocument/2006/relationships/hyperlink" Target="http://www.1ydt.com/video/n_show/Nav_6/1679091C_1.htm" TargetMode="Externa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wallcoo.com/cartoon/good_morning/html/image18.html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1ydt.com/video/n_show/Nav_6/1679091C_1.htm" TargetMode="External"/><Relationship Id="rId4" Type="http://schemas.openxmlformats.org/officeDocument/2006/relationships/hyperlink" Target="http://www.1ydt.com/video/n_show/Nav_6/1679091C_1.htm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1ydt.com/video/n_show/Nav_6/1679091C_1.htm" TargetMode="External"/><Relationship Id="rId2" Type="http://schemas.openxmlformats.org/officeDocument/2006/relationships/hyperlink" Target="http://www.1ydt.com/video/n_show/Nav_6/1679091C_1.htm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1ydt.com/video/n_show/Nav_6/1679091C_1.htm" TargetMode="External"/><Relationship Id="rId3" Type="http://schemas.openxmlformats.org/officeDocument/2006/relationships/hyperlink" Target="http://www.1ydt.com/video/n_show/Nav_6/1679091C_1.htm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174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82560" y="260280"/>
            <a:ext cx="60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Arial"/>
                <a:ea typeface="华文新魏"/>
              </a:rPr>
              <a:t>新课标人教版二年级语文第四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044720" y="1700280"/>
            <a:ext cx="6264000" cy="25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玲玲的画</a:t>
            </a:r>
            <a:endParaRPr b="1" lang="en-US" sz="9600" spc="1" strike="noStrike">
              <a:ln w="0">
                <a:noFill/>
              </a:ln>
              <a:solidFill>
                <a:srgbClr val="ff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4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0"/>
                            </p:stCondLst>
                            <p:childTnLst>
                              <p:par>
                                <p:cTn id="9" nodeType="afterEffect" fill="hold" presetClass="entr" presetID="6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" nodeType="afterEffect" fill="hold" presetClass="entr" presetID="8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7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9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0"/>
                            </p:stCondLst>
                            <p:childTnLst>
                              <p:par>
                                <p:cTn id="2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0"/>
                            </p:stCondLst>
                            <p:childTnLst>
                              <p:par>
                                <p:cTn id="25" nodeType="after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080"/>
                                      </p:to>
                                    </p:animClr>
                                    <p:set>
                                      <p:cBhvr>
                                        <p:cTn id="27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11"/>
          <p:cNvPicPr/>
          <p:nvPr/>
        </p:nvPicPr>
        <p:blipFill>
          <a:blip r:embed="rId1"/>
          <a:stretch/>
        </p:blipFill>
        <p:spPr>
          <a:xfrm>
            <a:off x="-1908000" y="0"/>
            <a:ext cx="11052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340000" y="5805360"/>
            <a:ext cx="71992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971640" y="146052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5280" y="1052640"/>
            <a:ext cx="489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00"/>
                </a:solidFill>
                <a:latin typeface="Arial"/>
              </a:rPr>
              <a:t>阅读提示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124000" y="2133720"/>
            <a:ext cx="651672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请用“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﹏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线划出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当玲玲遇到困难的时候，爸爸给她讲了一个道理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爸爸是怎样说的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rcRect l="25126" t="42875" r="33791" b="10392"/>
          <a:stretch/>
        </p:blipFill>
        <p:spPr>
          <a:xfrm>
            <a:off x="0" y="692280"/>
            <a:ext cx="9144000" cy="61657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4116240" y="-27000"/>
            <a:ext cx="14000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Arial"/>
                <a:ea typeface="楷体_GB2312"/>
              </a:rPr>
              <a:t>玲玲的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059280" y="333360"/>
            <a:ext cx="6084720" cy="3816360"/>
            <a:chOff x="3059280" y="333360"/>
            <a:chExt cx="6084720" cy="3816360"/>
          </a:xfrm>
        </p:grpSpPr>
        <p:sp>
          <p:nvSpPr>
            <p:cNvPr id="181" name=""/>
            <p:cNvSpPr/>
            <p:nvPr/>
          </p:nvSpPr>
          <p:spPr>
            <a:xfrm>
              <a:off x="3059280" y="333360"/>
              <a:ext cx="6084720" cy="3816360"/>
            </a:xfrm>
            <a:prstGeom prst="cloudCallout">
              <a:avLst>
                <a:gd name="adj1" fmla="val -51800"/>
                <a:gd name="adj2" fmla="val 153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37000" y="1052640"/>
              <a:ext cx="5607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6521e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3200" spc="-1" strike="noStrike">
                  <a:solidFill>
                    <a:srgbClr val="990000"/>
                  </a:solidFill>
                  <a:latin typeface="楷体_GB2312"/>
                  <a:ea typeface="楷体_GB2312"/>
                </a:rPr>
                <a:t>看到了吧，孩子。好多事        情并不像我们想象的那么糟。只要肯动脑筋，</a:t>
              </a:r>
              <a:r>
                <a:rPr b="1" lang="zh-CN" sz="3200" spc="-1" strike="noStrike">
                  <a:solidFill>
                    <a:srgbClr val="006600"/>
                  </a:solidFill>
                  <a:latin typeface="楷体_GB2312"/>
                  <a:ea typeface="楷体_GB2312"/>
                </a:rPr>
                <a:t>坏事</a:t>
              </a:r>
              <a:r>
                <a:rPr b="1" lang="zh-CN" sz="3200" spc="-1" strike="noStrike">
                  <a:solidFill>
                    <a:srgbClr val="990000"/>
                  </a:solidFill>
                  <a:latin typeface="楷体_GB2312"/>
                  <a:ea typeface="楷体_GB2312"/>
                </a:rPr>
                <a:t>往往能变成</a:t>
              </a:r>
              <a:r>
                <a:rPr b="1" lang="zh-CN" sz="3200" spc="-1" strike="noStrike">
                  <a:solidFill>
                    <a:srgbClr val="006600"/>
                  </a:solidFill>
                  <a:latin typeface="楷体_GB2312"/>
                  <a:ea typeface="楷体_GB2312"/>
                </a:rPr>
                <a:t>好事</a:t>
              </a:r>
              <a:r>
                <a:rPr b="1" lang="zh-CN" sz="3200" spc="-1" strike="noStrike">
                  <a:solidFill>
                    <a:srgbClr val="990000"/>
                  </a:solidFill>
                  <a:latin typeface="楷体_GB2312"/>
                  <a:ea typeface="楷体_GB2312"/>
                </a:rPr>
                <a:t>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990720" y="963720"/>
            <a:ext cx="2079360" cy="5601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685800" y="1371600"/>
            <a:ext cx="28954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读想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14400" y="1978200"/>
            <a:ext cx="7696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玲玲是怎么解决掉画上的墨迹呢？为什么爸　 爸不直接告诉玲玲画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14400" y="3048120"/>
            <a:ext cx="7696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玲玲想了想，……小花狗懒洋洋地趴在楼梯　 上。玲玲满意地笑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玲玲想了想，她会想什么？她为什么要画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花狗？而不是其它东西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“玲玲满意地笑了”说明什么？如果是你，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会想些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-828720" y="-387360"/>
            <a:ext cx="10585440" cy="90727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144360" y="4149720"/>
            <a:ext cx="882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仿宋_GB2312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仿宋_GB2312"/>
              </a:rPr>
              <a:t>就在这时候，水彩笔叭的一下掉到了纸上，把画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仿宋_GB2312"/>
              </a:rPr>
              <a:t>弄脏了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仿宋_GB2312"/>
              </a:rPr>
              <a:t>，玲玲哇地哭了起来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3" descr="1"/>
          <p:cNvPicPr/>
          <p:nvPr/>
        </p:nvPicPr>
        <p:blipFill>
          <a:blip r:embed="rId2"/>
          <a:srcRect l="0" t="0" r="21747" b="38976"/>
          <a:stretch/>
        </p:blipFill>
        <p:spPr>
          <a:xfrm>
            <a:off x="826920" y="765000"/>
            <a:ext cx="7272360" cy="35989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图片5"/>
          <p:cNvPicPr/>
          <p:nvPr/>
        </p:nvPicPr>
        <p:blipFill>
          <a:blip r:embed="rId1"/>
          <a:stretch/>
        </p:blipFill>
        <p:spPr>
          <a:xfrm>
            <a:off x="0" y="-603360"/>
            <a:ext cx="9756720" cy="79930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971640" y="1413000"/>
            <a:ext cx="7777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的画脏了，另画一张也来不及了。”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58920" y="4365720"/>
            <a:ext cx="61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3" descr="1"/>
          <p:cNvPicPr/>
          <p:nvPr/>
        </p:nvPicPr>
        <p:blipFill>
          <a:blip r:embed="rId2"/>
          <a:srcRect l="0" t="0" r="21747" b="38976"/>
          <a:stretch/>
        </p:blipFill>
        <p:spPr>
          <a:xfrm>
            <a:off x="1835280" y="2852640"/>
            <a:ext cx="5761080" cy="34560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-612720" y="-1035000"/>
            <a:ext cx="10585440" cy="87120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图片4"/>
          <p:cNvPicPr/>
          <p:nvPr/>
        </p:nvPicPr>
        <p:blipFill>
          <a:blip r:embed="rId2"/>
          <a:stretch/>
        </p:blipFill>
        <p:spPr>
          <a:xfrm>
            <a:off x="900000" y="2133720"/>
            <a:ext cx="7489800" cy="431964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6"/>
          <p:cNvSpPr/>
          <p:nvPr/>
        </p:nvSpPr>
        <p:spPr>
          <a:xfrm>
            <a:off x="971640" y="836640"/>
            <a:ext cx="727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第二天的评奖会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玲玲的画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得了一等奖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7" descr="4"/>
          <p:cNvPicPr/>
          <p:nvPr/>
        </p:nvPicPr>
        <p:blipFill>
          <a:blip r:embed="rId3"/>
          <a:stretch/>
        </p:blipFill>
        <p:spPr>
          <a:xfrm>
            <a:off x="5292720" y="4797360"/>
            <a:ext cx="2448000" cy="129708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6"/>
          <p:cNvSpPr/>
          <p:nvPr/>
        </p:nvSpPr>
        <p:spPr>
          <a:xfrm>
            <a:off x="1187280" y="371628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1692360" y="4581360"/>
            <a:ext cx="63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1619280" y="400536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8"/>
          <p:cNvSpPr/>
          <p:nvPr/>
        </p:nvSpPr>
        <p:spPr>
          <a:xfrm>
            <a:off x="1431000" y="1214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9640" y="898560"/>
            <a:ext cx="777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玲玲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想了想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拿起笔，在弄脏的地方画了一只小花狗。小花狗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懒洋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地趴在楼梯上。玲玲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满意地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笑了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8" descr="图片4"/>
          <p:cNvPicPr/>
          <p:nvPr/>
        </p:nvPicPr>
        <p:blipFill>
          <a:blip r:embed="rId2"/>
          <a:stretch/>
        </p:blipFill>
        <p:spPr>
          <a:xfrm>
            <a:off x="611280" y="3429000"/>
            <a:ext cx="7200720" cy="30956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6705720" y="4941720"/>
            <a:ext cx="458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7" descr="4"/>
          <p:cNvPicPr/>
          <p:nvPr/>
        </p:nvPicPr>
        <p:blipFill>
          <a:blip r:embed="rId3"/>
          <a:stretch/>
        </p:blipFill>
        <p:spPr>
          <a:xfrm>
            <a:off x="4932360" y="5157720"/>
            <a:ext cx="2233440" cy="115272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3492360" y="623736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点此播放教学视频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-395280" y="0"/>
            <a:ext cx="1094436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-128520" y="647640"/>
            <a:ext cx="851688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        “玲玲，时间不早了，快去睡吧！”爸爸又在催她了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“好的，我把画笔收拾一下就去睡。”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“怎么了，孩子？”爸爸放下报纸问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“我的画脏了，另画一张也来不及了。”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爸爸仔细地看了看，说：“别哭，孩子。在这儿画点什么，不是很好吗？”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爸爸看了，高兴地说：“看到了吧，孩子。好多事情并不像我们想象的那么糟糕。只要肯动脑筋，坏事往往能变好事。”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148360" y="551664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689360" y="6308640"/>
            <a:ext cx="459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332000" y="333360"/>
            <a:ext cx="611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﹏﹏﹏﹏﹏﹏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697040" y="177336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﹏﹏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435640" y="2708280"/>
            <a:ext cx="251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﹏﹏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81080" y="3213000"/>
            <a:ext cx="676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﹏﹏﹏﹏﹏﹏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81080" y="4654440"/>
            <a:ext cx="734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﹏﹏﹏﹏﹏﹏﹏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678640" y="371628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﹏﹏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08000" y="4221000"/>
            <a:ext cx="799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﹏﹏﹏﹏﹏﹏﹏﹏﹏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84560" y="6170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260360" y="2133720"/>
            <a:ext cx="5688000" cy="0"/>
          </a:xfrm>
          <a:prstGeom prst="line">
            <a:avLst/>
          </a:prstGeom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87280" y="3068640"/>
            <a:ext cx="6121440" cy="0"/>
          </a:xfrm>
          <a:prstGeom prst="line">
            <a:avLst/>
          </a:prstGeom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492360" y="623736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点此播放教学视频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533520" y="1143000"/>
            <a:ext cx="8305560" cy="43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日积月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仔细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地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   懒洋洋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地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趴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满意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地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笑   高兴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地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</a:t>
            </a:r>
            <a:r>
              <a:rPr b="1" lang="zh-CN" sz="3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满意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地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端详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492360" y="623736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点此播放教学视频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11"/>
          <p:cNvPicPr/>
          <p:nvPr/>
        </p:nvPicPr>
        <p:blipFill>
          <a:blip r:embed="rId1"/>
          <a:stretch/>
        </p:blipFill>
        <p:spPr>
          <a:xfrm>
            <a:off x="-1765440" y="0"/>
            <a:ext cx="1090944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40000" y="5805360"/>
            <a:ext cx="71992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971640" y="146052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55640" y="2060640"/>
            <a:ext cx="630108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说说你在生活中有没有遇到过类似的事？是否也曾体会过坏事变好事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908000" y="981000"/>
            <a:ext cx="288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说一说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492360" y="623736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点此播放教学视频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图片2"/>
          <p:cNvPicPr/>
          <p:nvPr/>
        </p:nvPicPr>
        <p:blipFill>
          <a:blip r:embed="rId2"/>
          <a:stretch/>
        </p:blipFill>
        <p:spPr>
          <a:xfrm>
            <a:off x="0" y="0"/>
            <a:ext cx="2484360" cy="792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0"/>
            <a:ext cx="9144000" cy="4981680"/>
          </a:xfrm>
          <a:custGeom>
            <a:avLst/>
            <a:gdLst/>
            <a:ahLst/>
            <a:rect l="l" t="t" r="r" b="b"/>
            <a:pathLst>
              <a:path w="5402" h="3002">
                <a:moveTo>
                  <a:pt x="2927" y="2894"/>
                </a:moveTo>
                <a:cubicBezTo>
                  <a:pt x="2728" y="2884"/>
                  <a:pt x="2577" y="3002"/>
                  <a:pt x="2405" y="2985"/>
                </a:cubicBezTo>
                <a:cubicBezTo>
                  <a:pt x="2233" y="2968"/>
                  <a:pt x="2083" y="2813"/>
                  <a:pt x="1893" y="2795"/>
                </a:cubicBezTo>
                <a:cubicBezTo>
                  <a:pt x="1701" y="2778"/>
                  <a:pt x="1488" y="2891"/>
                  <a:pt x="1258" y="2878"/>
                </a:cubicBezTo>
                <a:cubicBezTo>
                  <a:pt x="1030" y="2865"/>
                  <a:pt x="723" y="2873"/>
                  <a:pt x="514" y="2719"/>
                </a:cubicBezTo>
                <a:cubicBezTo>
                  <a:pt x="306" y="2565"/>
                  <a:pt x="0" y="2253"/>
                  <a:pt x="7" y="1954"/>
                </a:cubicBezTo>
                <a:cubicBezTo>
                  <a:pt x="15" y="1655"/>
                  <a:pt x="275" y="1235"/>
                  <a:pt x="562" y="930"/>
                </a:cubicBezTo>
                <a:cubicBezTo>
                  <a:pt x="849" y="624"/>
                  <a:pt x="1300" y="240"/>
                  <a:pt x="1727" y="120"/>
                </a:cubicBezTo>
                <a:cubicBezTo>
                  <a:pt x="2154" y="0"/>
                  <a:pt x="2792" y="135"/>
                  <a:pt x="3125" y="212"/>
                </a:cubicBezTo>
                <a:cubicBezTo>
                  <a:pt x="3458" y="289"/>
                  <a:pt x="3517" y="493"/>
                  <a:pt x="3726" y="584"/>
                </a:cubicBezTo>
                <a:cubicBezTo>
                  <a:pt x="3935" y="675"/>
                  <a:pt x="4159" y="677"/>
                  <a:pt x="4378" y="760"/>
                </a:cubicBezTo>
                <a:cubicBezTo>
                  <a:pt x="4597" y="843"/>
                  <a:pt x="4878" y="893"/>
                  <a:pt x="5041" y="1085"/>
                </a:cubicBezTo>
                <a:cubicBezTo>
                  <a:pt x="5204" y="1277"/>
                  <a:pt x="5402" y="1686"/>
                  <a:pt x="5356" y="1909"/>
                </a:cubicBezTo>
                <a:cubicBezTo>
                  <a:pt x="5310" y="2132"/>
                  <a:pt x="4908" y="2293"/>
                  <a:pt x="4766" y="2425"/>
                </a:cubicBezTo>
                <a:cubicBezTo>
                  <a:pt x="4624" y="2557"/>
                  <a:pt x="4628" y="2623"/>
                  <a:pt x="4505" y="2699"/>
                </a:cubicBezTo>
                <a:cubicBezTo>
                  <a:pt x="4382" y="2775"/>
                  <a:pt x="4176" y="2839"/>
                  <a:pt x="4025" y="2879"/>
                </a:cubicBezTo>
                <a:cubicBezTo>
                  <a:pt x="3874" y="2919"/>
                  <a:pt x="3784" y="2936"/>
                  <a:pt x="3601" y="2938"/>
                </a:cubicBezTo>
                <a:cubicBezTo>
                  <a:pt x="3418" y="2940"/>
                  <a:pt x="3068" y="2903"/>
                  <a:pt x="2927" y="2894"/>
                </a:cubicBez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32000" y="4365720"/>
            <a:ext cx="3144960" cy="2492280"/>
          </a:xfrm>
          <a:custGeom>
            <a:avLst/>
            <a:gdLst/>
            <a:ahLst/>
            <a:rect l="l" t="t" r="r" b="b"/>
            <a:pathLst>
              <a:path w="1165" h="1318">
                <a:moveTo>
                  <a:pt x="122" y="1174"/>
                </a:moveTo>
                <a:cubicBezTo>
                  <a:pt x="0" y="1030"/>
                  <a:pt x="286" y="492"/>
                  <a:pt x="319" y="310"/>
                </a:cubicBezTo>
                <a:cubicBezTo>
                  <a:pt x="352" y="128"/>
                  <a:pt x="281" y="98"/>
                  <a:pt x="319" y="83"/>
                </a:cubicBezTo>
                <a:cubicBezTo>
                  <a:pt x="357" y="68"/>
                  <a:pt x="463" y="219"/>
                  <a:pt x="546" y="219"/>
                </a:cubicBezTo>
                <a:cubicBezTo>
                  <a:pt x="629" y="219"/>
                  <a:pt x="773" y="0"/>
                  <a:pt x="818" y="83"/>
                </a:cubicBezTo>
                <a:cubicBezTo>
                  <a:pt x="863" y="166"/>
                  <a:pt x="780" y="536"/>
                  <a:pt x="818" y="718"/>
                </a:cubicBezTo>
                <a:cubicBezTo>
                  <a:pt x="856" y="900"/>
                  <a:pt x="1165" y="1098"/>
                  <a:pt x="1049" y="1174"/>
                </a:cubicBezTo>
                <a:cubicBezTo>
                  <a:pt x="933" y="1250"/>
                  <a:pt x="244" y="1318"/>
                  <a:pt x="122" y="1174"/>
                </a:cubicBezTo>
                <a:close/>
              </a:path>
            </a:pathLst>
          </a:custGeom>
          <a:solidFill>
            <a:srgbClr val="8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611280" y="476280"/>
            <a:ext cx="1965240" cy="2881440"/>
            <a:chOff x="611280" y="476280"/>
            <a:chExt cx="1965240" cy="2881440"/>
          </a:xfrm>
        </p:grpSpPr>
        <p:pic>
          <p:nvPicPr>
            <p:cNvPr id="50" name="" descr=""/>
            <p:cNvPicPr/>
            <p:nvPr/>
          </p:nvPicPr>
          <p:blipFill>
            <a:blip r:embed="rId3"/>
            <a:stretch/>
          </p:blipFill>
          <p:spPr>
            <a:xfrm>
              <a:off x="611280" y="476280"/>
              <a:ext cx="1965240" cy="2881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1" name=""/>
            <p:cNvGrpSpPr/>
            <p:nvPr/>
          </p:nvGrpSpPr>
          <p:grpSpPr>
            <a:xfrm>
              <a:off x="1259640" y="1413000"/>
              <a:ext cx="903240" cy="1013040"/>
              <a:chOff x="1259640" y="1413000"/>
              <a:chExt cx="903240" cy="1013040"/>
            </a:xfrm>
          </p:grpSpPr>
          <p:sp>
            <p:nvSpPr>
              <p:cNvPr id="52" name=""/>
              <p:cNvSpPr/>
              <p:nvPr/>
            </p:nvSpPr>
            <p:spPr>
              <a:xfrm>
                <a:off x="1298160" y="1844640"/>
                <a:ext cx="793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玲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259640" y="1413000"/>
                <a:ext cx="903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líng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" name=""/>
          <p:cNvGrpSpPr/>
          <p:nvPr/>
        </p:nvGrpSpPr>
        <p:grpSpPr>
          <a:xfrm>
            <a:off x="1692360" y="-243000"/>
            <a:ext cx="2160000" cy="2881440"/>
            <a:chOff x="1692360" y="-243000"/>
            <a:chExt cx="2160000" cy="2881440"/>
          </a:xfrm>
        </p:grpSpPr>
        <p:pic>
          <p:nvPicPr>
            <p:cNvPr id="55" name="" descr=""/>
            <p:cNvPicPr/>
            <p:nvPr/>
          </p:nvPicPr>
          <p:blipFill>
            <a:blip r:embed="rId4"/>
            <a:stretch/>
          </p:blipFill>
          <p:spPr>
            <a:xfrm>
              <a:off x="1692360" y="-243000"/>
              <a:ext cx="2160000" cy="28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2561040" y="1096920"/>
              <a:ext cx="872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245320" y="664920"/>
              <a:ext cx="1366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xiá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6012000" y="2276640"/>
            <a:ext cx="2736360" cy="2881080"/>
            <a:chOff x="6012000" y="2276640"/>
            <a:chExt cx="2736360" cy="2881080"/>
          </a:xfrm>
        </p:grpSpPr>
        <p:pic>
          <p:nvPicPr>
            <p:cNvPr id="59" name="" descr=""/>
            <p:cNvPicPr/>
            <p:nvPr/>
          </p:nvPicPr>
          <p:blipFill>
            <a:blip r:embed="rId5"/>
            <a:stretch/>
          </p:blipFill>
          <p:spPr>
            <a:xfrm>
              <a:off x="6012000" y="2276640"/>
              <a:ext cx="2736360" cy="28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6957720" y="3112920"/>
              <a:ext cx="923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zā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789440" y="2563920"/>
            <a:ext cx="2303280" cy="2881080"/>
            <a:chOff x="4789440" y="2563920"/>
            <a:chExt cx="2303280" cy="2881080"/>
          </a:xfrm>
        </p:grpSpPr>
        <p:pic>
          <p:nvPicPr>
            <p:cNvPr id="62" name="" descr=""/>
            <p:cNvPicPr/>
            <p:nvPr/>
          </p:nvPicPr>
          <p:blipFill>
            <a:blip r:embed="rId6"/>
            <a:stretch/>
          </p:blipFill>
          <p:spPr>
            <a:xfrm>
              <a:off x="4789440" y="2563920"/>
              <a:ext cx="2303280" cy="2881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3" name=""/>
            <p:cNvGrpSpPr/>
            <p:nvPr/>
          </p:nvGrpSpPr>
          <p:grpSpPr>
            <a:xfrm>
              <a:off x="5548320" y="3500280"/>
              <a:ext cx="975960" cy="1012680"/>
              <a:chOff x="5548320" y="3500280"/>
              <a:chExt cx="975960" cy="1012680"/>
            </a:xfrm>
          </p:grpSpPr>
          <p:sp>
            <p:nvSpPr>
              <p:cNvPr id="64" name=""/>
              <p:cNvSpPr/>
              <p:nvPr/>
            </p:nvSpPr>
            <p:spPr>
              <a:xfrm>
                <a:off x="5594400" y="3931560"/>
                <a:ext cx="929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梯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548320" y="3500280"/>
                <a:ext cx="727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宋体"/>
                  </a:rPr>
                  <a:t>tī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6" name=""/>
          <p:cNvGrpSpPr/>
          <p:nvPr/>
        </p:nvGrpSpPr>
        <p:grpSpPr>
          <a:xfrm>
            <a:off x="3708360" y="2492280"/>
            <a:ext cx="1965240" cy="2881440"/>
            <a:chOff x="3708360" y="2492280"/>
            <a:chExt cx="1965240" cy="2881440"/>
          </a:xfrm>
        </p:grpSpPr>
        <p:pic>
          <p:nvPicPr>
            <p:cNvPr id="67" name="" descr=""/>
            <p:cNvPicPr/>
            <p:nvPr/>
          </p:nvPicPr>
          <p:blipFill>
            <a:blip r:embed="rId7"/>
            <a:stretch/>
          </p:blipFill>
          <p:spPr>
            <a:xfrm>
              <a:off x="3708360" y="2492280"/>
              <a:ext cx="1965240" cy="2881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" name=""/>
            <p:cNvGrpSpPr/>
            <p:nvPr/>
          </p:nvGrpSpPr>
          <p:grpSpPr>
            <a:xfrm>
              <a:off x="4357080" y="3429000"/>
              <a:ext cx="832320" cy="1013040"/>
              <a:chOff x="4357080" y="3429000"/>
              <a:chExt cx="832320" cy="1013040"/>
            </a:xfrm>
          </p:grpSpPr>
          <p:sp>
            <p:nvSpPr>
              <p:cNvPr id="69" name=""/>
              <p:cNvSpPr/>
              <p:nvPr/>
            </p:nvSpPr>
            <p:spPr>
              <a:xfrm>
                <a:off x="4395600" y="3860640"/>
                <a:ext cx="793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楼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357080" y="3429000"/>
                <a:ext cx="790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lóu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"/>
          <p:cNvGrpSpPr/>
          <p:nvPr/>
        </p:nvGrpSpPr>
        <p:grpSpPr>
          <a:xfrm>
            <a:off x="2462040" y="2276640"/>
            <a:ext cx="1965600" cy="2881080"/>
            <a:chOff x="2462040" y="2276640"/>
            <a:chExt cx="1965600" cy="2881080"/>
          </a:xfrm>
        </p:grpSpPr>
        <p:pic>
          <p:nvPicPr>
            <p:cNvPr id="72" name="" descr=""/>
            <p:cNvPicPr/>
            <p:nvPr/>
          </p:nvPicPr>
          <p:blipFill>
            <a:blip r:embed="rId8"/>
            <a:stretch/>
          </p:blipFill>
          <p:spPr>
            <a:xfrm>
              <a:off x="2462040" y="2276640"/>
              <a:ext cx="1965600" cy="28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3252600" y="3600360"/>
              <a:ext cx="793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奖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968920" y="3213000"/>
              <a:ext cx="1186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jiăng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971640" y="2492280"/>
            <a:ext cx="2376000" cy="2881440"/>
            <a:chOff x="971640" y="2492280"/>
            <a:chExt cx="2376000" cy="2881440"/>
          </a:xfrm>
        </p:grpSpPr>
        <p:pic>
          <p:nvPicPr>
            <p:cNvPr id="76" name="" descr=""/>
            <p:cNvPicPr/>
            <p:nvPr/>
          </p:nvPicPr>
          <p:blipFill>
            <a:blip r:embed="rId9"/>
            <a:stretch/>
          </p:blipFill>
          <p:spPr>
            <a:xfrm>
              <a:off x="971640" y="2492280"/>
              <a:ext cx="2376000" cy="2881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7" name=""/>
            <p:cNvGrpSpPr/>
            <p:nvPr/>
          </p:nvGrpSpPr>
          <p:grpSpPr>
            <a:xfrm>
              <a:off x="1754640" y="3429000"/>
              <a:ext cx="1006920" cy="1013040"/>
              <a:chOff x="1754640" y="3429000"/>
              <a:chExt cx="1006920" cy="1013040"/>
            </a:xfrm>
          </p:grpSpPr>
          <p:sp>
            <p:nvSpPr>
              <p:cNvPr id="78" name=""/>
              <p:cNvSpPr/>
              <p:nvPr/>
            </p:nvSpPr>
            <p:spPr>
              <a:xfrm>
                <a:off x="1802160" y="3860640"/>
                <a:ext cx="959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筋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754640" y="3429000"/>
                <a:ext cx="980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</a:rPr>
                  <a:t> 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宋体"/>
                  </a:rPr>
                  <a:t>jīn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" name=""/>
          <p:cNvGrpSpPr/>
          <p:nvPr/>
        </p:nvGrpSpPr>
        <p:grpSpPr>
          <a:xfrm>
            <a:off x="-57240" y="2276640"/>
            <a:ext cx="1965240" cy="2881080"/>
            <a:chOff x="-57240" y="2276640"/>
            <a:chExt cx="1965240" cy="2881080"/>
          </a:xfrm>
        </p:grpSpPr>
        <p:pic>
          <p:nvPicPr>
            <p:cNvPr id="81" name="" descr=""/>
            <p:cNvPicPr/>
            <p:nvPr/>
          </p:nvPicPr>
          <p:blipFill>
            <a:blip r:embed="rId10"/>
            <a:stretch/>
          </p:blipFill>
          <p:spPr>
            <a:xfrm>
              <a:off x="-57240" y="2276640"/>
              <a:ext cx="1965240" cy="2881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591120" y="3213000"/>
              <a:ext cx="903240" cy="1012680"/>
              <a:chOff x="591120" y="3213000"/>
              <a:chExt cx="903240" cy="1012680"/>
            </a:xfrm>
          </p:grpSpPr>
          <p:sp>
            <p:nvSpPr>
              <p:cNvPr id="83" name=""/>
              <p:cNvSpPr/>
              <p:nvPr/>
            </p:nvSpPr>
            <p:spPr>
              <a:xfrm>
                <a:off x="629640" y="3644280"/>
                <a:ext cx="793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脑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91120" y="3213000"/>
                <a:ext cx="903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nă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" name=""/>
          <p:cNvGrpSpPr/>
          <p:nvPr/>
        </p:nvGrpSpPr>
        <p:grpSpPr>
          <a:xfrm>
            <a:off x="6804000" y="907920"/>
            <a:ext cx="2088720" cy="2881440"/>
            <a:chOff x="6804000" y="907920"/>
            <a:chExt cx="2088720" cy="2881440"/>
          </a:xfrm>
        </p:grpSpPr>
        <p:pic>
          <p:nvPicPr>
            <p:cNvPr id="86" name="" descr=""/>
            <p:cNvPicPr/>
            <p:nvPr/>
          </p:nvPicPr>
          <p:blipFill>
            <a:blip r:embed="rId11"/>
            <a:stretch/>
          </p:blipFill>
          <p:spPr>
            <a:xfrm>
              <a:off x="6804000" y="907920"/>
              <a:ext cx="2088720" cy="2881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7" name=""/>
            <p:cNvGrpSpPr/>
            <p:nvPr/>
          </p:nvGrpSpPr>
          <p:grpSpPr>
            <a:xfrm>
              <a:off x="7492320" y="1893600"/>
              <a:ext cx="1035360" cy="964080"/>
              <a:chOff x="7492320" y="1893600"/>
              <a:chExt cx="1035360" cy="964080"/>
            </a:xfrm>
          </p:grpSpPr>
          <p:sp>
            <p:nvSpPr>
              <p:cNvPr id="88" name=""/>
              <p:cNvSpPr/>
              <p:nvPr/>
            </p:nvSpPr>
            <p:spPr>
              <a:xfrm>
                <a:off x="7534080" y="2276280"/>
                <a:ext cx="843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脏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492320" y="1893600"/>
                <a:ext cx="1035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zāng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" name=""/>
          <p:cNvGrpSpPr/>
          <p:nvPr/>
        </p:nvGrpSpPr>
        <p:grpSpPr>
          <a:xfrm>
            <a:off x="5506920" y="619200"/>
            <a:ext cx="1944720" cy="2881080"/>
            <a:chOff x="5506920" y="619200"/>
            <a:chExt cx="1944720" cy="2881080"/>
          </a:xfrm>
        </p:grpSpPr>
        <p:pic>
          <p:nvPicPr>
            <p:cNvPr id="91" name="" descr=""/>
            <p:cNvPicPr/>
            <p:nvPr/>
          </p:nvPicPr>
          <p:blipFill>
            <a:blip r:embed="rId12"/>
            <a:stretch/>
          </p:blipFill>
          <p:spPr>
            <a:xfrm>
              <a:off x="5506920" y="619200"/>
              <a:ext cx="1944720" cy="28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6276600" y="1960200"/>
              <a:ext cx="78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催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147720" y="1555560"/>
              <a:ext cx="851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cuī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4356000" y="260280"/>
            <a:ext cx="1871640" cy="2881440"/>
            <a:chOff x="4356000" y="260280"/>
            <a:chExt cx="1871640" cy="2881440"/>
          </a:xfrm>
        </p:grpSpPr>
        <p:pic>
          <p:nvPicPr>
            <p:cNvPr id="95" name="" descr=""/>
            <p:cNvPicPr/>
            <p:nvPr/>
          </p:nvPicPr>
          <p:blipFill>
            <a:blip r:embed="rId13"/>
            <a:stretch/>
          </p:blipFill>
          <p:spPr>
            <a:xfrm>
              <a:off x="4356000" y="260280"/>
              <a:ext cx="1871640" cy="28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10200" y="1528560"/>
              <a:ext cx="75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叭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054400" y="1165320"/>
              <a:ext cx="604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b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3132000" y="-316080"/>
            <a:ext cx="1965240" cy="2881440"/>
            <a:chOff x="3132000" y="-316080"/>
            <a:chExt cx="1965240" cy="2881440"/>
          </a:xfrm>
        </p:grpSpPr>
        <p:pic>
          <p:nvPicPr>
            <p:cNvPr id="99" name="" descr=""/>
            <p:cNvPicPr/>
            <p:nvPr/>
          </p:nvPicPr>
          <p:blipFill>
            <a:blip r:embed="rId14"/>
            <a:stretch/>
          </p:blipFill>
          <p:spPr>
            <a:xfrm>
              <a:off x="3132000" y="-316080"/>
              <a:ext cx="1965240" cy="28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3922560" y="981000"/>
              <a:ext cx="793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幅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934440" y="620640"/>
              <a:ext cx="56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f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71440" y="3240"/>
            <a:ext cx="235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隶书"/>
              </a:rPr>
              <a:t>摘一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15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16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0" y="-458640"/>
            <a:ext cx="9144000" cy="828036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5"/>
          <p:cNvSpPr/>
          <p:nvPr/>
        </p:nvSpPr>
        <p:spPr>
          <a:xfrm>
            <a:off x="1547640" y="2205000"/>
            <a:ext cx="65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6"/>
          <p:cNvSpPr/>
          <p:nvPr/>
        </p:nvSpPr>
        <p:spPr>
          <a:xfrm>
            <a:off x="1187280" y="371628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7"/>
          <p:cNvSpPr/>
          <p:nvPr/>
        </p:nvSpPr>
        <p:spPr>
          <a:xfrm>
            <a:off x="1403280" y="3933720"/>
            <a:ext cx="63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900000" y="1052640"/>
            <a:ext cx="6193080" cy="23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帮帮忙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书被雨淋湿了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漂亮的裙子被勾出了一个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1042920" y="4005360"/>
            <a:ext cx="69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在今后，如果是你遇到这样的事情，你会怎么做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623736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点此播放教学视频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724536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826920" y="1844640"/>
            <a:ext cx="720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实践活动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回到家里，把这个故事讲给爸爸妈妈听，或自己从书刊中再找一个开动脑筋、变坏事为好事的小故事讲给班上的同学听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492360" y="623736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点此播放教学视频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86472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图片2"/>
          <p:cNvPicPr/>
          <p:nvPr/>
        </p:nvPicPr>
        <p:blipFill>
          <a:blip r:embed="rId2"/>
          <a:stretch/>
        </p:blipFill>
        <p:spPr>
          <a:xfrm>
            <a:off x="539640" y="476280"/>
            <a:ext cx="2880000" cy="792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4"/>
          <p:cNvSpPr/>
          <p:nvPr/>
        </p:nvSpPr>
        <p:spPr>
          <a:xfrm>
            <a:off x="1042920" y="476280"/>
            <a:ext cx="244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2f"/>
                </a:solidFill>
                <a:latin typeface="Arial"/>
                <a:ea typeface="华文新魏"/>
              </a:rPr>
              <a:t>读一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900000" y="1844640"/>
            <a:ext cx="8244000" cy="33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玲  玲      端  详　  弄  脏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评  奖      楼  梯      催  促                            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735120" y="3867120"/>
            <a:ext cx="419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1258920" y="3645000"/>
            <a:ext cx="78850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幅画　 动脑筋     懒洋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971640" y="4724280"/>
            <a:ext cx="77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糟  糕       小  狗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叭的一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3"/>
          <p:cNvSpPr/>
          <p:nvPr/>
        </p:nvSpPr>
        <p:spPr>
          <a:xfrm>
            <a:off x="7812000" y="609300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韩国插画壁纸 17 - [wallcoo.com]_child_illustration_023c0317.jpg">
            <a:hlinkClick r:id="rId1"/>
          </p:cNvPr>
          <p:cNvPicPr/>
          <p:nvPr/>
        </p:nvPicPr>
        <p:blipFill>
          <a:blip r:embed="rId2"/>
          <a:srcRect l="0" t="0" r="0" b="486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258920" y="1413000"/>
            <a:ext cx="2990880" cy="3240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4788000" y="1413000"/>
            <a:ext cx="2990880" cy="3240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717200" y="1197000"/>
            <a:ext cx="176580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800" spc="-1" strike="noStrike">
                <a:solidFill>
                  <a:srgbClr val="000000"/>
                </a:solidFill>
                <a:latin typeface="Arial"/>
                <a:ea typeface="楷体_GB2312"/>
              </a:rPr>
              <a:t>脑</a:t>
            </a:r>
            <a:endParaRPr b="0" lang="en-US" sz="2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462280" y="1197000"/>
            <a:ext cx="176580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800" spc="-1" strike="noStrike">
                <a:solidFill>
                  <a:srgbClr val="000000"/>
                </a:solidFill>
                <a:latin typeface="Arial"/>
                <a:ea typeface="楷体_GB2312"/>
              </a:rPr>
              <a:t>筋</a:t>
            </a:r>
            <a:endParaRPr b="0" lang="en-US" sz="20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台湾矢量卡通图库 - 趣味动物篇 - 卡通狗图片 - 卡通狗向量图3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562880" y="4869000"/>
            <a:ext cx="1581120" cy="1989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39640" y="5013360"/>
            <a:ext cx="734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脑门儿    大脑    脑筋   筋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8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韩国插画壁纸 17 - [wallcoo.com]_child_illustration_023c0317.jpg">
            <a:hlinkClick r:id="rId1"/>
          </p:cNvPr>
          <p:cNvPicPr/>
          <p:nvPr/>
        </p:nvPicPr>
        <p:blipFill>
          <a:blip r:embed="rId2"/>
          <a:srcRect l="0" t="0" r="0" b="486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1258920" y="1413000"/>
            <a:ext cx="2990880" cy="3240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4788000" y="1413000"/>
            <a:ext cx="2990880" cy="3240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717200" y="1197000"/>
            <a:ext cx="176580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800" spc="-1" strike="noStrike">
                <a:solidFill>
                  <a:srgbClr val="000000"/>
                </a:solidFill>
                <a:latin typeface="Arial"/>
                <a:ea typeface="楷体_GB2312"/>
              </a:rPr>
              <a:t>楼</a:t>
            </a:r>
            <a:endParaRPr b="0" lang="en-US" sz="2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62280" y="1197000"/>
            <a:ext cx="176580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800" spc="-1" strike="noStrike">
                <a:solidFill>
                  <a:srgbClr val="000000"/>
                </a:solidFill>
                <a:latin typeface="Arial"/>
                <a:ea typeface="楷体_GB2312"/>
              </a:rPr>
              <a:t>梯</a:t>
            </a:r>
            <a:endParaRPr b="0" lang="en-US" sz="20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台湾矢量卡通图库 - 趣味动物篇 - 卡通狗图片 - 卡通狗向量图3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562880" y="4869000"/>
            <a:ext cx="1581120" cy="1989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68360" y="494172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高楼   楼房       木梯  梯子  云梯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8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-36360" y="2700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0" name=""/>
          <p:cNvGrpSpPr/>
          <p:nvPr/>
        </p:nvGrpSpPr>
        <p:grpSpPr>
          <a:xfrm>
            <a:off x="2482920" y="1197000"/>
            <a:ext cx="1873080" cy="1971720"/>
            <a:chOff x="2482920" y="1197000"/>
            <a:chExt cx="1873080" cy="1971720"/>
          </a:xfrm>
        </p:grpSpPr>
        <p:sp>
          <p:nvSpPr>
            <p:cNvPr id="131" name=""/>
            <p:cNvSpPr/>
            <p:nvPr/>
          </p:nvSpPr>
          <p:spPr>
            <a:xfrm>
              <a:off x="2482920" y="1197000"/>
              <a:ext cx="1873080" cy="1971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482920" y="2173680"/>
              <a:ext cx="1873080" cy="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408840" y="1197000"/>
              <a:ext cx="0" cy="197172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5580000" y="4005360"/>
            <a:ext cx="1873440" cy="1971720"/>
            <a:chOff x="5580000" y="4005360"/>
            <a:chExt cx="1873440" cy="1971720"/>
          </a:xfrm>
        </p:grpSpPr>
        <p:sp>
          <p:nvSpPr>
            <p:cNvPr id="135" name=""/>
            <p:cNvSpPr/>
            <p:nvPr/>
          </p:nvSpPr>
          <p:spPr>
            <a:xfrm>
              <a:off x="5580000" y="4005360"/>
              <a:ext cx="1873440" cy="1971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80000" y="4982040"/>
              <a:ext cx="1873440" cy="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506280" y="4005360"/>
              <a:ext cx="0" cy="197172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2482920" y="4005360"/>
            <a:ext cx="1873080" cy="1971720"/>
            <a:chOff x="2482920" y="4005360"/>
            <a:chExt cx="1873080" cy="1971720"/>
          </a:xfrm>
        </p:grpSpPr>
        <p:sp>
          <p:nvSpPr>
            <p:cNvPr id="139" name=""/>
            <p:cNvSpPr/>
            <p:nvPr/>
          </p:nvSpPr>
          <p:spPr>
            <a:xfrm>
              <a:off x="2482920" y="4005360"/>
              <a:ext cx="1873080" cy="1971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482920" y="4982040"/>
              <a:ext cx="1873080" cy="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408840" y="4005360"/>
              <a:ext cx="0" cy="197172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5580000" y="1170000"/>
            <a:ext cx="1873440" cy="1971720"/>
            <a:chOff x="5580000" y="1170000"/>
            <a:chExt cx="1873440" cy="1971720"/>
          </a:xfrm>
        </p:grpSpPr>
        <p:sp>
          <p:nvSpPr>
            <p:cNvPr id="143" name=""/>
            <p:cNvSpPr/>
            <p:nvPr/>
          </p:nvSpPr>
          <p:spPr>
            <a:xfrm>
              <a:off x="5580000" y="1170000"/>
              <a:ext cx="1873440" cy="1971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580000" y="2146680"/>
              <a:ext cx="1873440" cy="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506280" y="1170000"/>
              <a:ext cx="0" cy="197172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684360" y="4005360"/>
            <a:ext cx="691920" cy="96840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  <p:sp>
        <p:nvSpPr>
          <p:cNvPr id="147" name=""/>
          <p:cNvSpPr/>
          <p:nvPr/>
        </p:nvSpPr>
        <p:spPr>
          <a:xfrm rot="20895600">
            <a:off x="812880" y="668160"/>
            <a:ext cx="714240" cy="2544840"/>
          </a:xfrm>
          <a:prstGeom prst="wedgeEllipseCallout">
            <a:avLst>
              <a:gd name="adj1" fmla="val 21907"/>
              <a:gd name="adj2" fmla="val 64981"/>
            </a:avLst>
          </a:prstGeom>
          <a:solidFill>
            <a:srgbClr val="a7f7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18640" y="1125360"/>
            <a:ext cx="729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我会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484360" y="1052640"/>
            <a:ext cx="1800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0" spc="-1" strike="noStrike">
                <a:solidFill>
                  <a:srgbClr val="ff3300"/>
                </a:solidFill>
                <a:latin typeface="Arial"/>
                <a:ea typeface="楷体_GB2312"/>
              </a:rPr>
              <a:t>叭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580000" y="981000"/>
            <a:ext cx="1800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0" spc="-1" strike="noStrike">
                <a:solidFill>
                  <a:srgbClr val="ff3300"/>
                </a:solidFill>
                <a:latin typeface="Arial"/>
                <a:ea typeface="楷体_GB2312"/>
              </a:rPr>
              <a:t>狗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411280" y="3716280"/>
            <a:ext cx="16574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0" spc="-1" strike="noStrike">
                <a:solidFill>
                  <a:srgbClr val="ff3300"/>
                </a:solidFill>
                <a:latin typeface="Arial"/>
                <a:ea typeface="楷体_GB2312"/>
              </a:rPr>
              <a:t>糟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580000" y="3860640"/>
            <a:ext cx="172872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0" spc="-1" strike="noStrike">
                <a:solidFill>
                  <a:srgbClr val="ff3300"/>
                </a:solidFill>
                <a:latin typeface="Arial"/>
                <a:ea typeface="楷体_GB2312"/>
              </a:rPr>
              <a:t>肯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459640" y="6093000"/>
            <a:ext cx="432000" cy="5047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498920" y="1268280"/>
            <a:ext cx="936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喇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叭的一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740720" y="1268280"/>
            <a:ext cx="1403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热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哈巴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356000" y="4005360"/>
            <a:ext cx="1656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糟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糟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451640" y="4005360"/>
            <a:ext cx="208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肯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林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韩国插画壁纸 17 - [wallcoo.com]_child_illustration_023c0317.jpg">
            <a:hlinkClick r:id="rId1"/>
          </p:cNvPr>
          <p:cNvPicPr/>
          <p:nvPr/>
        </p:nvPicPr>
        <p:blipFill>
          <a:blip r:embed="rId2"/>
          <a:srcRect l="0" t="0" r="0" b="486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611280" y="404640"/>
            <a:ext cx="80643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端</a:t>
            </a: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详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评</a:t>
            </a: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奖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脑</a:t>
            </a: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筋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楼梯 </a:t>
            </a: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催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眠 </a:t>
            </a: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弄</a:t>
            </a: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脏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叭叭</a:t>
            </a: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响     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</a:t>
            </a: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幅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755640" y="692280"/>
            <a:ext cx="8137440" cy="33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课文讲了玲玲画了　　　　　　　　　，正当她收拾画笔去睡觉的时候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　　　　　　　　　，在爸爸的引导下，　　　　　　　　　　　　　　　　，　　　　　　　　　　　后来，　　　　　　　　　　　　　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716360" y="1413000"/>
            <a:ext cx="352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26920" y="2637000"/>
            <a:ext cx="439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16720" y="1916280"/>
            <a:ext cx="20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547640" y="3284640"/>
            <a:ext cx="640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908000" y="3933720"/>
            <a:ext cx="568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79280" y="4299120"/>
            <a:ext cx="89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玲玲</a:t>
            </a:r>
            <a:r>
              <a:rPr b="1" lang="zh-CN" sz="4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满意</a:t>
            </a:r>
            <a:r>
              <a:rPr b="1" lang="zh-CN" sz="4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地</a:t>
            </a:r>
            <a:r>
              <a:rPr b="1" lang="zh-CN" sz="4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端详</a:t>
            </a:r>
            <a:r>
              <a:rPr b="1" lang="zh-CN" sz="4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着自己画的</a:t>
            </a:r>
            <a:r>
              <a:rPr b="1" lang="zh-CN" sz="4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《</a:t>
            </a:r>
            <a:r>
              <a:rPr b="1" lang="zh-CN" sz="4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我家的一角</a:t>
            </a:r>
            <a:r>
              <a:rPr b="1" lang="zh-CN" sz="4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》</a:t>
            </a:r>
            <a:r>
              <a:rPr b="1" lang="zh-CN" sz="4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。这幅画明天就要参加评奖了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8" descr="图片4"/>
          <p:cNvPicPr/>
          <p:nvPr/>
        </p:nvPicPr>
        <p:blipFill>
          <a:blip r:embed="rId1"/>
          <a:stretch/>
        </p:blipFill>
        <p:spPr>
          <a:xfrm>
            <a:off x="611280" y="260280"/>
            <a:ext cx="7921440" cy="39607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7T11:43:38Z</dcterms:created>
  <dc:creator/>
  <dc:description/>
  <dc:language>en-US</dc:language>
  <cp:lastModifiedBy>user</cp:lastModifiedBy>
  <dcterms:modified xsi:type="dcterms:W3CDTF">2013-12-15T08:48:04Z</dcterms:modified>
  <cp:revision>115</cp:revision>
  <dc:subject/>
  <dc:title>幻灯片 1</dc:title>
</cp:coreProperties>
</file>