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AD7-AEFD-4C9C-B1F3-D5AE440D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FD0-D0B6-4FCA-88B6-CDE4865D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223-EE2B-4CF2-8567-40F7238C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2C8-FBD1-4EF9-9F0C-EDB58D5A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FB4-B719-4AF9-BDCA-6FCB4312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6AC-8454-4CDD-B744-D30183BF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DB6-4854-4DB5-9551-19FDE009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502-0A8D-4B15-8EC1-62799572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DF9-A1EB-4865-9421-B68D8B18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2A0-459B-421A-B413-8F8160D8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0B7-A90F-42D4-8EA2-CF1215E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2FA-3E86-42A8-B842-80D6F8C7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AD5A-01E9-45E5-B432-89D172847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2276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dd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395280" y="3213000"/>
            <a:ext cx="38163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1403280" y="37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4"/>
          <p:cNvPicPr/>
          <p:nvPr/>
        </p:nvPicPr>
        <p:blipFill>
          <a:blip r:embed="rId2"/>
          <a:stretch/>
        </p:blipFill>
        <p:spPr>
          <a:xfrm>
            <a:off x="6084720" y="436572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图片4"/>
          <p:cNvPicPr/>
          <p:nvPr/>
        </p:nvPicPr>
        <p:blipFill>
          <a:blip r:embed="rId3"/>
          <a:stretch/>
        </p:blipFill>
        <p:spPr>
          <a:xfrm>
            <a:off x="5940360" y="429264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4">
            <a:alphaModFix amt="82000"/>
          </a:blip>
          <a:stretch/>
        </p:blipFill>
        <p:spPr>
          <a:xfrm>
            <a:off x="5219640" y="3213000"/>
            <a:ext cx="36273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图片4"/>
          <p:cNvPicPr/>
          <p:nvPr/>
        </p:nvPicPr>
        <p:blipFill>
          <a:blip r:embed="rId5"/>
          <a:stretch/>
        </p:blipFill>
        <p:spPr>
          <a:xfrm>
            <a:off x="5724360" y="4221000"/>
            <a:ext cx="259272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"/>
          <p:cNvPicPr/>
          <p:nvPr/>
        </p:nvPicPr>
        <p:blipFill>
          <a:blip r:embed="rId6"/>
          <a:stretch/>
        </p:blipFill>
        <p:spPr>
          <a:xfrm>
            <a:off x="7236000" y="5229360"/>
            <a:ext cx="1512720" cy="93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1557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玲想了想，拿起笔，在弄脏的地方画了一只小花狗。小花狗懒洋洋地趴在楼梯上。玲玲满意地笑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227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1"/>
          <p:cNvPicPr/>
          <p:nvPr/>
        </p:nvPicPr>
        <p:blipFill>
          <a:blip r:embed="rId7"/>
          <a:srcRect l="0" t="0" r="21747" b="38976"/>
          <a:stretch/>
        </p:blipFill>
        <p:spPr>
          <a:xfrm>
            <a:off x="971640" y="4149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Z8ZDUEVC77_205_500_320"/>
          <p:cNvPicPr/>
          <p:nvPr/>
        </p:nvPicPr>
        <p:blipFill>
          <a:blip r:embed="rId1"/>
          <a:stretch/>
        </p:blipFill>
        <p:spPr>
          <a:xfrm>
            <a:off x="-324000" y="0"/>
            <a:ext cx="97189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图片4"/>
          <p:cNvPicPr/>
          <p:nvPr/>
        </p:nvPicPr>
        <p:blipFill>
          <a:blip r:embed="rId2"/>
          <a:stretch/>
        </p:blipFill>
        <p:spPr>
          <a:xfrm>
            <a:off x="1763640" y="321300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2060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得了一等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4"/>
          <p:cNvPicPr/>
          <p:nvPr/>
        </p:nvPicPr>
        <p:blipFill>
          <a:blip r:embed="rId3"/>
          <a:stretch/>
        </p:blipFill>
        <p:spPr>
          <a:xfrm>
            <a:off x="4284720" y="4797360"/>
            <a:ext cx="2160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835280" y="2445840"/>
            <a:ext cx="712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好多事情并不像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想象的那么糟。只要肯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脑筋，坏事往往能变成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42920" cy="227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76360" y="1125360"/>
            <a:ext cx="6192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476360" y="3573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319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到家里，把这个故事讲给爸爸妈妈听，或自己从书刊中再找一个开动脑筋、变坏事为好事的小故事讲给班上的同学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87280" y="1557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04292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1844640"/>
            <a:ext cx="7632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玲      端 详　 弄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奖      楼 梯     催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5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1258920" y="3645000"/>
            <a:ext cx="6265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动脑筋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71640" y="4724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37236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132000" y="4292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4"/>
          <p:cNvPicPr/>
          <p:nvPr/>
        </p:nvPicPr>
        <p:blipFill>
          <a:blip r:embed="rId1"/>
          <a:stretch/>
        </p:blipFill>
        <p:spPr>
          <a:xfrm>
            <a:off x="4859280" y="3716280"/>
            <a:ext cx="388800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4"/>
          <p:cNvPicPr/>
          <p:nvPr/>
        </p:nvPicPr>
        <p:blipFill>
          <a:blip r:embed="rId2"/>
          <a:stretch/>
        </p:blipFill>
        <p:spPr>
          <a:xfrm>
            <a:off x="7093080" y="5084640"/>
            <a:ext cx="1836720" cy="115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0" y="3789360"/>
            <a:ext cx="37450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4"/>
          <p:cNvPicPr/>
          <p:nvPr/>
        </p:nvPicPr>
        <p:blipFill>
          <a:blip r:embed="rId4"/>
          <a:stretch/>
        </p:blipFill>
        <p:spPr>
          <a:xfrm>
            <a:off x="0" y="40464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547640" y="465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1928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708360" y="26028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玲玲明天要去参加评奖的 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不小心＿＿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 ＿＿＿的帮助下，玲玲在原本脏的地方＿＿＿ 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。在第二天的评奖会上，玲玲的画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＿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659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了一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4996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840360" y="620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弄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50072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爸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851280" y="20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花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948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得了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0836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，想一想 玲玲的                   心情是怎样变化的？请把代表玲玲心情变化的词语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2e8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5148360" y="2752560"/>
            <a:ext cx="4319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图片4"/>
          <p:cNvPicPr/>
          <p:nvPr/>
        </p:nvPicPr>
        <p:blipFill>
          <a:blip r:embed="rId2"/>
          <a:stretch/>
        </p:blipFill>
        <p:spPr>
          <a:xfrm>
            <a:off x="5796000" y="4005360"/>
            <a:ext cx="3170160" cy="266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300720" y="342900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1280" y="981000"/>
            <a:ext cx="7056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满意地端详着自己画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幅画明天就要参加评奖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，时间不早了，快去睡吧！”爸爸又在催她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5564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的，我把画笔收拾一下就去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2"/>
          <p:cNvPicPr/>
          <p:nvPr/>
        </p:nvPicPr>
        <p:blipFill>
          <a:blip r:embed="rId2"/>
          <a:srcRect l="0" t="189" r="0" b="0"/>
          <a:stretch/>
        </p:blipFill>
        <p:spPr>
          <a:xfrm>
            <a:off x="2195640" y="2997360"/>
            <a:ext cx="468144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这时候，水彩笔叭的一下掉到了纸上，把画弄脏了，玲玲哇地哭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564000" y="357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916360" y="40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476360" y="227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这幅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76360" y="3860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7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XMBCGDOXFZ_205_1024_768"/>
          <p:cNvPicPr/>
          <p:nvPr/>
        </p:nvPicPr>
        <p:blipFill>
          <a:blip r:embed="rId1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仔细地看了看，说：“别哭，孩子。在这儿画点儿什么，不是很好吗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000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哭，玲玲，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很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syxx</cp:lastModifiedBy>
  <dcterms:modified xsi:type="dcterms:W3CDTF">2008-10-20T02:07:19Z</dcterms:modified>
  <cp:revision>13</cp:revision>
  <dc:subject/>
  <dc:title>幻灯片 1</dc:title>
</cp:coreProperties>
</file>