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5.gif" ContentType="image/gif"/>
  <Override PartName="/ppt/media/image6.jpeg" ContentType="image/jpeg"/>
  <Override PartName="/ppt/media/image9.png" ContentType="image/png"/>
  <Override PartName="/ppt/media/image13.jpeg" ContentType="image/jpeg"/>
  <Override PartName="/ppt/media/image25.jpeg" ContentType="image/jpeg"/>
  <Override PartName="/ppt/media/image21.png" ContentType="image/png"/>
  <Override PartName="/ppt/media/image4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DE3-B341-4F7E-8828-334A5097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470-5D75-484F-97A9-ADB792C4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FD8-66AF-434A-AEC1-AC407FC9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934-3107-47D6-8587-F7F05476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FE4-B5D6-4DD5-A8E0-3A1E827E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1BD-F226-4EA6-86B7-AD6CDF3F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5DD-F57E-4066-AE60-FED05462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8CA-DD76-44E9-BBEE-D33BCF83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F81-49D2-4916-B078-4343EE17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062-0927-4D3E-A971-7C6E10FD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0AD6-FE9D-49AE-A6E7-877F46F3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551-24CD-4081-8605-32D68F6D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5E7B-A61A-49D9-BE2A-F38029D6AC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hyperlink" Target="http://www.1ydt.com/video/n_show/Nav_6/1679091C_1.htm" TargetMode="External"/><Relationship Id="rId16" Type="http://schemas.openxmlformats.org/officeDocument/2006/relationships/hyperlink" Target="http://www.1ydt.com/video/n_show/Nav_6/1679091C_1.htm" TargetMode="External"/><Relationship Id="rId1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hyperlink" Target="http://www.1ydt.com/video/n_show/Nav_6/1679091C_1.htm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6/1679091C_1.htm" TargetMode="External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2560" y="26028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Arial"/>
                <a:ea typeface="华文新魏"/>
              </a:rPr>
              <a:t>新课标人教版二年级语文第四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4720" y="1700280"/>
            <a:ext cx="62640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玲玲的画</a:t>
            </a:r>
            <a:endParaRPr b="1" lang="en-US" sz="96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6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2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1"/>
          <p:cNvPicPr/>
          <p:nvPr/>
        </p:nvPicPr>
        <p:blipFill>
          <a:blip r:embed="rId1"/>
          <a:stretch/>
        </p:blipFill>
        <p:spPr>
          <a:xfrm>
            <a:off x="-1908000" y="0"/>
            <a:ext cx="11052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05264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阅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2133720"/>
            <a:ext cx="651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线划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当玲玲遇到困难的时候，爸爸给她讲了一个道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爸爸是怎样说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16240" y="-2700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玲玲的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59280" y="333360"/>
            <a:ext cx="6084720" cy="3816360"/>
            <a:chOff x="3059280" y="333360"/>
            <a:chExt cx="6084720" cy="3816360"/>
          </a:xfrm>
        </p:grpSpPr>
        <p:sp>
          <p:nvSpPr>
            <p:cNvPr id="181" name=""/>
            <p:cNvSpPr/>
            <p:nvPr/>
          </p:nvSpPr>
          <p:spPr>
            <a:xfrm>
              <a:off x="3059280" y="333360"/>
              <a:ext cx="6084720" cy="3816360"/>
            </a:xfrm>
            <a:prstGeom prst="cloudCallout">
              <a:avLst>
                <a:gd name="adj1" fmla="val -51800"/>
                <a:gd name="adj2" fmla="val 1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37000" y="1052640"/>
              <a:ext cx="5607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看到了吧，孩子。好多事        情并不像我们想象的那么糟。只要肯动脑筋，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坏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往往能变成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好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90720" y="96372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137160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想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78200"/>
            <a:ext cx="7696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是怎么解决掉画上的墨迹呢？为什么爸　 爸不直接告诉玲玲画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3048120"/>
            <a:ext cx="769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想了想，……小花狗懒洋洋地趴在楼梯　 上。玲玲满意地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玲玲想了想，她会想什么？她为什么要画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狗？而不是其它东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“玲玲满意地笑了”说明什么？如果是你，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想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828720" y="-387360"/>
            <a:ext cx="10585440" cy="9072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4360" y="4149720"/>
            <a:ext cx="88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弄脏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，玲玲哇地哭了起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826920" y="765000"/>
            <a:ext cx="7272360" cy="359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图片5"/>
          <p:cNvPicPr/>
          <p:nvPr/>
        </p:nvPicPr>
        <p:blipFill>
          <a:blip r:embed="rId1"/>
          <a:stretch/>
        </p:blipFill>
        <p:spPr>
          <a:xfrm>
            <a:off x="0" y="-603360"/>
            <a:ext cx="9756720" cy="799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71640" y="1413000"/>
            <a:ext cx="77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36572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1835280" y="2852640"/>
            <a:ext cx="5761080" cy="345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612720" y="-1035000"/>
            <a:ext cx="10585440" cy="8712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图片4"/>
          <p:cNvPicPr/>
          <p:nvPr/>
        </p:nvPicPr>
        <p:blipFill>
          <a:blip r:embed="rId2"/>
          <a:stretch/>
        </p:blipFill>
        <p:spPr>
          <a:xfrm>
            <a:off x="900000" y="2133720"/>
            <a:ext cx="7489800" cy="4319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971640" y="836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得了一等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4"/>
          <p:cNvPicPr/>
          <p:nvPr/>
        </p:nvPicPr>
        <p:blipFill>
          <a:blip r:embed="rId3"/>
          <a:stretch/>
        </p:blipFill>
        <p:spPr>
          <a:xfrm>
            <a:off x="5292720" y="4797360"/>
            <a:ext cx="2448000" cy="129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692360" y="4581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19280" y="40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8985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了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拿起笔，在弄脏的地方画了一只小花狗。小花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懒洋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趴在楼梯上。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满意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笑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图片4"/>
          <p:cNvPicPr/>
          <p:nvPr/>
        </p:nvPicPr>
        <p:blipFill>
          <a:blip r:embed="rId2"/>
          <a:stretch/>
        </p:blipFill>
        <p:spPr>
          <a:xfrm>
            <a:off x="611280" y="3429000"/>
            <a:ext cx="7200720" cy="3095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705720" y="4941720"/>
            <a:ext cx="458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4"/>
          <p:cNvPicPr/>
          <p:nvPr/>
        </p:nvPicPr>
        <p:blipFill>
          <a:blip r:embed="rId3"/>
          <a:stretch/>
        </p:blipFill>
        <p:spPr>
          <a:xfrm>
            <a:off x="4932360" y="5157720"/>
            <a:ext cx="2233440" cy="1152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95280" y="0"/>
            <a:ext cx="109443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128520" y="647640"/>
            <a:ext cx="8516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 “玲玲，时间不早了，快去睡吧！”爸爸又在催她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好的，我把画笔收拾一下就去睡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怎么了，孩子？”爸爸放下报纸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爸爸看了，高兴地说：“看到了吧，孩子。好多事情并不像我们想象的那么糟糕。只要肯动脑筋，坏事往往能变好事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551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9360" y="6308640"/>
            <a:ext cx="459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3336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97040" y="1773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270828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080" y="3213000"/>
            <a:ext cx="67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1080" y="4654440"/>
            <a:ext cx="73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78640" y="3716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422100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84560" y="617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2133720"/>
            <a:ext cx="568800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3068640"/>
            <a:ext cx="612144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11"/>
          <p:cNvPicPr/>
          <p:nvPr/>
        </p:nvPicPr>
        <p:blipFill>
          <a:blip r:embed="rId1"/>
          <a:stretch/>
        </p:blipFill>
        <p:spPr>
          <a:xfrm>
            <a:off x="-1765440" y="0"/>
            <a:ext cx="1090944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55640" y="2060640"/>
            <a:ext cx="6301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说你在生活中有没有遇到过类似的事？是否也曾体会过坏事变好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8000" y="981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981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11280" y="476280"/>
            <a:ext cx="1965240" cy="2881440"/>
            <a:chOff x="611280" y="476280"/>
            <a:chExt cx="1965240" cy="288144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11280" y="476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"/>
            <p:cNvGrpSpPr/>
            <p:nvPr/>
          </p:nvGrpSpPr>
          <p:grpSpPr>
            <a:xfrm>
              <a:off x="1259640" y="1413000"/>
              <a:ext cx="903240" cy="1013040"/>
              <a:chOff x="1259640" y="1413000"/>
              <a:chExt cx="903240" cy="1013040"/>
            </a:xfrm>
          </p:grpSpPr>
          <p:sp>
            <p:nvSpPr>
              <p:cNvPr id="52" name=""/>
              <p:cNvSpPr/>
              <p:nvPr/>
            </p:nvSpPr>
            <p:spPr>
              <a:xfrm>
                <a:off x="1298160" y="184464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玲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59640" y="14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ín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1692360" y="-243000"/>
            <a:ext cx="2160000" cy="2881440"/>
            <a:chOff x="1692360" y="-243000"/>
            <a:chExt cx="2160000" cy="288144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1692360" y="-243000"/>
              <a:ext cx="2160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561040" y="1096920"/>
              <a:ext cx="87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45320" y="664920"/>
              <a:ext cx="136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xiá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12000" y="2276640"/>
            <a:ext cx="2736360" cy="2881080"/>
            <a:chOff x="6012000" y="2276640"/>
            <a:chExt cx="2736360" cy="2881080"/>
          </a:xfrm>
        </p:grpSpPr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6012000" y="2276640"/>
              <a:ext cx="273636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957720" y="3112920"/>
              <a:ext cx="923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zā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89440" y="2563920"/>
            <a:ext cx="2303280" cy="2881080"/>
            <a:chOff x="4789440" y="2563920"/>
            <a:chExt cx="2303280" cy="2881080"/>
          </a:xfrm>
        </p:grpSpPr>
        <p:pic>
          <p:nvPicPr>
            <p:cNvPr id="62" name="" descr=""/>
            <p:cNvPicPr/>
            <p:nvPr/>
          </p:nvPicPr>
          <p:blipFill>
            <a:blip r:embed="rId6"/>
            <a:stretch/>
          </p:blipFill>
          <p:spPr>
            <a:xfrm>
              <a:off x="4789440" y="2563920"/>
              <a:ext cx="230328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5548320" y="3500280"/>
              <a:ext cx="975960" cy="1012680"/>
              <a:chOff x="5548320" y="3500280"/>
              <a:chExt cx="975960" cy="1012680"/>
            </a:xfrm>
          </p:grpSpPr>
          <p:sp>
            <p:nvSpPr>
              <p:cNvPr id="64" name=""/>
              <p:cNvSpPr/>
              <p:nvPr/>
            </p:nvSpPr>
            <p:spPr>
              <a:xfrm>
                <a:off x="5594400" y="3931560"/>
                <a:ext cx="929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48320" y="3500280"/>
                <a:ext cx="72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tī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3708360" y="2492280"/>
            <a:ext cx="1965240" cy="2881440"/>
            <a:chOff x="3708360" y="2492280"/>
            <a:chExt cx="1965240" cy="288144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3708360" y="2492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4357080" y="3429000"/>
              <a:ext cx="832320" cy="1013040"/>
              <a:chOff x="4357080" y="3429000"/>
              <a:chExt cx="832320" cy="1013040"/>
            </a:xfrm>
          </p:grpSpPr>
          <p:sp>
            <p:nvSpPr>
              <p:cNvPr id="69" name=""/>
              <p:cNvSpPr/>
              <p:nvPr/>
            </p:nvSpPr>
            <p:spPr>
              <a:xfrm>
                <a:off x="4395600" y="3860640"/>
                <a:ext cx="793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楼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57080" y="3429000"/>
                <a:ext cx="79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óu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2462040" y="2276640"/>
            <a:ext cx="1965600" cy="2881080"/>
            <a:chOff x="2462040" y="2276640"/>
            <a:chExt cx="1965600" cy="2881080"/>
          </a:xfrm>
        </p:grpSpPr>
        <p:pic>
          <p:nvPicPr>
            <p:cNvPr id="72" name="" descr=""/>
            <p:cNvPicPr/>
            <p:nvPr/>
          </p:nvPicPr>
          <p:blipFill>
            <a:blip r:embed="rId8"/>
            <a:stretch/>
          </p:blipFill>
          <p:spPr>
            <a:xfrm>
              <a:off x="2462040" y="2276640"/>
              <a:ext cx="196560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52600" y="3600360"/>
              <a:ext cx="79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68920" y="3213000"/>
              <a:ext cx="118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jiăng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71640" y="2492280"/>
            <a:ext cx="2376000" cy="2881440"/>
            <a:chOff x="971640" y="2492280"/>
            <a:chExt cx="2376000" cy="2881440"/>
          </a:xfrm>
        </p:grpSpPr>
        <p:pic>
          <p:nvPicPr>
            <p:cNvPr id="76" name="" descr=""/>
            <p:cNvPicPr/>
            <p:nvPr/>
          </p:nvPicPr>
          <p:blipFill>
            <a:blip r:embed="rId9"/>
            <a:stretch/>
          </p:blipFill>
          <p:spPr>
            <a:xfrm>
              <a:off x="971640" y="2492280"/>
              <a:ext cx="237600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1754640" y="3429000"/>
              <a:ext cx="1006920" cy="1013040"/>
              <a:chOff x="1754640" y="3429000"/>
              <a:chExt cx="1006920" cy="1013040"/>
            </a:xfrm>
          </p:grpSpPr>
          <p:sp>
            <p:nvSpPr>
              <p:cNvPr id="78" name=""/>
              <p:cNvSpPr/>
              <p:nvPr/>
            </p:nvSpPr>
            <p:spPr>
              <a:xfrm>
                <a:off x="1802160" y="3860640"/>
                <a:ext cx="959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筋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754640" y="3429000"/>
                <a:ext cx="98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jī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-57240" y="2276640"/>
            <a:ext cx="1965240" cy="2881080"/>
            <a:chOff x="-57240" y="2276640"/>
            <a:chExt cx="1965240" cy="2881080"/>
          </a:xfrm>
        </p:grpSpPr>
        <p:pic>
          <p:nvPicPr>
            <p:cNvPr id="81" name="" descr=""/>
            <p:cNvPicPr/>
            <p:nvPr/>
          </p:nvPicPr>
          <p:blipFill>
            <a:blip r:embed="rId10"/>
            <a:stretch/>
          </p:blipFill>
          <p:spPr>
            <a:xfrm>
              <a:off x="-57240" y="2276640"/>
              <a:ext cx="196524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591120" y="3213000"/>
              <a:ext cx="903240" cy="1012680"/>
              <a:chOff x="591120" y="3213000"/>
              <a:chExt cx="903240" cy="1012680"/>
            </a:xfrm>
          </p:grpSpPr>
          <p:sp>
            <p:nvSpPr>
              <p:cNvPr id="83" name=""/>
              <p:cNvSpPr/>
              <p:nvPr/>
            </p:nvSpPr>
            <p:spPr>
              <a:xfrm>
                <a:off x="629640" y="364428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脑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91120" y="32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nă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804000" y="907920"/>
            <a:ext cx="2088720" cy="2881440"/>
            <a:chOff x="6804000" y="907920"/>
            <a:chExt cx="2088720" cy="2881440"/>
          </a:xfrm>
        </p:grpSpPr>
        <p:pic>
          <p:nvPicPr>
            <p:cNvPr id="86" name="" descr=""/>
            <p:cNvPicPr/>
            <p:nvPr/>
          </p:nvPicPr>
          <p:blipFill>
            <a:blip r:embed="rId11"/>
            <a:stretch/>
          </p:blipFill>
          <p:spPr>
            <a:xfrm>
              <a:off x="6804000" y="907920"/>
              <a:ext cx="208872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7492320" y="1893600"/>
              <a:ext cx="1035360" cy="964080"/>
              <a:chOff x="7492320" y="1893600"/>
              <a:chExt cx="1035360" cy="964080"/>
            </a:xfrm>
          </p:grpSpPr>
          <p:sp>
            <p:nvSpPr>
              <p:cNvPr id="88" name=""/>
              <p:cNvSpPr/>
              <p:nvPr/>
            </p:nvSpPr>
            <p:spPr>
              <a:xfrm>
                <a:off x="7534080" y="227628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492320" y="1893600"/>
                <a:ext cx="103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zā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5506920" y="619200"/>
            <a:ext cx="1944720" cy="2881080"/>
            <a:chOff x="5506920" y="619200"/>
            <a:chExt cx="1944720" cy="2881080"/>
          </a:xfrm>
        </p:grpSpPr>
        <p:pic>
          <p:nvPicPr>
            <p:cNvPr id="91" name="" descr=""/>
            <p:cNvPicPr/>
            <p:nvPr/>
          </p:nvPicPr>
          <p:blipFill>
            <a:blip r:embed="rId12"/>
            <a:stretch/>
          </p:blipFill>
          <p:spPr>
            <a:xfrm>
              <a:off x="5506920" y="619200"/>
              <a:ext cx="194472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276600" y="1960200"/>
              <a:ext cx="7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720" y="1555560"/>
              <a:ext cx="85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cu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356000" y="260280"/>
            <a:ext cx="1871640" cy="2881440"/>
            <a:chOff x="4356000" y="260280"/>
            <a:chExt cx="1871640" cy="2881440"/>
          </a:xfrm>
        </p:grpSpPr>
        <p:pic>
          <p:nvPicPr>
            <p:cNvPr id="95" name="" descr=""/>
            <p:cNvPicPr/>
            <p:nvPr/>
          </p:nvPicPr>
          <p:blipFill>
            <a:blip r:embed="rId13"/>
            <a:stretch/>
          </p:blipFill>
          <p:spPr>
            <a:xfrm>
              <a:off x="4356000" y="260280"/>
              <a:ext cx="18716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10200" y="1528560"/>
              <a:ext cx="7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54400" y="1165320"/>
              <a:ext cx="60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b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132000" y="-316080"/>
            <a:ext cx="1965240" cy="2881440"/>
            <a:chOff x="3132000" y="-316080"/>
            <a:chExt cx="1965240" cy="2881440"/>
          </a:xfrm>
        </p:grpSpPr>
        <p:pic>
          <p:nvPicPr>
            <p:cNvPr id="99" name="" descr=""/>
            <p:cNvPicPr/>
            <p:nvPr/>
          </p:nvPicPr>
          <p:blipFill>
            <a:blip r:embed="rId14"/>
            <a:stretch/>
          </p:blipFill>
          <p:spPr>
            <a:xfrm>
              <a:off x="3132000" y="-3160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922560" y="98100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34440" y="6206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f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-458640"/>
            <a:ext cx="9144000" cy="8280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900000" y="1052640"/>
            <a:ext cx="61930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42920" y="4005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在今后，如果是你遇到这样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7245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26920" y="1844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回到家里，把这个故事讲给爸爸妈妈听，或自己从书刊中再找一个开动脑筋、变坏事为好事的小故事讲给班上的同学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2880000" cy="792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042920" y="4762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900000" y="1844640"/>
            <a:ext cx="82440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 玲      端  详　  弄 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 奖      楼  梯      催 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258920" y="3645000"/>
            <a:ext cx="78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 动脑筋   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71640" y="4724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  糕       小  狗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5013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脑门儿    大脑    脑筋   筋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2482920" y="1197000"/>
            <a:ext cx="1873080" cy="1971720"/>
            <a:chOff x="2482920" y="1197000"/>
            <a:chExt cx="1873080" cy="1971720"/>
          </a:xfrm>
        </p:grpSpPr>
        <p:sp>
          <p:nvSpPr>
            <p:cNvPr id="131" name=""/>
            <p:cNvSpPr/>
            <p:nvPr/>
          </p:nvSpPr>
          <p:spPr>
            <a:xfrm>
              <a:off x="2482920" y="119700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2920" y="217368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08840" y="1197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80000" y="4005360"/>
            <a:ext cx="1873440" cy="1971720"/>
            <a:chOff x="5580000" y="4005360"/>
            <a:chExt cx="1873440" cy="1971720"/>
          </a:xfrm>
        </p:grpSpPr>
        <p:sp>
          <p:nvSpPr>
            <p:cNvPr id="135" name=""/>
            <p:cNvSpPr/>
            <p:nvPr/>
          </p:nvSpPr>
          <p:spPr>
            <a:xfrm>
              <a:off x="5580000" y="400536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498204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0628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482920" y="4005360"/>
            <a:ext cx="1873080" cy="1971720"/>
            <a:chOff x="2482920" y="4005360"/>
            <a:chExt cx="1873080" cy="1971720"/>
          </a:xfrm>
        </p:grpSpPr>
        <p:sp>
          <p:nvSpPr>
            <p:cNvPr id="139" name=""/>
            <p:cNvSpPr/>
            <p:nvPr/>
          </p:nvSpPr>
          <p:spPr>
            <a:xfrm>
              <a:off x="2482920" y="400536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2920" y="498204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0884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80000" y="1170000"/>
            <a:ext cx="1873440" cy="1971720"/>
            <a:chOff x="5580000" y="1170000"/>
            <a:chExt cx="1873440" cy="1971720"/>
          </a:xfrm>
        </p:grpSpPr>
        <p:sp>
          <p:nvSpPr>
            <p:cNvPr id="143" name=""/>
            <p:cNvSpPr/>
            <p:nvPr/>
          </p:nvSpPr>
          <p:spPr>
            <a:xfrm>
              <a:off x="5580000" y="117000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0000" y="214668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06280" y="1170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691920" cy="9684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47" name=""/>
          <p:cNvSpPr/>
          <p:nvPr/>
        </p:nvSpPr>
        <p:spPr>
          <a:xfrm rot="20895600">
            <a:off x="812880" y="668160"/>
            <a:ext cx="714240" cy="2544840"/>
          </a:xfrm>
          <a:prstGeom prst="wedgeEllipseCallout">
            <a:avLst>
              <a:gd name="adj1" fmla="val 21907"/>
              <a:gd name="adj2" fmla="val 64981"/>
            </a:avLst>
          </a:prstGeom>
          <a:solidFill>
            <a:srgbClr val="a7f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8640" y="1125360"/>
            <a:ext cx="729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105264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98100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狗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3716280"/>
            <a:ext cx="1657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糟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860640"/>
            <a:ext cx="1728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肯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432000" cy="50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498920" y="1268280"/>
            <a:ext cx="93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喇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叭的一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1268280"/>
            <a:ext cx="140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哈巴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005360"/>
            <a:ext cx="16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400536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肯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林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404640"/>
            <a:ext cx="80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脑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楼梯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催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眠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叭叭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响   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692280"/>
            <a:ext cx="81374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讲了玲玲画了　　　　　　　　　，正当她收拾画笔去睡觉的时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，在爸爸的引导下，　　　　　　　　　　　　　　　　，　　　　　　　　　　　后来，　　　　　　　　　　　　　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41300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63700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1916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3284640"/>
            <a:ext cx="64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3933720"/>
            <a:ext cx="56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地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端详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图片4"/>
          <p:cNvPicPr/>
          <p:nvPr/>
        </p:nvPicPr>
        <p:blipFill>
          <a:blip r:embed="rId1"/>
          <a:stretch/>
        </p:blipFill>
        <p:spPr>
          <a:xfrm>
            <a:off x="611280" y="260280"/>
            <a:ext cx="7921440" cy="39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1:43:38Z</dcterms:created>
  <dc:creator/>
  <dc:description/>
  <dc:language>en-US</dc:language>
  <cp:lastModifiedBy>user</cp:lastModifiedBy>
  <dcterms:modified xsi:type="dcterms:W3CDTF">2013-12-15T08:48:04Z</dcterms:modified>
  <cp:revision>115</cp:revision>
  <dc:subject/>
  <dc:title>幻灯片 1</dc:title>
</cp:coreProperties>
</file>