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5.gif" ContentType="image/gif"/>
  <Override PartName="/ppt/media/image6.jpeg" ContentType="image/jpeg"/>
  <Override PartName="/ppt/media/image9.png" ContentType="image/png"/>
  <Override PartName="/ppt/media/image13.jpeg" ContentType="image/jpeg"/>
  <Override PartName="/ppt/media/image25.jpeg" ContentType="image/jpeg"/>
  <Override PartName="/ppt/media/image21.png" ContentType="image/png"/>
  <Override PartName="/ppt/media/image4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ED0-3252-47E4-9D0A-A6EA4167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2EB-423C-4239-AB22-7B1483C6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D95-868A-4241-B21B-7F523971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ED4-8239-4AE1-8391-86EC8605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7DB0-D5DF-489F-9426-67B0B093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27B-395D-4246-AE86-0949BB9B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E49-AE8D-42CA-B5D7-CB95F230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CA4-BE45-487E-BEE8-E65562ED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3D2D-A789-473F-9909-90524E6A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3FA1-542E-40C0-8360-FD2A29DD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78B-E39B-4070-9081-0C661278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F31-9787-4A58-A7B4-E37197E0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F4E8-C630-456C-AE32-A83B3E6C2D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hyperlink" Target="http://www.1ydt.com/video/n_show/Nav_6/1679091C_1.htm" TargetMode="External"/><Relationship Id="rId16" Type="http://schemas.openxmlformats.org/officeDocument/2006/relationships/hyperlink" Target="http://www.1ydt.com/video/n_show/Nav_6/1679091C_1.htm" TargetMode="External"/><Relationship Id="rId1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1ydt.com/video/n_show/Nav_6/1679091C_1.htm" TargetMode="External"/><Relationship Id="rId8" Type="http://schemas.openxmlformats.org/officeDocument/2006/relationships/hyperlink" Target="http://www.1ydt.com/video/n_show/Nav_6/1679091C_1.htm" TargetMode="Externa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1.xml"/><Relationship Id="rId4" Type="http://schemas.openxmlformats.org/officeDocument/2006/relationships/image" Target="../media/image12.png"/><Relationship Id="rId5" Type="http://schemas.openxmlformats.org/officeDocument/2006/relationships/hyperlink" Target="http://www.1ydt.com/video/n_show/Nav_6/1679091C_1.htm" TargetMode="External"/><Relationship Id="rId6" Type="http://schemas.openxmlformats.org/officeDocument/2006/relationships/hyperlink" Target="http://www.1ydt.com/video/n_show/Nav_6/1679091C_1.htm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hyperlink" Target="http://www.1ydt.com/video/n_show/Nav_6/1679091C_1.ht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ydt.com/video/n_show/Nav_6/1679091C_1.htm" TargetMode="External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1ydt.com/video/n_show/Nav_6/1679091C_1.htm" TargetMode="External"/><Relationship Id="rId3" Type="http://schemas.openxmlformats.org/officeDocument/2006/relationships/hyperlink" Target="http://www.1ydt.com/video/n_show/Nav_6/1679091C_1.ht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2560" y="26028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Arial"/>
                <a:ea typeface="华文新魏"/>
              </a:rPr>
              <a:t>新课标人教版二年级语文第四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44720" y="1700280"/>
            <a:ext cx="626400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玲玲的画</a:t>
            </a:r>
            <a:endParaRPr b="1" lang="en-US" sz="96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6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" nodeType="afterEffect" fill="hold" presetClass="emph" presetID="1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080"/>
                                      </p:to>
                                    </p:animClr>
                                    <p:set>
                                      <p:cBhvr>
                                        <p:cTn id="2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1"/>
          <p:cNvPicPr/>
          <p:nvPr/>
        </p:nvPicPr>
        <p:blipFill>
          <a:blip r:embed="rId1"/>
          <a:stretch/>
        </p:blipFill>
        <p:spPr>
          <a:xfrm>
            <a:off x="-1908000" y="0"/>
            <a:ext cx="11052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052640"/>
            <a:ext cx="48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</a:rPr>
              <a:t>阅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24000" y="2133720"/>
            <a:ext cx="65167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线划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当玲玲遇到困难的时候，爸爸给她讲了一个道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爸爸是怎样说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16240" y="-2700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楷体_GB2312"/>
              </a:rPr>
              <a:t>玲玲的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59280" y="333360"/>
            <a:ext cx="6084720" cy="3816360"/>
            <a:chOff x="3059280" y="333360"/>
            <a:chExt cx="6084720" cy="3816360"/>
          </a:xfrm>
        </p:grpSpPr>
        <p:sp>
          <p:nvSpPr>
            <p:cNvPr id="181" name=""/>
            <p:cNvSpPr/>
            <p:nvPr/>
          </p:nvSpPr>
          <p:spPr>
            <a:xfrm>
              <a:off x="3059280" y="333360"/>
              <a:ext cx="6084720" cy="3816360"/>
            </a:xfrm>
            <a:prstGeom prst="cloudCallout">
              <a:avLst>
                <a:gd name="adj1" fmla="val -51800"/>
                <a:gd name="adj2" fmla="val 1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37000" y="1052640"/>
              <a:ext cx="5607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看到了吧，孩子。好多事        情并不像我们想象的那么糟。只要肯动脑筋，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坏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往往能变成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好事</a:t>
              </a:r>
              <a:r>
                <a:rPr b="1" lang="zh-CN" sz="3200" spc="-1" strike="noStrike">
                  <a:solidFill>
                    <a:srgbClr val="990000"/>
                  </a:solidFill>
                  <a:latin typeface="楷体_GB2312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90720" y="96372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137160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buClr>
                <a:srgbClr val="00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想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978200"/>
            <a:ext cx="7696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是怎么解决掉画上的墨迹呢？为什么爸　 爸不直接告诉玲玲画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3048120"/>
            <a:ext cx="769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玲玲想了想，……小花狗懒洋洋地趴在楼梯　 上。玲玲满意地笑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玲玲想了想，她会想什么？她为什么要画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狗？而不是其它东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“玲玲满意地笑了”说明什么？如果是你，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想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828720" y="-387360"/>
            <a:ext cx="10585440" cy="9072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44360" y="4149720"/>
            <a:ext cx="882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仿宋_GB2312"/>
              </a:rPr>
              <a:t>弄脏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仿宋_GB2312"/>
              </a:rPr>
              <a:t>，玲玲哇地哭了起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826920" y="765000"/>
            <a:ext cx="7272360" cy="3598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图片5"/>
          <p:cNvPicPr/>
          <p:nvPr/>
        </p:nvPicPr>
        <p:blipFill>
          <a:blip r:embed="rId1"/>
          <a:stretch/>
        </p:blipFill>
        <p:spPr>
          <a:xfrm>
            <a:off x="0" y="-603360"/>
            <a:ext cx="9756720" cy="7993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71640" y="1413000"/>
            <a:ext cx="777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的画脏了，另画一张也来不及了。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436572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1"/>
          <p:cNvPicPr/>
          <p:nvPr/>
        </p:nvPicPr>
        <p:blipFill>
          <a:blip r:embed="rId2"/>
          <a:srcRect l="0" t="0" r="21747" b="38976"/>
          <a:stretch/>
        </p:blipFill>
        <p:spPr>
          <a:xfrm>
            <a:off x="1835280" y="2852640"/>
            <a:ext cx="5761080" cy="345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612720" y="-1035000"/>
            <a:ext cx="10585440" cy="8712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图片4"/>
          <p:cNvPicPr/>
          <p:nvPr/>
        </p:nvPicPr>
        <p:blipFill>
          <a:blip r:embed="rId2"/>
          <a:stretch/>
        </p:blipFill>
        <p:spPr>
          <a:xfrm>
            <a:off x="900000" y="2133720"/>
            <a:ext cx="7489800" cy="43196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6"/>
          <p:cNvSpPr/>
          <p:nvPr/>
        </p:nvSpPr>
        <p:spPr>
          <a:xfrm>
            <a:off x="971640" y="836640"/>
            <a:ext cx="72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第二天的评奖会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的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得了一等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4"/>
          <p:cNvPicPr/>
          <p:nvPr/>
        </p:nvPicPr>
        <p:blipFill>
          <a:blip r:embed="rId3"/>
          <a:stretch/>
        </p:blipFill>
        <p:spPr>
          <a:xfrm>
            <a:off x="5292720" y="4797360"/>
            <a:ext cx="2448000" cy="1297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692360" y="458136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619280" y="40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"/>
          <p:cNvSpPr/>
          <p:nvPr/>
        </p:nvSpPr>
        <p:spPr>
          <a:xfrm>
            <a:off x="1431000" y="121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898560"/>
            <a:ext cx="777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想了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拿起笔，在弄脏的地方画了一只小花狗。小花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懒洋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趴在楼梯上。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满意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笑了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图片4"/>
          <p:cNvPicPr/>
          <p:nvPr/>
        </p:nvPicPr>
        <p:blipFill>
          <a:blip r:embed="rId2"/>
          <a:stretch/>
        </p:blipFill>
        <p:spPr>
          <a:xfrm>
            <a:off x="611280" y="3429000"/>
            <a:ext cx="7200720" cy="3095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705720" y="4941720"/>
            <a:ext cx="458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4"/>
          <p:cNvPicPr/>
          <p:nvPr/>
        </p:nvPicPr>
        <p:blipFill>
          <a:blip r:embed="rId3"/>
          <a:stretch/>
        </p:blipFill>
        <p:spPr>
          <a:xfrm>
            <a:off x="4932360" y="5157720"/>
            <a:ext cx="2233440" cy="1152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95280" y="0"/>
            <a:ext cx="1094436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128520" y="647640"/>
            <a:ext cx="8516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 “玲玲，时间不早了，快去睡吧！”爸爸又在催她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好的，我把画笔收拾一下就去睡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怎么了，孩子？”爸爸放下报纸问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爸爸看了，高兴地说：“看到了吧，孩子。好多事情并不像我们想象的那么糟糕。只要肯动脑筋，坏事往往能变好事。”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551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9360" y="6308640"/>
            <a:ext cx="459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33360"/>
            <a:ext cx="61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97040" y="1773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270828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080" y="3213000"/>
            <a:ext cx="67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1080" y="4654440"/>
            <a:ext cx="734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78640" y="37162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8000" y="422100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﹏﹏﹏﹏﹏﹏﹏﹏﹏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84560" y="617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2133720"/>
            <a:ext cx="568800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87280" y="3068640"/>
            <a:ext cx="612144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11"/>
          <p:cNvPicPr/>
          <p:nvPr/>
        </p:nvPicPr>
        <p:blipFill>
          <a:blip r:embed="rId1"/>
          <a:stretch/>
        </p:blipFill>
        <p:spPr>
          <a:xfrm>
            <a:off x="-1765440" y="0"/>
            <a:ext cx="1090944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71640" y="1460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55640" y="2060640"/>
            <a:ext cx="6301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说你在生活中有没有遇到过类似的事？是否也曾体会过坏事变好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8000" y="9810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说一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4981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3200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11280" y="476280"/>
            <a:ext cx="1965240" cy="2881440"/>
            <a:chOff x="611280" y="476280"/>
            <a:chExt cx="1965240" cy="288144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611280" y="476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" name=""/>
            <p:cNvGrpSpPr/>
            <p:nvPr/>
          </p:nvGrpSpPr>
          <p:grpSpPr>
            <a:xfrm>
              <a:off x="1259640" y="1413000"/>
              <a:ext cx="903240" cy="1013040"/>
              <a:chOff x="1259640" y="1413000"/>
              <a:chExt cx="903240" cy="1013040"/>
            </a:xfrm>
          </p:grpSpPr>
          <p:sp>
            <p:nvSpPr>
              <p:cNvPr id="52" name=""/>
              <p:cNvSpPr/>
              <p:nvPr/>
            </p:nvSpPr>
            <p:spPr>
              <a:xfrm>
                <a:off x="1298160" y="184464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玲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59640" y="14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íng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1692360" y="-243000"/>
            <a:ext cx="2160000" cy="2881440"/>
            <a:chOff x="1692360" y="-243000"/>
            <a:chExt cx="2160000" cy="2881440"/>
          </a:xfrm>
        </p:grpSpPr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1692360" y="-243000"/>
              <a:ext cx="216000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561040" y="1096920"/>
              <a:ext cx="87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45320" y="664920"/>
              <a:ext cx="1366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xiá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12000" y="2276640"/>
            <a:ext cx="2736360" cy="2881080"/>
            <a:chOff x="6012000" y="2276640"/>
            <a:chExt cx="2736360" cy="2881080"/>
          </a:xfrm>
        </p:grpSpPr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6012000" y="2276640"/>
              <a:ext cx="273636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957720" y="3112920"/>
              <a:ext cx="923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zā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789440" y="2563920"/>
            <a:ext cx="2303280" cy="2881080"/>
            <a:chOff x="4789440" y="2563920"/>
            <a:chExt cx="2303280" cy="2881080"/>
          </a:xfrm>
        </p:grpSpPr>
        <p:pic>
          <p:nvPicPr>
            <p:cNvPr id="62" name="" descr=""/>
            <p:cNvPicPr/>
            <p:nvPr/>
          </p:nvPicPr>
          <p:blipFill>
            <a:blip r:embed="rId6"/>
            <a:stretch/>
          </p:blipFill>
          <p:spPr>
            <a:xfrm>
              <a:off x="4789440" y="2563920"/>
              <a:ext cx="230328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" name=""/>
            <p:cNvGrpSpPr/>
            <p:nvPr/>
          </p:nvGrpSpPr>
          <p:grpSpPr>
            <a:xfrm>
              <a:off x="5548320" y="3500280"/>
              <a:ext cx="975960" cy="1012680"/>
              <a:chOff x="5548320" y="3500280"/>
              <a:chExt cx="975960" cy="1012680"/>
            </a:xfrm>
          </p:grpSpPr>
          <p:sp>
            <p:nvSpPr>
              <p:cNvPr id="64" name=""/>
              <p:cNvSpPr/>
              <p:nvPr/>
            </p:nvSpPr>
            <p:spPr>
              <a:xfrm>
                <a:off x="5594400" y="3931560"/>
                <a:ext cx="929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548320" y="3500280"/>
                <a:ext cx="72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tī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3708360" y="2492280"/>
            <a:ext cx="1965240" cy="2881440"/>
            <a:chOff x="3708360" y="2492280"/>
            <a:chExt cx="1965240" cy="2881440"/>
          </a:xfrm>
        </p:grpSpPr>
        <p:pic>
          <p:nvPicPr>
            <p:cNvPr id="67" name="" descr=""/>
            <p:cNvPicPr/>
            <p:nvPr/>
          </p:nvPicPr>
          <p:blipFill>
            <a:blip r:embed="rId7"/>
            <a:stretch/>
          </p:blipFill>
          <p:spPr>
            <a:xfrm>
              <a:off x="3708360" y="24922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4357080" y="3429000"/>
              <a:ext cx="832320" cy="1013040"/>
              <a:chOff x="4357080" y="3429000"/>
              <a:chExt cx="832320" cy="1013040"/>
            </a:xfrm>
          </p:grpSpPr>
          <p:sp>
            <p:nvSpPr>
              <p:cNvPr id="69" name=""/>
              <p:cNvSpPr/>
              <p:nvPr/>
            </p:nvSpPr>
            <p:spPr>
              <a:xfrm>
                <a:off x="4395600" y="3860640"/>
                <a:ext cx="793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楼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57080" y="3429000"/>
                <a:ext cx="790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lóu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2462040" y="2276640"/>
            <a:ext cx="1965600" cy="2881080"/>
            <a:chOff x="2462040" y="2276640"/>
            <a:chExt cx="1965600" cy="2881080"/>
          </a:xfrm>
        </p:grpSpPr>
        <p:pic>
          <p:nvPicPr>
            <p:cNvPr id="72" name="" descr=""/>
            <p:cNvPicPr/>
            <p:nvPr/>
          </p:nvPicPr>
          <p:blipFill>
            <a:blip r:embed="rId8"/>
            <a:stretch/>
          </p:blipFill>
          <p:spPr>
            <a:xfrm>
              <a:off x="2462040" y="2276640"/>
              <a:ext cx="196560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52600" y="3600360"/>
              <a:ext cx="79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68920" y="3213000"/>
              <a:ext cx="118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jiăng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971640" y="2492280"/>
            <a:ext cx="2376000" cy="2881440"/>
            <a:chOff x="971640" y="2492280"/>
            <a:chExt cx="2376000" cy="2881440"/>
          </a:xfrm>
        </p:grpSpPr>
        <p:pic>
          <p:nvPicPr>
            <p:cNvPr id="76" name="" descr=""/>
            <p:cNvPicPr/>
            <p:nvPr/>
          </p:nvPicPr>
          <p:blipFill>
            <a:blip r:embed="rId9"/>
            <a:stretch/>
          </p:blipFill>
          <p:spPr>
            <a:xfrm>
              <a:off x="971640" y="2492280"/>
              <a:ext cx="237600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" name=""/>
            <p:cNvGrpSpPr/>
            <p:nvPr/>
          </p:nvGrpSpPr>
          <p:grpSpPr>
            <a:xfrm>
              <a:off x="1754640" y="3429000"/>
              <a:ext cx="1006920" cy="1013040"/>
              <a:chOff x="1754640" y="3429000"/>
              <a:chExt cx="1006920" cy="1013040"/>
            </a:xfrm>
          </p:grpSpPr>
          <p:sp>
            <p:nvSpPr>
              <p:cNvPr id="78" name=""/>
              <p:cNvSpPr/>
              <p:nvPr/>
            </p:nvSpPr>
            <p:spPr>
              <a:xfrm>
                <a:off x="1802160" y="3860640"/>
                <a:ext cx="959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筋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754640" y="3429000"/>
                <a:ext cx="980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宋体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宋体"/>
                  </a:rPr>
                  <a:t>jī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-57240" y="2276640"/>
            <a:ext cx="1965240" cy="2881080"/>
            <a:chOff x="-57240" y="2276640"/>
            <a:chExt cx="1965240" cy="2881080"/>
          </a:xfrm>
        </p:grpSpPr>
        <p:pic>
          <p:nvPicPr>
            <p:cNvPr id="81" name="" descr=""/>
            <p:cNvPicPr/>
            <p:nvPr/>
          </p:nvPicPr>
          <p:blipFill>
            <a:blip r:embed="rId10"/>
            <a:stretch/>
          </p:blipFill>
          <p:spPr>
            <a:xfrm>
              <a:off x="-57240" y="2276640"/>
              <a:ext cx="1965240" cy="28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591120" y="3213000"/>
              <a:ext cx="903240" cy="1012680"/>
              <a:chOff x="591120" y="3213000"/>
              <a:chExt cx="903240" cy="1012680"/>
            </a:xfrm>
          </p:grpSpPr>
          <p:sp>
            <p:nvSpPr>
              <p:cNvPr id="83" name=""/>
              <p:cNvSpPr/>
              <p:nvPr/>
            </p:nvSpPr>
            <p:spPr>
              <a:xfrm>
                <a:off x="629640" y="364428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脑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91120" y="3213000"/>
                <a:ext cx="90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nă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804000" y="907920"/>
            <a:ext cx="2088720" cy="2881440"/>
            <a:chOff x="6804000" y="907920"/>
            <a:chExt cx="2088720" cy="2881440"/>
          </a:xfrm>
        </p:grpSpPr>
        <p:pic>
          <p:nvPicPr>
            <p:cNvPr id="86" name="" descr=""/>
            <p:cNvPicPr/>
            <p:nvPr/>
          </p:nvPicPr>
          <p:blipFill>
            <a:blip r:embed="rId11"/>
            <a:stretch/>
          </p:blipFill>
          <p:spPr>
            <a:xfrm>
              <a:off x="6804000" y="907920"/>
              <a:ext cx="2088720" cy="2881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7" name=""/>
            <p:cNvGrpSpPr/>
            <p:nvPr/>
          </p:nvGrpSpPr>
          <p:grpSpPr>
            <a:xfrm>
              <a:off x="7492320" y="1893600"/>
              <a:ext cx="1035360" cy="964080"/>
              <a:chOff x="7492320" y="1893600"/>
              <a:chExt cx="1035360" cy="964080"/>
            </a:xfrm>
          </p:grpSpPr>
          <p:sp>
            <p:nvSpPr>
              <p:cNvPr id="88" name=""/>
              <p:cNvSpPr/>
              <p:nvPr/>
            </p:nvSpPr>
            <p:spPr>
              <a:xfrm>
                <a:off x="7534080" y="227628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492320" y="1893600"/>
                <a:ext cx="1035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zā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5506920" y="619200"/>
            <a:ext cx="1944720" cy="2881080"/>
            <a:chOff x="5506920" y="619200"/>
            <a:chExt cx="1944720" cy="2881080"/>
          </a:xfrm>
        </p:grpSpPr>
        <p:pic>
          <p:nvPicPr>
            <p:cNvPr id="91" name="" descr=""/>
            <p:cNvPicPr/>
            <p:nvPr/>
          </p:nvPicPr>
          <p:blipFill>
            <a:blip r:embed="rId12"/>
            <a:stretch/>
          </p:blipFill>
          <p:spPr>
            <a:xfrm>
              <a:off x="5506920" y="619200"/>
              <a:ext cx="1944720" cy="28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6276600" y="1960200"/>
              <a:ext cx="7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720" y="1555560"/>
              <a:ext cx="85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cu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356000" y="260280"/>
            <a:ext cx="1871640" cy="2881440"/>
            <a:chOff x="4356000" y="260280"/>
            <a:chExt cx="1871640" cy="2881440"/>
          </a:xfrm>
        </p:grpSpPr>
        <p:pic>
          <p:nvPicPr>
            <p:cNvPr id="95" name="" descr=""/>
            <p:cNvPicPr/>
            <p:nvPr/>
          </p:nvPicPr>
          <p:blipFill>
            <a:blip r:embed="rId13"/>
            <a:stretch/>
          </p:blipFill>
          <p:spPr>
            <a:xfrm>
              <a:off x="4356000" y="260280"/>
              <a:ext cx="18716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10200" y="1528560"/>
              <a:ext cx="7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54400" y="1165320"/>
              <a:ext cx="604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b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132000" y="-316080"/>
            <a:ext cx="1965240" cy="2881440"/>
            <a:chOff x="3132000" y="-316080"/>
            <a:chExt cx="1965240" cy="2881440"/>
          </a:xfrm>
        </p:grpSpPr>
        <p:pic>
          <p:nvPicPr>
            <p:cNvPr id="99" name="" descr=""/>
            <p:cNvPicPr/>
            <p:nvPr/>
          </p:nvPicPr>
          <p:blipFill>
            <a:blip r:embed="rId14"/>
            <a:stretch/>
          </p:blipFill>
          <p:spPr>
            <a:xfrm>
              <a:off x="3132000" y="-316080"/>
              <a:ext cx="1965240" cy="28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922560" y="98100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34440" y="620640"/>
              <a:ext cx="56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f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-458640"/>
            <a:ext cx="9144000" cy="82803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1547640" y="2205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1187280" y="371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403280" y="39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900000" y="1052640"/>
            <a:ext cx="61930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帮帮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书被雨淋湿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漂亮的裙子被勾出了一个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42920" y="4005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在今后，如果是你遇到这样的事情，你会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7245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26920" y="1844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实践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回到家里，把这个故事讲给爸爸妈妈听，或自己从书刊中再找一个开动脑筋、变坏事为好事的小故事讲给班上的同学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492360" y="6237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点此播放教学视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8647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图片2"/>
          <p:cNvPicPr/>
          <p:nvPr/>
        </p:nvPicPr>
        <p:blipFill>
          <a:blip r:embed="rId2"/>
          <a:stretch/>
        </p:blipFill>
        <p:spPr>
          <a:xfrm>
            <a:off x="539640" y="476280"/>
            <a:ext cx="2880000" cy="792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1042920" y="47628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900000" y="1844640"/>
            <a:ext cx="8244000" cy="33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玲  玲      端  详　  弄  脏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评  奖      楼  梯      催  促                            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258920" y="3645000"/>
            <a:ext cx="7885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幅画　 动脑筋     懒洋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71640" y="4724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  糕       小  狗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叭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9640" y="5013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脑门儿    大脑    脑筋   筋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2482920" y="1197000"/>
            <a:ext cx="1873080" cy="1971720"/>
            <a:chOff x="2482920" y="1197000"/>
            <a:chExt cx="1873080" cy="1971720"/>
          </a:xfrm>
        </p:grpSpPr>
        <p:sp>
          <p:nvSpPr>
            <p:cNvPr id="131" name=""/>
            <p:cNvSpPr/>
            <p:nvPr/>
          </p:nvSpPr>
          <p:spPr>
            <a:xfrm>
              <a:off x="2482920" y="119700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82920" y="217368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08840" y="1197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80000" y="4005360"/>
            <a:ext cx="1873440" cy="1971720"/>
            <a:chOff x="5580000" y="4005360"/>
            <a:chExt cx="1873440" cy="1971720"/>
          </a:xfrm>
        </p:grpSpPr>
        <p:sp>
          <p:nvSpPr>
            <p:cNvPr id="135" name=""/>
            <p:cNvSpPr/>
            <p:nvPr/>
          </p:nvSpPr>
          <p:spPr>
            <a:xfrm>
              <a:off x="5580000" y="400536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498204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0628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482920" y="4005360"/>
            <a:ext cx="1873080" cy="1971720"/>
            <a:chOff x="2482920" y="4005360"/>
            <a:chExt cx="1873080" cy="1971720"/>
          </a:xfrm>
        </p:grpSpPr>
        <p:sp>
          <p:nvSpPr>
            <p:cNvPr id="139" name=""/>
            <p:cNvSpPr/>
            <p:nvPr/>
          </p:nvSpPr>
          <p:spPr>
            <a:xfrm>
              <a:off x="2482920" y="4005360"/>
              <a:ext cx="187308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2920" y="4982040"/>
              <a:ext cx="187308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08840" y="400536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580000" y="1170000"/>
            <a:ext cx="1873440" cy="1971720"/>
            <a:chOff x="5580000" y="1170000"/>
            <a:chExt cx="1873440" cy="1971720"/>
          </a:xfrm>
        </p:grpSpPr>
        <p:sp>
          <p:nvSpPr>
            <p:cNvPr id="143" name=""/>
            <p:cNvSpPr/>
            <p:nvPr/>
          </p:nvSpPr>
          <p:spPr>
            <a:xfrm>
              <a:off x="5580000" y="1170000"/>
              <a:ext cx="187344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80000" y="2146680"/>
              <a:ext cx="1873440" cy="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06280" y="1170000"/>
              <a:ext cx="0" cy="197172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84360" y="4005360"/>
            <a:ext cx="691920" cy="9684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47" name=""/>
          <p:cNvSpPr/>
          <p:nvPr/>
        </p:nvSpPr>
        <p:spPr>
          <a:xfrm rot="20895600">
            <a:off x="812880" y="668160"/>
            <a:ext cx="714240" cy="2544840"/>
          </a:xfrm>
          <a:prstGeom prst="wedgeEllipseCallout">
            <a:avLst>
              <a:gd name="adj1" fmla="val 21907"/>
              <a:gd name="adj2" fmla="val 64981"/>
            </a:avLst>
          </a:prstGeom>
          <a:solidFill>
            <a:srgbClr val="a7f7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8640" y="1125360"/>
            <a:ext cx="729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84360" y="105264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叭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981000"/>
            <a:ext cx="18003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狗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3716280"/>
            <a:ext cx="1657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糟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0000" y="3860640"/>
            <a:ext cx="17287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3300"/>
                </a:solidFill>
                <a:latin typeface="Arial"/>
                <a:ea typeface="楷体_GB2312"/>
              </a:rPr>
              <a:t>肯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459640" y="6093000"/>
            <a:ext cx="432000" cy="504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498920" y="1268280"/>
            <a:ext cx="93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喇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叭的一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0720" y="1268280"/>
            <a:ext cx="140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哈巴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56000" y="4005360"/>
            <a:ext cx="16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糟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4005360"/>
            <a:ext cx="208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肯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林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404640"/>
            <a:ext cx="8064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脑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楼梯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催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眠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弄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叭叭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响   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55640" y="692280"/>
            <a:ext cx="81374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讲了玲玲画了　　　　　　　　　，正当她收拾画笔去睡觉的时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　　　　，在爸爸的引导下，　　　　　　　　　　　　　　　　，　　　　　　　　　　　后来，　　　　　　　　　　　　　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141300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2637000"/>
            <a:ext cx="43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16720" y="1916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47640" y="3284640"/>
            <a:ext cx="64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08000" y="3933720"/>
            <a:ext cx="56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地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端详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zh-CN" sz="4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图片4"/>
          <p:cNvPicPr/>
          <p:nvPr/>
        </p:nvPicPr>
        <p:blipFill>
          <a:blip r:embed="rId1"/>
          <a:stretch/>
        </p:blipFill>
        <p:spPr>
          <a:xfrm>
            <a:off x="611280" y="260280"/>
            <a:ext cx="7921440" cy="39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492360" y="6237360"/>
            <a:ext cx="18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点此播放教学视频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1:43:38Z</dcterms:created>
  <dc:creator/>
  <dc:description/>
  <dc:language>en-US</dc:language>
  <cp:lastModifiedBy>user</cp:lastModifiedBy>
  <dcterms:modified xsi:type="dcterms:W3CDTF">2013-12-15T08:48:04Z</dcterms:modified>
  <cp:revision>115</cp:revision>
  <dc:subject/>
  <dc:title>幻灯片 1</dc:title>
</cp:coreProperties>
</file>