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A8E-FDD4-43AB-9386-4A48D3B1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329-2F29-4131-A656-CF4286EF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342-8C82-4125-8CCF-D75538D3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AA0-911A-4355-9B1F-1600F705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838-9231-4781-80E6-2EA232EE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276-08DC-4C65-961D-EE189729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53D-9279-4D59-A346-83CCD829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7E9-7F04-4D3F-8FE6-E9C2B12B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DFF-D6FA-4BF3-8183-2548DAB8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8DB-FB96-4FC6-B4FA-D903CBA8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1E2-2C41-4356-90F4-DD774789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64C-FC85-4B01-A2B5-4769BFF9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1905-14C1-49AE-B451-529E26799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332000" y="227664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bbdd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395280" y="3213000"/>
            <a:ext cx="3816360" cy="337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>
            <a:off x="1403280" y="3716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图片4"/>
          <p:cNvPicPr/>
          <p:nvPr/>
        </p:nvPicPr>
        <p:blipFill>
          <a:blip r:embed="rId2"/>
          <a:stretch/>
        </p:blipFill>
        <p:spPr>
          <a:xfrm>
            <a:off x="6084720" y="4365720"/>
            <a:ext cx="24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图片4"/>
          <p:cNvPicPr/>
          <p:nvPr/>
        </p:nvPicPr>
        <p:blipFill>
          <a:blip r:embed="rId3"/>
          <a:stretch/>
        </p:blipFill>
        <p:spPr>
          <a:xfrm>
            <a:off x="5940360" y="4292640"/>
            <a:ext cx="244944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"/>
          <p:cNvPicPr/>
          <p:nvPr/>
        </p:nvPicPr>
        <p:blipFill>
          <a:blip r:embed="rId4">
            <a:alphaModFix amt="82000"/>
          </a:blip>
          <a:stretch/>
        </p:blipFill>
        <p:spPr>
          <a:xfrm>
            <a:off x="5219640" y="3213000"/>
            <a:ext cx="3627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" name="Picture 8" descr="图片4"/>
          <p:cNvPicPr/>
          <p:nvPr/>
        </p:nvPicPr>
        <p:blipFill>
          <a:blip r:embed="rId5"/>
          <a:stretch/>
        </p:blipFill>
        <p:spPr>
          <a:xfrm>
            <a:off x="5724360" y="4221000"/>
            <a:ext cx="2592720" cy="223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4"/>
          <p:cNvPicPr/>
          <p:nvPr/>
        </p:nvPicPr>
        <p:blipFill>
          <a:blip r:embed="rId6"/>
          <a:stretch/>
        </p:blipFill>
        <p:spPr>
          <a:xfrm>
            <a:off x="7236000" y="5229360"/>
            <a:ext cx="1512720" cy="934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611280" y="155736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玲想了想，拿起笔，在弄脏的地方画了一只小花狗。小花狗懒洋洋地趴在楼梯上。玲玲满意地笑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227640" y="378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3" descr="1"/>
          <p:cNvPicPr/>
          <p:nvPr/>
        </p:nvPicPr>
        <p:blipFill>
          <a:blip r:embed="rId7"/>
          <a:srcRect l="0" t="0" r="21747" b="38976"/>
          <a:stretch/>
        </p:blipFill>
        <p:spPr>
          <a:xfrm>
            <a:off x="971640" y="4149720"/>
            <a:ext cx="2663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Z8ZDUEVC77_205_500_320"/>
          <p:cNvPicPr/>
          <p:nvPr/>
        </p:nvPicPr>
        <p:blipFill>
          <a:blip r:embed="rId1"/>
          <a:stretch/>
        </p:blipFill>
        <p:spPr>
          <a:xfrm>
            <a:off x="-324000" y="0"/>
            <a:ext cx="97189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图片4"/>
          <p:cNvPicPr/>
          <p:nvPr/>
        </p:nvPicPr>
        <p:blipFill>
          <a:blip r:embed="rId2"/>
          <a:stretch/>
        </p:blipFill>
        <p:spPr>
          <a:xfrm>
            <a:off x="1763640" y="3213000"/>
            <a:ext cx="4464000" cy="3313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826920" y="2060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得了一等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4"/>
          <p:cNvPicPr/>
          <p:nvPr/>
        </p:nvPicPr>
        <p:blipFill>
          <a:blip r:embed="rId3"/>
          <a:stretch/>
        </p:blipFill>
        <p:spPr>
          <a:xfrm>
            <a:off x="4284720" y="4797360"/>
            <a:ext cx="21603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"/>
          <p:cNvSpPr/>
          <p:nvPr/>
        </p:nvSpPr>
        <p:spPr>
          <a:xfrm>
            <a:off x="1835280" y="2445840"/>
            <a:ext cx="712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好多事情并不像我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想象的那么糟。只要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脑筋，坏事往往能变成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事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11280" y="836640"/>
            <a:ext cx="1942920" cy="2278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1476360" y="1125360"/>
            <a:ext cx="619272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476360" y="3573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971640" y="319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到家里，把这个故事讲给爸爸妈妈听，或自己从书刊中再找一个开动脑筋、变坏事为好事的小故事讲给班上的同学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187280" y="1557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042920" y="476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1844640"/>
            <a:ext cx="763272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玲      端 详　 弄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奖      楼 梯     催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5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11"/>
          <p:cNvSpPr/>
          <p:nvPr/>
        </p:nvSpPr>
        <p:spPr>
          <a:xfrm>
            <a:off x="1258920" y="3645000"/>
            <a:ext cx="6265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动脑筋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971640" y="472428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637236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3132000" y="4292640"/>
            <a:ext cx="7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图片4"/>
          <p:cNvPicPr/>
          <p:nvPr/>
        </p:nvPicPr>
        <p:blipFill>
          <a:blip r:embed="rId1"/>
          <a:stretch/>
        </p:blipFill>
        <p:spPr>
          <a:xfrm>
            <a:off x="4859280" y="3716280"/>
            <a:ext cx="3888000" cy="29527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4"/>
          <p:cNvPicPr/>
          <p:nvPr/>
        </p:nvPicPr>
        <p:blipFill>
          <a:blip r:embed="rId2"/>
          <a:stretch/>
        </p:blipFill>
        <p:spPr>
          <a:xfrm>
            <a:off x="7093080" y="5084640"/>
            <a:ext cx="1836720" cy="1154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0" y="3789360"/>
            <a:ext cx="37450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图片4"/>
          <p:cNvPicPr/>
          <p:nvPr/>
        </p:nvPicPr>
        <p:blipFill>
          <a:blip r:embed="rId4"/>
          <a:stretch/>
        </p:blipFill>
        <p:spPr>
          <a:xfrm>
            <a:off x="0" y="40464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547640" y="465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928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940360" y="4508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3708360" y="260280"/>
            <a:ext cx="511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玲玲明天要去参加评奖的 ＿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不小心＿＿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在 ＿＿＿的帮助下，玲玲在原本脏的地方＿＿＿ 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。在第二天的评奖会上，玲玲的画＿＿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＿＿ ＿＿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659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了一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49960" y="62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6840360" y="620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弄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4500720" y="112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851280" y="20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小花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948360" y="256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得了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708360" y="3141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等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90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读课文，想一想 玲玲的                   心情是怎样变化的？请把代表玲玲心情变化的词语用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划出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d2e88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12"/>
          <p:cNvPicPr/>
          <p:nvPr/>
        </p:nvPicPr>
        <p:blipFill>
          <a:blip r:embed="rId1"/>
          <a:srcRect l="0" t="189" r="0" b="0"/>
          <a:stretch/>
        </p:blipFill>
        <p:spPr>
          <a:xfrm>
            <a:off x="5148360" y="2752560"/>
            <a:ext cx="4319640" cy="410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Picture 4" descr="图片4"/>
          <p:cNvPicPr/>
          <p:nvPr/>
        </p:nvPicPr>
        <p:blipFill>
          <a:blip r:embed="rId2"/>
          <a:stretch/>
        </p:blipFill>
        <p:spPr>
          <a:xfrm>
            <a:off x="5796000" y="4005360"/>
            <a:ext cx="3170160" cy="2663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6300720" y="342900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611280" y="981000"/>
            <a:ext cx="7056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满意地端详着自己画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这幅画明天就要参加评奖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，时间不早了，快去睡吧！”爸爸又在催她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755640" y="39337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的，我把画笔收拾一下就去睡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2"/>
          <p:cNvPicPr/>
          <p:nvPr/>
        </p:nvPicPr>
        <p:blipFill>
          <a:blip r:embed="rId2"/>
          <a:srcRect l="0" t="189" r="0" b="0"/>
          <a:stretch/>
        </p:blipFill>
        <p:spPr>
          <a:xfrm>
            <a:off x="2195640" y="2997360"/>
            <a:ext cx="4681440" cy="386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在这时候，水彩笔叭的一下掉到了纸上，把画弄脏了，玲玲哇地哭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64000" y="3573360"/>
            <a:ext cx="237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916360" y="4076640"/>
            <a:ext cx="33130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476360" y="22766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这幅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476360" y="386064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71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XMBCGDOXFZ_205_1024_768"/>
          <p:cNvPicPr/>
          <p:nvPr/>
        </p:nvPicPr>
        <p:blipFill>
          <a:blip r:embed="rId1"/>
          <a:stretch/>
        </p:blipFill>
        <p:spPr>
          <a:xfrm>
            <a:off x="-219240" y="0"/>
            <a:ext cx="9363240" cy="7023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爸爸仔细地看了看，说：“别哭，孩子。在这儿画点儿什么，不是很好吗？”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00000" y="4581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哭，玲玲，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是很好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syxx</cp:lastModifiedBy>
  <dcterms:modified xsi:type="dcterms:W3CDTF">2008-10-20T02:07:19Z</dcterms:modified>
  <cp:revision>13</cp:revision>
  <dc:subject/>
  <dc:title>幻灯片 1</dc:title>
</cp:coreProperties>
</file>