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gif" ContentType="image/gif"/>
  <Override PartName="/ppt/media/image19.png" ContentType="image/png"/>
  <Override PartName="/ppt/media/image24.wmf" ContentType="image/x-wmf"/>
  <Override PartName="/ppt/media/image23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7.png" ContentType="image/png"/>
  <Override PartName="/ppt/media/image10.gif" ContentType="image/gif"/>
  <Override PartName="/ppt/media/image12.gif" ContentType="image/gif"/>
  <Override PartName="/ppt/media/image37.jpeg" ContentType="image/jpeg"/>
  <Override PartName="/ppt/media/image3.jpeg" ContentType="image/jpeg"/>
  <Override PartName="/ppt/media/image30.png" ContentType="image/png"/>
  <Override PartName="/ppt/media/image35.jpeg" ContentType="image/jpeg"/>
  <Override PartName="/ppt/media/image8.jpeg" ContentType="image/jpeg"/>
  <Override PartName="/ppt/media/image38.jpeg" ContentType="image/jpeg"/>
  <Override PartName="/ppt/media/image40.jpeg" ContentType="image/jpeg"/>
  <Override PartName="/ppt/media/image11.gif" ContentType="image/gif"/>
  <Override PartName="/ppt/media/image39.png" ContentType="image/png"/>
  <Override PartName="/ppt/media/image43.png" ContentType="image/png"/>
  <Override PartName="/ppt/media/image9.gif" ContentType="image/gif"/>
  <Override PartName="/ppt/media/image5.wmf" ContentType="image/x-wmf"/>
  <Override PartName="/ppt/media/image6.jpeg" ContentType="image/jpeg"/>
  <Override PartName="/ppt/media/image29.png" ContentType="image/png"/>
  <Override PartName="/ppt/media/chimes.wav" ContentType="audio/x-wav"/>
  <Override PartName="/ppt/media/image13.gif" ContentType="image/gif"/>
  <Override PartName="/ppt/media/image16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2.png" ContentType="image/png"/>
  <Override PartName="/ppt/media/image42.jpeg" ContentType="image/jpe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132-52BF-43D9-BBD2-E77E1696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77B-C64A-49FD-AF8E-AE5A6BBE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5DB-10B1-4C4B-A3EB-AF130D66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2E5-40D9-4576-8918-11F93D7F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41D-591F-4965-9EE8-D9354415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A6A-EF8A-4A1C-AF96-604CEAD5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8F1-3C2E-4986-81B2-E3C38516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BB5-79D4-4798-9306-C4AB3F17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7E70-11D3-4A50-88AF-3313100B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C966-2A4F-49BE-A830-8A579BF4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D96-F774-4253-9DEB-4C74E538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5904-52CA-49A2-8A4E-1B2460F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BC2F-B5DE-4253-979F-C8827D9D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wallcoo.com/cartoon/good_morning/html/image18.html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hyperlink" Target="http://www.tucoo.com/vector/B_dog/ai/dog035.rar" TargetMode="External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hyperlink" Target="http://www.teachercn.com/xxyw/Html/ydjx" TargetMode="Externa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3.gif"/><Relationship Id="rId21" Type="http://schemas.openxmlformats.org/officeDocument/2006/relationships/image" Target="../media/image13.gif"/><Relationship Id="rId22" Type="http://schemas.openxmlformats.org/officeDocument/2006/relationships/image" Target="../media/image13.gif"/><Relationship Id="rId23" Type="http://schemas.openxmlformats.org/officeDocument/2006/relationships/image" Target="../media/image13.gif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971640" y="2276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2f"/>
                </a:solidFill>
                <a:latin typeface="Arial"/>
                <a:ea typeface="幼圆"/>
              </a:rPr>
              <a:t>25.</a:t>
            </a:r>
            <a:r>
              <a:rPr b="1" lang="zh-CN" sz="6600" spc="-1" strike="noStrike">
                <a:solidFill>
                  <a:srgbClr val="ffff2f"/>
                </a:solidFill>
                <a:latin typeface="Arial"/>
                <a:ea typeface="幼圆"/>
              </a:rPr>
              <a:t>玲玲的画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图片2"/>
          <p:cNvPicPr/>
          <p:nvPr/>
        </p:nvPicPr>
        <p:blipFill>
          <a:blip r:embed="rId2"/>
          <a:stretch/>
        </p:blipFill>
        <p:spPr>
          <a:xfrm>
            <a:off x="4572000" y="836640"/>
            <a:ext cx="761832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图片2"/>
          <p:cNvPicPr/>
          <p:nvPr/>
        </p:nvPicPr>
        <p:blipFill>
          <a:blip r:embed="rId2"/>
          <a:stretch/>
        </p:blipFill>
        <p:spPr>
          <a:xfrm>
            <a:off x="2703600" y="609480"/>
            <a:ext cx="324000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3135240" y="5904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609480" y="1620720"/>
            <a:ext cx="82296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彩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一下掉到了纸上，把画弄脏了。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p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花狗懒洋洋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楼梯上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33520" y="40384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顺口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小喇叭，叭叭叭；小花狗，趴趴趴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2120" y="3959280"/>
            <a:ext cx="441936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 ā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弄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脏</a:t>
            </a:r>
            <a:br>
              <a:rPr sz="3200"/>
            </a:b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à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n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Arial"/>
              </a:rPr>
              <a:t>g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（心脏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2276640"/>
            <a:ext cx="6121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脏    肮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心脏    内脏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42920" y="0"/>
            <a:ext cx="90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狗年春节韩国狗狗矢量图：卡通比格猎犬（比高犬）Beagle - 卡通小狗向量图14"/>
          <p:cNvPicPr/>
          <p:nvPr/>
        </p:nvPicPr>
        <p:blipFill>
          <a:blip r:embed="rId1"/>
          <a:stretch/>
        </p:blipFill>
        <p:spPr>
          <a:xfrm>
            <a:off x="5076720" y="6043680"/>
            <a:ext cx="4067280" cy="1628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0" y="1916280"/>
            <a:ext cx="914400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364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9640" y="1604520"/>
            <a:ext cx="842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好多事情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并不像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我们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想象的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那么糟。只要肯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脑筋，坏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往往能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变成好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事。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250920" y="0"/>
            <a:ext cx="1780920" cy="2089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32000" y="5013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方正卡通简体"/>
                <a:ea typeface="方正卡通简体"/>
              </a:rPr>
              <a:t>我会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 flipV="1">
            <a:off x="1905120" y="1599840"/>
            <a:ext cx="5333760" cy="76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8534520" y="6248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853560" y="2495520"/>
            <a:ext cx="739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地     观察      愉快的     话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     奔跑      灵巧的     双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地     端详      亲切的     节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905120" y="2784600"/>
            <a:ext cx="914400" cy="2209680"/>
            <a:chOff x="1905120" y="2784600"/>
            <a:chExt cx="914400" cy="2209680"/>
          </a:xfrm>
        </p:grpSpPr>
        <p:sp>
          <p:nvSpPr>
            <p:cNvPr id="158" name="Line 6"/>
            <p:cNvSpPr/>
            <p:nvPr/>
          </p:nvSpPr>
          <p:spPr>
            <a:xfrm>
              <a:off x="1905120" y="2784600"/>
              <a:ext cx="914400" cy="2209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905120" y="2784600"/>
              <a:ext cx="91440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72000" y="2708280"/>
            <a:ext cx="360" cy="2514600"/>
            <a:chOff x="4572000" y="2708280"/>
            <a:chExt cx="360" cy="2514600"/>
          </a:xfrm>
        </p:grpSpPr>
        <p:sp>
          <p:nvSpPr>
            <p:cNvPr id="161" name="Line 7"/>
            <p:cNvSpPr/>
            <p:nvPr/>
          </p:nvSpPr>
          <p:spPr>
            <a:xfrm>
              <a:off x="4572000" y="2708280"/>
              <a:ext cx="0" cy="2514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4572000" y="270828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828440" y="3088800"/>
            <a:ext cx="1067040" cy="685800"/>
            <a:chOff x="1828440" y="3088800"/>
            <a:chExt cx="1067040" cy="685800"/>
          </a:xfrm>
        </p:grpSpPr>
        <p:sp>
          <p:nvSpPr>
            <p:cNvPr id="164" name="Line 8"/>
            <p:cNvSpPr/>
            <p:nvPr/>
          </p:nvSpPr>
          <p:spPr>
            <a:xfrm flipV="1">
              <a:off x="1828800" y="3088800"/>
              <a:ext cx="106668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828440" y="3088800"/>
              <a:ext cx="10666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828800" y="4079880"/>
            <a:ext cx="990720" cy="914400"/>
            <a:chOff x="1828800" y="4079880"/>
            <a:chExt cx="990720" cy="914400"/>
          </a:xfrm>
        </p:grpSpPr>
        <p:sp>
          <p:nvSpPr>
            <p:cNvPr id="167" name="Line 9"/>
            <p:cNvSpPr/>
            <p:nvPr/>
          </p:nvSpPr>
          <p:spPr>
            <a:xfrm flipV="1">
              <a:off x="1828800" y="4079880"/>
              <a:ext cx="990720" cy="914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1828800" y="4079880"/>
              <a:ext cx="99072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6629400" y="2784600"/>
            <a:ext cx="990720" cy="2057400"/>
            <a:chOff x="6629400" y="2784600"/>
            <a:chExt cx="990720" cy="2057400"/>
          </a:xfrm>
        </p:grpSpPr>
        <p:sp>
          <p:nvSpPr>
            <p:cNvPr id="170" name="Line 10"/>
            <p:cNvSpPr/>
            <p:nvPr/>
          </p:nvSpPr>
          <p:spPr>
            <a:xfrm>
              <a:off x="6629400" y="278460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629400" y="2784600"/>
              <a:ext cx="99072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29400" y="4003560"/>
            <a:ext cx="990720" cy="360"/>
            <a:chOff x="6629400" y="4003560"/>
            <a:chExt cx="990720" cy="360"/>
          </a:xfrm>
        </p:grpSpPr>
        <p:sp>
          <p:nvSpPr>
            <p:cNvPr id="173" name="Line 11"/>
            <p:cNvSpPr/>
            <p:nvPr/>
          </p:nvSpPr>
          <p:spPr>
            <a:xfrm>
              <a:off x="6629400" y="4003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629400" y="4003560"/>
              <a:ext cx="99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29040" y="3089160"/>
            <a:ext cx="1143360" cy="1905120"/>
            <a:chOff x="6629040" y="3089160"/>
            <a:chExt cx="1143360" cy="1905120"/>
          </a:xfrm>
        </p:grpSpPr>
        <p:sp>
          <p:nvSpPr>
            <p:cNvPr id="176" name="Line 12"/>
            <p:cNvSpPr/>
            <p:nvPr/>
          </p:nvSpPr>
          <p:spPr>
            <a:xfrm flipV="1">
              <a:off x="6629400" y="3089160"/>
              <a:ext cx="1143000" cy="19051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10800000">
              <a:off x="6629040" y="3089160"/>
              <a:ext cx="114300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得意的端详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着幅画明天就要参加评奖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玲玲，时间不早了，快去睡吧！”爸爸又在催她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好的，我把画笔收拾以下就去睡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就在这时候，水彩笔吧的一下掉到了地上，把画弄脏了，玲玲哇地哭了起来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怎么了，孩子？”爸爸防下报纸问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“我的画脏了，另画一张也来不及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仔细地看了看，说：“别哭，孩子。在这儿画点什么，不是很好吗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玲玲想了想，拿起笔，在弄脏的地方画了一只小花狗。小花狗懒洋洋地趴在楼梯上。玲玲满意地笑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爸爸看了，高兴地说：“看到了吧，孩子。好多事情并不像我们想象的那么糟糕。只要肯动脑筋，坏事往往能变好事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第二天的评奖会上，玲玲的画得了一等奖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第二十五课_玲玲的画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22018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5" descr="图片4"/>
          <p:cNvPicPr/>
          <p:nvPr/>
        </p:nvPicPr>
        <p:blipFill>
          <a:blip r:embed="rId1"/>
          <a:stretch/>
        </p:blipFill>
        <p:spPr>
          <a:xfrm>
            <a:off x="324000" y="3500280"/>
            <a:ext cx="3887640" cy="2953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2"/>
          <a:stretch/>
        </p:blipFill>
        <p:spPr>
          <a:xfrm>
            <a:off x="2484360" y="4653000"/>
            <a:ext cx="2160720" cy="151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1"/>
          <p:cNvPicPr/>
          <p:nvPr/>
        </p:nvPicPr>
        <p:blipFill>
          <a:blip r:embed="rId3"/>
          <a:srcRect l="0" t="0" r="21747" b="38976"/>
          <a:stretch/>
        </p:blipFill>
        <p:spPr>
          <a:xfrm>
            <a:off x="2268360" y="476280"/>
            <a:ext cx="439272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图片4"/>
          <p:cNvPicPr/>
          <p:nvPr/>
        </p:nvPicPr>
        <p:blipFill>
          <a:blip r:embed="rId4"/>
          <a:stretch/>
        </p:blipFill>
        <p:spPr>
          <a:xfrm>
            <a:off x="4572000" y="3500280"/>
            <a:ext cx="3816360" cy="2881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1"/>
          <p:cNvSpPr/>
          <p:nvPr/>
        </p:nvSpPr>
        <p:spPr>
          <a:xfrm>
            <a:off x="6588000" y="393372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124000" y="4067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61928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1"/>
          <p:cNvPicPr/>
          <p:nvPr/>
        </p:nvPicPr>
        <p:blipFill>
          <a:blip r:embed="rId1"/>
          <a:stretch/>
        </p:blipFill>
        <p:spPr>
          <a:xfrm>
            <a:off x="-226836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468360" y="5229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7301"/>
                </a:moveTo>
                <a:lnTo>
                  <a:pt x="8986" y="7301"/>
                </a:lnTo>
                <a:lnTo>
                  <a:pt x="9369" y="7667"/>
                </a:lnTo>
                <a:lnTo>
                  <a:pt x="18578" y="7667"/>
                </a:lnTo>
                <a:lnTo>
                  <a:pt x="19135" y="8224"/>
                </a:lnTo>
                <a:lnTo>
                  <a:pt x="19135" y="8772"/>
                </a:lnTo>
                <a:lnTo>
                  <a:pt x="20980" y="8772"/>
                </a:lnTo>
                <a:lnTo>
                  <a:pt x="21346" y="8224"/>
                </a:lnTo>
                <a:lnTo>
                  <a:pt x="22086" y="8224"/>
                </a:lnTo>
                <a:lnTo>
                  <a:pt x="22086" y="13376"/>
                </a:lnTo>
                <a:lnTo>
                  <a:pt x="21346" y="13376"/>
                </a:lnTo>
                <a:lnTo>
                  <a:pt x="20980" y="12828"/>
                </a:lnTo>
                <a:lnTo>
                  <a:pt x="19135" y="12828"/>
                </a:lnTo>
                <a:lnTo>
                  <a:pt x="19135" y="14107"/>
                </a:lnTo>
                <a:lnTo>
                  <a:pt x="9552" y="14107"/>
                </a:lnTo>
                <a:lnTo>
                  <a:pt x="9552" y="9877"/>
                </a:lnTo>
                <a:lnTo>
                  <a:pt x="9369" y="9877"/>
                </a:lnTo>
                <a:lnTo>
                  <a:pt x="8986" y="10243"/>
                </a:lnTo>
                <a:lnTo>
                  <a:pt x="807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346560" y="836640"/>
            <a:ext cx="145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再读课文，想一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60093"/>
                </a:solidFill>
                <a:latin typeface="Arial"/>
              </a:rPr>
              <a:t>课文讲了一件什么事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913480" y="2563560"/>
            <a:ext cx="386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起因：画弄脏，来不及画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过：在弄脏的地方画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只小花狗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果：得了一等奖。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755640" y="105264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玲玲明天要去参加评奖的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不小心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_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 ＿＿＿的帮助下，玲玲在原本脏的地方＿＿＿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在第二天的评奖会上，玲玲的画    ＿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6920" y="162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140360" y="1700280"/>
            <a:ext cx="25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弄脏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826920" y="23493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爸爸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2916360" y="3068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画了一只小花狗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900000" y="443700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得了一等奖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11"/>
          <p:cNvPicPr/>
          <p:nvPr/>
        </p:nvPicPr>
        <p:blipFill>
          <a:blip r:embed="rId1"/>
          <a:stretch/>
        </p:blipFill>
        <p:spPr>
          <a:xfrm>
            <a:off x="-2413080" y="189000"/>
            <a:ext cx="10853640" cy="66690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40000" y="5805360"/>
            <a:ext cx="7199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780408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自读课文，想一想 玲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的心情是怎样变化的？请把代表玲玲心情变化的词语用“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——”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划出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971640" y="1484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4"/>
          <p:cNvPicPr/>
          <p:nvPr/>
        </p:nvPicPr>
        <p:blipFill>
          <a:blip r:embed="rId2"/>
          <a:srcRect l="0" t="0" r="53711" b="0"/>
          <a:stretch/>
        </p:blipFill>
        <p:spPr>
          <a:xfrm>
            <a:off x="5616720" y="1143000"/>
            <a:ext cx="352728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6"/>
          <p:cNvGrpSpPr/>
          <p:nvPr/>
        </p:nvGrpSpPr>
        <p:grpSpPr>
          <a:xfrm>
            <a:off x="1979640" y="1268280"/>
            <a:ext cx="4321080" cy="1798920"/>
            <a:chOff x="1979640" y="1268280"/>
            <a:chExt cx="4321080" cy="1798920"/>
          </a:xfrm>
        </p:grpSpPr>
        <p:sp>
          <p:nvSpPr>
            <p:cNvPr id="50" name="AutoShape 7"/>
            <p:cNvSpPr/>
            <p:nvPr/>
          </p:nvSpPr>
          <p:spPr>
            <a:xfrm>
              <a:off x="1979640" y="1268280"/>
              <a:ext cx="4176720" cy="1798920"/>
            </a:xfrm>
            <a:prstGeom prst="cloudCallout">
              <a:avLst>
                <a:gd name="adj1" fmla="val 73337"/>
                <a:gd name="adj2" fmla="val 84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2340000" y="1484280"/>
              <a:ext cx="396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　  </a:t>
              </a:r>
              <a:r>
                <a:rPr b="1" lang="zh-CN" sz="36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嗨，小朋友们好，我叫玲玲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08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0" y="151128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 玲玲满意地端详着自己画的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家的一角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 就在这时候，水彩笔叭的一下掉到了纸上，把画弄脏了，玲玲哇地哭了起来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"/>
          <p:cNvSpPr/>
          <p:nvPr/>
        </p:nvSpPr>
        <p:spPr>
          <a:xfrm>
            <a:off x="167652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1"/>
          <p:cNvSpPr/>
          <p:nvPr/>
        </p:nvSpPr>
        <p:spPr>
          <a:xfrm>
            <a:off x="2057400" y="205740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3886200" y="35812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25184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68454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2743200" y="6858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描写玲玲心情的词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6"/>
          <p:cNvSpPr/>
          <p:nvPr/>
        </p:nvSpPr>
        <p:spPr>
          <a:xfrm>
            <a:off x="8001000" y="4495680"/>
            <a:ext cx="152280" cy="76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1187280" y="4653000"/>
            <a:ext cx="660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玲开始对自己画的画满意吗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从哪里看出来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395280" y="0"/>
            <a:ext cx="5543640" cy="4437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179280" y="429912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          着自己画的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2700360" y="436572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满意地端详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227640" y="2205000"/>
            <a:ext cx="2665440" cy="1513080"/>
          </a:xfrm>
          <a:prstGeom prst="wedgeRoundRectCallout">
            <a:avLst>
              <a:gd name="adj1" fmla="val -45296"/>
              <a:gd name="adj2" fmla="val 103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了这幅画，玲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端详是什么意思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194000" y="35733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看得仔细、认真就是端详的意思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5" descr=""/>
          <p:cNvPicPr/>
          <p:nvPr/>
        </p:nvPicPr>
        <p:blipFill>
          <a:blip r:embed="rId2"/>
          <a:stretch/>
        </p:blipFill>
        <p:spPr>
          <a:xfrm>
            <a:off x="-2224080" y="2814480"/>
            <a:ext cx="22716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6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2"/>
          <p:cNvPicPr/>
          <p:nvPr/>
        </p:nvPicPr>
        <p:blipFill>
          <a:blip r:embed="rId2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79280" y="429912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玲玲满意地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端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自己画的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家的一角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幅画明天就要参加评奖了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4584240" y="357336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仔细地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4360" y="1413000"/>
            <a:ext cx="774036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q"/>
          <p:cNvPicPr/>
          <p:nvPr/>
        </p:nvPicPr>
        <p:blipFill>
          <a:blip r:embed="rId1"/>
          <a:stretch/>
        </p:blipFill>
        <p:spPr>
          <a:xfrm>
            <a:off x="0" y="18900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0" y="42991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417320" y="5805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17928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179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0" y="4292640"/>
            <a:ext cx="896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脏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948360" y="2421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拟声词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548480" y="29973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用来模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声音的词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2458440" y="40464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833480" y="2492280"/>
            <a:ext cx="5864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   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4"/>
          <p:cNvPicPr/>
          <p:nvPr/>
        </p:nvPicPr>
        <p:blipFill>
          <a:blip r:embed="rId1"/>
          <a:stretch/>
        </p:blipFill>
        <p:spPr>
          <a:xfrm>
            <a:off x="4572000" y="404640"/>
            <a:ext cx="8123400" cy="616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图片2"/>
          <p:cNvPicPr/>
          <p:nvPr/>
        </p:nvPicPr>
        <p:blipFill>
          <a:blip r:embed="rId2"/>
          <a:stretch/>
        </p:blipFill>
        <p:spPr>
          <a:xfrm>
            <a:off x="755640" y="907920"/>
            <a:ext cx="27273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1350360" y="981000"/>
            <a:ext cx="4112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玲 玲</a:t>
            </a:r>
            <a:endParaRPr b="1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61080" y="0"/>
            <a:ext cx="153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íng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409760" y="4653000"/>
            <a:ext cx="1704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小巧玲珑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2862720" y="476280"/>
            <a:ext cx="4021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  啪  哗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26720" y="2387520"/>
            <a:ext cx="387756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   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192120" y="333360"/>
            <a:ext cx="204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2826720" y="2387520"/>
            <a:ext cx="3877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   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3431880" y="69228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3117240" y="33336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12280" y="1989000"/>
            <a:ext cx="29556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嗖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，一支白羽箭射了出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铁门（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哗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拉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老师很生气，把书（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啪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一声合上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503160" y="404640"/>
            <a:ext cx="313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嗖    啪    哗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3"/>
          <p:cNvPicPr/>
          <p:nvPr/>
        </p:nvPicPr>
        <p:blipFill>
          <a:blip r:embed="rId2"/>
          <a:srcRect l="14567" t="16412" r="14567" b="15366"/>
          <a:stretch/>
        </p:blipFill>
        <p:spPr>
          <a:xfrm>
            <a:off x="0" y="0"/>
            <a:ext cx="6840360" cy="42210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79280" y="429264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这时候，水彩笔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叭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下掉到了纸上，把画弄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，玲玲哇地哭了起来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88240" y="1700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脏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596360" y="1557360"/>
            <a:ext cx="144360" cy="1490760"/>
          </a:xfrm>
          <a:custGeom>
            <a:avLst/>
            <a:gdLst>
              <a:gd name="textAreaLeft" fmla="*/ 92160 w 144360"/>
              <a:gd name="textAreaRight" fmla="*/ 144360 w 144360"/>
              <a:gd name="textAreaTop" fmla="*/ 38520 h 1490760"/>
              <a:gd name="textAreaBottom" fmla="*/ 1452240 h 149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7731000" y="126828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ā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7793280" y="2556000"/>
            <a:ext cx="12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à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623960" y="549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爸爸</a:t>
            </a: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仔细地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了看，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：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别哭，孩子。在这儿画点儿什么，不是很好吗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29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914400" y="3413160"/>
            <a:ext cx="5334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仔细的近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认真      细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4800600" y="342900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反义词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马虎       粗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05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爸爸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仔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看了看，说：“别哭，孩子。在这儿画点儿什么，不是很好吗？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14400" y="3413160"/>
            <a:ext cx="6629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不是很好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这儿画点儿什么，很好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067840" y="90792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玲玲这回满意了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玲玲想了想，拿起笔，在弄脏的地方画了一只小花狗。小花狗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韩国插画壁纸 17 - [wallcoo.com]_child_illustration_023c0317.jpg">
            <a:hlinkClick r:id="rId1"/>
          </p:cNvPr>
          <p:cNvPicPr/>
          <p:nvPr/>
        </p:nvPicPr>
        <p:blipFill>
          <a:blip r:embed="rId2"/>
          <a:srcRect l="0" t="0" r="0" b="48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tzg"/>
          <p:cNvPicPr/>
          <p:nvPr/>
        </p:nvPicPr>
        <p:blipFill>
          <a:blip r:embed="rId3"/>
          <a:stretch/>
        </p:blipFill>
        <p:spPr>
          <a:xfrm>
            <a:off x="1258920" y="1413000"/>
            <a:ext cx="2990880" cy="3240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tzg"/>
          <p:cNvPicPr/>
          <p:nvPr/>
        </p:nvPicPr>
        <p:blipFill>
          <a:blip r:embed="rId4"/>
          <a:stretch/>
        </p:blipFill>
        <p:spPr>
          <a:xfrm>
            <a:off x="4788000" y="1413000"/>
            <a:ext cx="2990880" cy="3240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71720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楼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462280" y="1197000"/>
            <a:ext cx="176580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楷体_GB2312"/>
              </a:rPr>
              <a:t>梯</a:t>
            </a:r>
            <a:endParaRPr b="1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7" descr="台湾矢量卡通图库 - 趣味动物篇 - 卡通狗图片 - 卡通狗向量图3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62880" y="4869000"/>
            <a:ext cx="1581120" cy="198900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8"/>
          <p:cNvSpPr/>
          <p:nvPr/>
        </p:nvSpPr>
        <p:spPr>
          <a:xfrm>
            <a:off x="468360" y="494172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楼   楼房       木梯  梯子  云梯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349360"/>
            <a:ext cx="864216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脏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评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楼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-252360" y="17002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 z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          j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47640" y="307008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ā                zāo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187280" y="429264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ff00ff"/>
                </a:solidFill>
                <a:latin typeface="Arial"/>
              </a:rPr>
              <a:t>　　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ú                          j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1258920" y="3645000"/>
            <a:ext cx="78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催 促   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声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糕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971640" y="4844880"/>
            <a:ext cx="8172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  动脑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筋   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419640" y="404640"/>
            <a:ext cx="194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心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脏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小花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仿宋_GB2312"/>
              </a:rPr>
              <a:t>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懒洋洋地趴在楼梯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250920" y="0"/>
            <a:ext cx="8208720" cy="461016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玲玲                 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306520" y="55166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满意地笑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111c38f4698"/>
          <p:cNvPicPr/>
          <p:nvPr/>
        </p:nvPicPr>
        <p:blipFill>
          <a:blip r:embed="rId1"/>
          <a:stretch/>
        </p:blipFill>
        <p:spPr>
          <a:xfrm>
            <a:off x="1979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111c38f4698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111c38f4698"/>
          <p:cNvPicPr/>
          <p:nvPr/>
        </p:nvPicPr>
        <p:blipFill>
          <a:blip r:embed="rId1"/>
          <a:stretch/>
        </p:blipFill>
        <p:spPr>
          <a:xfrm>
            <a:off x="0" y="0"/>
            <a:ext cx="2627280" cy="68580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4009320" y="260280"/>
            <a:ext cx="3884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犬字为部首的字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名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狗、狐狸、狼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猫、猪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表示兽性的：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狠、狂、猛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337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57200" y="1905120"/>
            <a:ext cx="8229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玲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想了想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拿起笔，在弄脏的地方画了一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小花狗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小花狗懒洋洋地趴在楼梯上。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5800" y="4114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因为画上小狗后，这幅画变得</a:t>
            </a:r>
            <a:r>
              <a:rPr b="1" lang="zh-CN" sz="3200" spc="-1" strike="noStrike" u="sng">
                <a:solidFill>
                  <a:srgbClr val="ff00ff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，所以玲玲满意地笑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5"/>
          <p:cNvSpPr/>
          <p:nvPr/>
        </p:nvSpPr>
        <p:spPr>
          <a:xfrm>
            <a:off x="395280" y="465300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小花狗懒洋洋地趴在楼梯上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324000" y="5589720"/>
            <a:ext cx="9144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4000" y="25675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玲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想了想，拿起笔，在弄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的地方画了一只小花狗。小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狗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懒洋洋地趴在楼梯上。玲玲满意地笑了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203640" y="2637000"/>
            <a:ext cx="2160360" cy="360"/>
            <a:chOff x="3203640" y="2637000"/>
            <a:chExt cx="2160360" cy="360"/>
          </a:xfrm>
        </p:grpSpPr>
        <p:sp>
          <p:nvSpPr>
            <p:cNvPr id="350" name="Line 3"/>
            <p:cNvSpPr/>
            <p:nvPr/>
          </p:nvSpPr>
          <p:spPr>
            <a:xfrm>
              <a:off x="3203640" y="2637000"/>
              <a:ext cx="21603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3203640" y="263700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4"/>
          <p:cNvSpPr/>
          <p:nvPr/>
        </p:nvSpPr>
        <p:spPr>
          <a:xfrm>
            <a:off x="3780000" y="0"/>
            <a:ext cx="4895640" cy="1700280"/>
          </a:xfrm>
          <a:prstGeom prst="wedgeEllipseCallout">
            <a:avLst>
              <a:gd name="adj1" fmla="val -45685"/>
              <a:gd name="adj2" fmla="val 643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玲玲会想些什么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6227640" y="5345280"/>
            <a:ext cx="2665440" cy="1512720"/>
          </a:xfrm>
          <a:prstGeom prst="wedgeRoundRectCallout">
            <a:avLst>
              <a:gd name="adj1" fmla="val -69893"/>
              <a:gd name="adj2" fmla="val -4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除了画小花狗，还可画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468360" y="14911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      看了看，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哭，孩子。在这儿画点儿什么，不是很好吗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3574080" y="11653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地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332000" y="458136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觉得这时一位怎样的爸爸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1476360" y="3500280"/>
            <a:ext cx="6408720" cy="90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爸爸为什么不直接告诉玲玲？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1589040" y="33336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玲玲，时间不早了，快去睡吧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221640" y="160020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铃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好的，我把画笔收拾一下就去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872280" y="2924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怎么了，孩子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3450960" y="4191120"/>
            <a:ext cx="24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玲玲：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黑体"/>
              </a:rPr>
              <a:t>我的画脏了，另画一张也来不及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0" y="5257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爸：“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别哭，孩子。在这儿画点儿什么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黑体"/>
              </a:rPr>
              <a:t>不是很好吗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0" y="0"/>
            <a:ext cx="885672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端详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468360" y="48466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花狗懒洋洋地趴在楼梯上。玲玲</a:t>
            </a:r>
            <a:r>
              <a:rPr b="1" lang="zh-CN" sz="5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满意地笑了</a:t>
            </a:r>
            <a:r>
              <a:rPr b="1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0" y="256536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叭的一下掉到了纸上，把画弄脏了，玲玲                         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1417320" y="40719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图片2"/>
          <p:cNvPicPr/>
          <p:nvPr/>
        </p:nvPicPr>
        <p:blipFill>
          <a:blip r:embed="rId2"/>
          <a:stretch/>
        </p:blipFill>
        <p:spPr>
          <a:xfrm>
            <a:off x="324000" y="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684360" y="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01480" y="1413000"/>
            <a:ext cx="86425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脏  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奖   楼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梯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催     促    叭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筋     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971640" y="4844880"/>
            <a:ext cx="81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FR_008"/>
          <p:cNvPicPr/>
          <p:nvPr/>
        </p:nvPicPr>
        <p:blipFill>
          <a:blip r:embed="rId1"/>
          <a:stretch/>
        </p:blipFill>
        <p:spPr>
          <a:xfrm>
            <a:off x="-1219320" y="-1523880"/>
            <a:ext cx="10896840" cy="100584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3"/>
          <p:cNvSpPr/>
          <p:nvPr/>
        </p:nvSpPr>
        <p:spPr>
          <a:xfrm>
            <a:off x="1395360" y="476280"/>
            <a:ext cx="55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爸爸看了，高兴地说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看到了吧，孩子。好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事情并不像我们想象的那么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</a:rPr>
              <a:t>糟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。只要肯动脑筋，坏事往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往能变成好事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〖脑〗"/>
          <p:cNvPicPr/>
          <p:nvPr/>
        </p:nvPicPr>
        <p:blipFill>
          <a:blip r:embed="rId1"/>
          <a:stretch/>
        </p:blipFill>
        <p:spPr>
          <a:xfrm>
            <a:off x="0" y="476280"/>
            <a:ext cx="4518000" cy="6381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〖筋〗"/>
          <p:cNvPicPr/>
          <p:nvPr/>
        </p:nvPicPr>
        <p:blipFill>
          <a:blip r:embed="rId2"/>
          <a:stretch/>
        </p:blipFill>
        <p:spPr>
          <a:xfrm>
            <a:off x="4500720" y="476280"/>
            <a:ext cx="4643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179280" y="1717200"/>
            <a:ext cx="882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看了，高兴地说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到了吧，好多事情并不像我们想象的那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糟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只要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脑筋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。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2800800" y="4796640"/>
            <a:ext cx="42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这里的坏事指什么？好事呢？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5724360" y="2492280"/>
            <a:ext cx="1944720" cy="79236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755640" y="566100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你找到做好事的秘诀了吗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3"/>
          <p:cNvSpPr/>
          <p:nvPr/>
        </p:nvSpPr>
        <p:spPr>
          <a:xfrm>
            <a:off x="7885080" y="6524640"/>
            <a:ext cx="142920" cy="21744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217440"/>
              <a:gd name="textAreaBottom" fmla="*/ 208440 h 217440"/>
            </a:gdLst>
            <a:ahLst/>
            <a:rect l="textAreaLeft" t="textAreaTop" r="textAreaRight" b="textAreaBottom"/>
            <a:pathLst>
              <a:path w="21600" h="32834">
                <a:moveTo>
                  <a:pt x="0" y="0"/>
                </a:moveTo>
                <a:lnTo>
                  <a:pt x="21600" y="0"/>
                </a:lnTo>
                <a:lnTo>
                  <a:pt x="21600" y="32834"/>
                </a:lnTo>
                <a:lnTo>
                  <a:pt x="0" y="32834"/>
                </a:lnTo>
                <a:close/>
              </a:path>
              <a:path fill="lightenLess" w="21600" h="32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834">
                <a:moveTo>
                  <a:pt x="21600" y="0"/>
                </a:moveTo>
                <a:lnTo>
                  <a:pt x="21600" y="32834"/>
                </a:lnTo>
                <a:lnTo>
                  <a:pt x="20200" y="31434"/>
                </a:lnTo>
                <a:lnTo>
                  <a:pt x="20200" y="1400"/>
                </a:lnTo>
                <a:close/>
              </a:path>
              <a:path fill="darkenLess" w="21600" h="32834">
                <a:moveTo>
                  <a:pt x="21600" y="32834"/>
                </a:moveTo>
                <a:lnTo>
                  <a:pt x="0" y="32834"/>
                </a:lnTo>
                <a:lnTo>
                  <a:pt x="1400" y="31434"/>
                </a:lnTo>
                <a:lnTo>
                  <a:pt x="20200" y="31434"/>
                </a:lnTo>
                <a:close/>
              </a:path>
              <a:path fill="lighten" w="21600" h="32834">
                <a:moveTo>
                  <a:pt x="0" y="32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31434"/>
                </a:lnTo>
                <a:close/>
              </a:path>
              <a:path fill="darken" w="21600" h="32834">
                <a:moveTo>
                  <a:pt x="3794" y="9411"/>
                </a:moveTo>
                <a:lnTo>
                  <a:pt x="17806" y="16417"/>
                </a:lnTo>
                <a:lnTo>
                  <a:pt x="3794" y="234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994680" y="533520"/>
            <a:ext cx="7386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在生活中我们遇到事情办得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糟糕的时候，我们不能惊慌失措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要沉着冷静，开动脑筋想一想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补的办法。我们不能把一些暫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没有做好或者不小心做错的事情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都看成是坏事情，因为好坏是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imes New Roman"/>
                <a:ea typeface="黑体"/>
              </a:rPr>
              <a:t>以转变的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获奖"/>
          <p:cNvPicPr/>
          <p:nvPr/>
        </p:nvPicPr>
        <p:blipFill>
          <a:blip r:embed="rId1"/>
          <a:srcRect l="1561" t="0" r="3126" b="6250"/>
          <a:stretch/>
        </p:blipFill>
        <p:spPr>
          <a:xfrm>
            <a:off x="250920" y="0"/>
            <a:ext cx="8686800" cy="623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20090727_0b8d8b36fdbd62940415hnOjnzZK8HOe"/>
          <p:cNvPicPr/>
          <p:nvPr/>
        </p:nvPicPr>
        <p:blipFill>
          <a:blip r:embed="rId1"/>
          <a:stretch/>
        </p:blipFill>
        <p:spPr>
          <a:xfrm rot="19968000">
            <a:off x="323640" y="475920"/>
            <a:ext cx="2592360" cy="20160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2073-s"/>
          <p:cNvPicPr/>
          <p:nvPr/>
        </p:nvPicPr>
        <p:blipFill>
          <a:blip r:embed="rId2"/>
          <a:stretch/>
        </p:blipFill>
        <p:spPr>
          <a:xfrm rot="1003800">
            <a:off x="3131640" y="549000"/>
            <a:ext cx="1944720" cy="27684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4682284_064541796259_2"/>
          <p:cNvPicPr/>
          <p:nvPr/>
        </p:nvPicPr>
        <p:blipFill>
          <a:blip r:embed="rId3"/>
          <a:stretch/>
        </p:blipFill>
        <p:spPr>
          <a:xfrm>
            <a:off x="1476360" y="2781360"/>
            <a:ext cx="2262240" cy="252072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5540400" y="22050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奖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7093080" y="981000"/>
            <a:ext cx="1409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状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杯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获奖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奖励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8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xiá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     f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ú         jiǎ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cu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ī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bā             zān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  <a:ea typeface="Arial"/>
              </a:rPr>
              <a:t>g  k</a:t>
            </a: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ěn           jī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Sunset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3"/>
          <p:cNvSpPr/>
          <p:nvPr/>
        </p:nvSpPr>
        <p:spPr>
          <a:xfrm>
            <a:off x="533520" y="1143000"/>
            <a:ext cx="830556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日积月累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   懒洋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趴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   高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意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详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图片2"/>
          <p:cNvPicPr/>
          <p:nvPr/>
        </p:nvPicPr>
        <p:blipFill>
          <a:blip r:embed="rId2"/>
          <a:stretch/>
        </p:blipFill>
        <p:spPr>
          <a:xfrm>
            <a:off x="2779560" y="503280"/>
            <a:ext cx="3240360" cy="7920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3154320" y="5335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609480" y="3701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画得奖了，玲玲真是</a:t>
            </a:r>
            <a:r>
              <a:rPr b="1" lang="zh-CN" sz="3600" spc="-1" strike="noStrike" u="sng">
                <a:solidFill>
                  <a:srgbClr val="ff00ff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0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1"/>
          <p:cNvSpPr/>
          <p:nvPr/>
        </p:nvSpPr>
        <p:spPr>
          <a:xfrm>
            <a:off x="38088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开心极了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神采飞扬   洋洋得意  喜形于色喜笑颜开  大喜过望   喜颜悦色  喜逐颜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说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414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AutoShape 13"/>
          <p:cNvSpPr/>
          <p:nvPr/>
        </p:nvSpPr>
        <p:spPr>
          <a:xfrm>
            <a:off x="7812000" y="6093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533520" y="21024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的爸爸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玲玲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对自己说：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324000" y="260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1564200" y="1844640"/>
            <a:ext cx="60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样的事我也遇到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4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10"/>
          <p:cNvSpPr/>
          <p:nvPr/>
        </p:nvSpPr>
        <p:spPr>
          <a:xfrm>
            <a:off x="1332000" y="198900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今后，如果遇到类似的事情，你会怎么做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09480" y="12952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说一说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你遇到过这样的事吗？以后遇到这样的事你会怎么做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609480" y="327960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课的时候，新买的裙子不小心被钉子钩破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美术课下课铃响了，就在这时你的画不小心弄脏了。如太阳上有了黑点，草地上染上了红颜料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、我和小朋友在家里玩过家家的时候，不小心把水洒了一地。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/>
          <p:cNvSpPr/>
          <p:nvPr/>
        </p:nvSpPr>
        <p:spPr>
          <a:xfrm>
            <a:off x="468360" y="260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836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有些事真有意思！要是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肯动脑筋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坏事往往能变成好事；要是肯动脑筋，看来不可能办成的事也能办成。碰到问题，我们要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认真想想，找到解决问题的办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个善于思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好孩子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4387680" y="0"/>
            <a:ext cx="55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上无难事，只怕有心人。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906120" cy="742968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3"/>
          <p:cNvSpPr/>
          <p:nvPr/>
        </p:nvSpPr>
        <p:spPr>
          <a:xfrm>
            <a:off x="1508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0" y="914400"/>
            <a:ext cx="8839080" cy="2599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阅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线：                         </a:t>
            </a:r>
            <a:r>
              <a:rPr b="1" lang="zh-CN" sz="1800" spc="-1" strike="noStrike">
                <a:solidFill>
                  <a:srgbClr val="464646"/>
                </a:solidFill>
                <a:latin typeface="宋体"/>
              </a:rPr>
              <a:t>国王和大臣的故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位乐观而有智慧的大臣，发生什么坏事，都说：这是一件好事。国王很宠信他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一天，国王出猎，围捕野兽时，不慎弄断了一只手指。他不但感到懊丧和疼痛，还怀疑这是不是什么不吉的先兆。于是，询问这大臣。大臣说：不必为此烦恼，这是一件好事！国王听了大怒，觉得他幸灾乐祸，立即下令把他关进监狱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过了一段时间，国王手上的伤口癒合了，又再出猎。这一次，他误出国境，中了野人的埋伏，被捕了。按野人的惯例，要把被捕者的首领杀了来祭神。看来，国王难逃被杀的命运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 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他被押上了祭坛，由巫师主持祭奠仪式。巫师忽然大叫起来：这个人不能用来做祭品！原来他发现国王缺了一只手指，因用残缺的人来做祭品，是对神不敬，神会降祸谴责。结果，用了另一被捕的大臣，代替了国王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被释放了，狼狈地逃回王宫。他想起了那位乐观而有智慧的大臣，曾说：他失去了一只手指，是一件好事；这一次，不是因为失去了一只手指，让自己捡回了性命吗？心里对这位大臣很是抱歉，立即下令把他放出监狱，并设宴款待，向他谢罪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不但原谅了国王，还说：我被关进了监狱，这是一件好事呀！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国王听了，莫名其妙。</a:t>
            </a:r>
            <a:br>
              <a:rPr sz="1800"/>
            </a:br>
            <a:r>
              <a:rPr b="0" lang="zh-CN" sz="1800" spc="-1" strike="noStrike">
                <a:solidFill>
                  <a:srgbClr val="333333"/>
                </a:solidFill>
                <a:latin typeface="Tahoma"/>
                <a:ea typeface="Tahoma"/>
              </a:rPr>
              <a:t>  </a:t>
            </a:r>
            <a:r>
              <a:rPr b="0" lang="zh-CN" sz="1800" spc="-1" strike="noStrike">
                <a:solidFill>
                  <a:srgbClr val="464646"/>
                </a:solidFill>
                <a:latin typeface="宋体"/>
              </a:rPr>
              <a:t> </a:t>
            </a:r>
            <a:r>
              <a:rPr b="0" lang="zh-CN" sz="1800" spc="-1" strike="noStrike">
                <a:solidFill>
                  <a:srgbClr val="333333"/>
                </a:solidFill>
                <a:latin typeface="Tahoma"/>
              </a:rPr>
              <a:t>大臣解释说：假如我不是被关进监狱，这次也一定随伴你出猎，也同时被捕。那么，代替你作为祭品的，也一定是我。我因在监狱，不致于成为祭品，这岂不是好事吗？国王恍然大悟，觉得他说得不错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0" y="-245880"/>
            <a:ext cx="9396360" cy="76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名人名言：</a:t>
            </a:r>
            <a:r>
              <a:rPr b="0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能思考的人，才是一个力量无边的人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法 巴尔扎克）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学会思考，不要一碰到困难就向别人伸手。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美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因斯坦）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图片2"/>
          <p:cNvPicPr/>
          <p:nvPr/>
        </p:nvPicPr>
        <p:blipFill>
          <a:blip r:embed="rId2"/>
          <a:stretch/>
        </p:blipFill>
        <p:spPr>
          <a:xfrm>
            <a:off x="3160800" y="5796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3703680" y="5540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91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762120" y="1752480"/>
            <a:ext cx="7772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端详       一幅       评奖      催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叭叭响    弄脏      肯定        脑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年级语文教材及辅导用书购买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s://shop59953300.taobao.com/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ww.51zj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图片2"/>
          <p:cNvPicPr/>
          <p:nvPr/>
        </p:nvPicPr>
        <p:blipFill>
          <a:blip r:embed="rId2"/>
          <a:stretch/>
        </p:blipFill>
        <p:spPr>
          <a:xfrm>
            <a:off x="2932200" y="457200"/>
            <a:ext cx="3240000" cy="79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3429000" y="4572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2f"/>
                </a:solidFill>
                <a:latin typeface="Arial"/>
                <a:ea typeface="华文新魏"/>
              </a:rPr>
              <a:t>我会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35120" y="386712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7"/>
          <p:cNvGrpSpPr/>
          <p:nvPr/>
        </p:nvGrpSpPr>
        <p:grpSpPr>
          <a:xfrm>
            <a:off x="2050920" y="1844640"/>
            <a:ext cx="7991280" cy="2816280"/>
            <a:chOff x="2050920" y="1844640"/>
            <a:chExt cx="7991280" cy="2816280"/>
          </a:xfrm>
        </p:grpSpPr>
        <p:sp>
          <p:nvSpPr>
            <p:cNvPr id="100" name="Text Box 8"/>
            <p:cNvSpPr/>
            <p:nvPr/>
          </p:nvSpPr>
          <p:spPr>
            <a:xfrm>
              <a:off x="2050920" y="1844640"/>
              <a:ext cx="799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2698560" y="3141720"/>
              <a:ext cx="47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2914200" y="4292640"/>
              <a:ext cx="612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ff00ff"/>
                  </a:solidFill>
                  <a:latin typeface="Arial"/>
                </a:rPr>
                <a:t>　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0"/>
          <p:cNvSpPr/>
          <p:nvPr/>
        </p:nvSpPr>
        <p:spPr>
          <a:xfrm>
            <a:off x="838080" y="2971800"/>
            <a:ext cx="655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肯        脑       筋 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85800" y="175248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月”字的不同写法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%5Bwallco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24000" y="333360"/>
            <a:ext cx="8496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肯定   端详   催促     评奖   弄脏   楼梯 叭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   脑筋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幅画   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懒洋洋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300720" y="5157720"/>
            <a:ext cx="25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Arial"/>
                <a:ea typeface="隶书"/>
              </a:rPr>
              <a:t>我会读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鸟"/>
          <p:cNvPicPr/>
          <p:nvPr/>
        </p:nvPicPr>
        <p:blipFill>
          <a:blip r:embed="rId2"/>
          <a:stretch/>
        </p:blipFill>
        <p:spPr>
          <a:xfrm>
            <a:off x="4932360" y="3421080"/>
            <a:ext cx="1811520" cy="9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蝴蝶"/>
          <p:cNvPicPr/>
          <p:nvPr/>
        </p:nvPicPr>
        <p:blipFill>
          <a:blip r:embed="rId3"/>
          <a:stretch/>
        </p:blipFill>
        <p:spPr>
          <a:xfrm>
            <a:off x="7524720" y="407844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星05"/>
          <p:cNvPicPr/>
          <p:nvPr/>
        </p:nvPicPr>
        <p:blipFill>
          <a:blip r:embed="rId4"/>
          <a:stretch/>
        </p:blipFill>
        <p:spPr>
          <a:xfrm>
            <a:off x="6588000" y="378936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星05"/>
          <p:cNvPicPr/>
          <p:nvPr/>
        </p:nvPicPr>
        <p:blipFill>
          <a:blip r:embed="rId5"/>
          <a:stretch/>
        </p:blipFill>
        <p:spPr>
          <a:xfrm>
            <a:off x="6156360" y="4149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星05"/>
          <p:cNvPicPr/>
          <p:nvPr/>
        </p:nvPicPr>
        <p:blipFill>
          <a:blip r:embed="rId6"/>
          <a:stretch/>
        </p:blipFill>
        <p:spPr>
          <a:xfrm>
            <a:off x="7524720" y="357336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星05"/>
          <p:cNvPicPr/>
          <p:nvPr/>
        </p:nvPicPr>
        <p:blipFill>
          <a:blip r:embed="rId7"/>
          <a:stretch/>
        </p:blipFill>
        <p:spPr>
          <a:xfrm>
            <a:off x="6948360" y="4365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星05"/>
          <p:cNvPicPr/>
          <p:nvPr/>
        </p:nvPicPr>
        <p:blipFill>
          <a:blip r:embed="rId8"/>
          <a:stretch/>
        </p:blipFill>
        <p:spPr>
          <a:xfrm>
            <a:off x="831708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星05"/>
          <p:cNvPicPr/>
          <p:nvPr/>
        </p:nvPicPr>
        <p:blipFill>
          <a:blip r:embed="rId9"/>
          <a:stretch/>
        </p:blipFill>
        <p:spPr>
          <a:xfrm>
            <a:off x="6948360" y="335772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星05"/>
          <p:cNvPicPr/>
          <p:nvPr/>
        </p:nvPicPr>
        <p:blipFill>
          <a:blip r:embed="rId10"/>
          <a:stretch/>
        </p:blipFill>
        <p:spPr>
          <a:xfrm>
            <a:off x="601200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星05"/>
          <p:cNvPicPr/>
          <p:nvPr/>
        </p:nvPicPr>
        <p:blipFill>
          <a:blip r:embed="rId11"/>
          <a:stretch/>
        </p:blipFill>
        <p:spPr>
          <a:xfrm>
            <a:off x="7093080" y="5013360"/>
            <a:ext cx="863640" cy="293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星05"/>
          <p:cNvPicPr/>
          <p:nvPr/>
        </p:nvPicPr>
        <p:blipFill>
          <a:blip r:embed="rId12"/>
          <a:stretch/>
        </p:blipFill>
        <p:spPr>
          <a:xfrm>
            <a:off x="7956720" y="350028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星05"/>
          <p:cNvPicPr/>
          <p:nvPr/>
        </p:nvPicPr>
        <p:blipFill>
          <a:blip r:embed="rId13"/>
          <a:stretch/>
        </p:blipFill>
        <p:spPr>
          <a:xfrm>
            <a:off x="8172360" y="4292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星05"/>
          <p:cNvPicPr/>
          <p:nvPr/>
        </p:nvPicPr>
        <p:blipFill>
          <a:blip r:embed="rId14"/>
          <a:stretch/>
        </p:blipFill>
        <p:spPr>
          <a:xfrm>
            <a:off x="7164360" y="378936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8" descr="星05"/>
          <p:cNvPicPr/>
          <p:nvPr/>
        </p:nvPicPr>
        <p:blipFill>
          <a:blip r:embed="rId15"/>
          <a:stretch/>
        </p:blipFill>
        <p:spPr>
          <a:xfrm>
            <a:off x="6443640" y="328464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9" descr="星05"/>
          <p:cNvPicPr/>
          <p:nvPr/>
        </p:nvPicPr>
        <p:blipFill>
          <a:blip r:embed="rId16"/>
          <a:stretch/>
        </p:blipFill>
        <p:spPr>
          <a:xfrm>
            <a:off x="5940360" y="43657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0" descr="星05"/>
          <p:cNvPicPr/>
          <p:nvPr/>
        </p:nvPicPr>
        <p:blipFill>
          <a:blip r:embed="rId17"/>
          <a:stretch/>
        </p:blipFill>
        <p:spPr>
          <a:xfrm>
            <a:off x="6372360" y="5950080"/>
            <a:ext cx="863640" cy="29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1" descr="星02"/>
          <p:cNvPicPr/>
          <p:nvPr/>
        </p:nvPicPr>
        <p:blipFill>
          <a:blip r:embed="rId18"/>
          <a:stretch/>
        </p:blipFill>
        <p:spPr>
          <a:xfrm>
            <a:off x="7885080" y="595008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2" descr="星02"/>
          <p:cNvPicPr/>
          <p:nvPr/>
        </p:nvPicPr>
        <p:blipFill>
          <a:blip r:embed="rId19"/>
          <a:stretch/>
        </p:blipFill>
        <p:spPr>
          <a:xfrm>
            <a:off x="0" y="765000"/>
            <a:ext cx="365040" cy="365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3" descr="星03"/>
          <p:cNvPicPr/>
          <p:nvPr/>
        </p:nvPicPr>
        <p:blipFill>
          <a:blip r:embed="rId20"/>
          <a:stretch/>
        </p:blipFill>
        <p:spPr>
          <a:xfrm flipH="1" rot="10800000">
            <a:off x="5651640" y="436536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星03"/>
          <p:cNvPicPr/>
          <p:nvPr/>
        </p:nvPicPr>
        <p:blipFill>
          <a:blip r:embed="rId21"/>
          <a:stretch/>
        </p:blipFill>
        <p:spPr>
          <a:xfrm flipH="1" rot="10800000">
            <a:off x="6372360" y="4581000"/>
            <a:ext cx="33156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5" descr="星03"/>
          <p:cNvPicPr/>
          <p:nvPr/>
        </p:nvPicPr>
        <p:blipFill>
          <a:blip r:embed="rId22"/>
          <a:stretch/>
        </p:blipFill>
        <p:spPr>
          <a:xfrm flipH="1" rot="10800000">
            <a:off x="8028000" y="400500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星03"/>
          <p:cNvPicPr/>
          <p:nvPr/>
        </p:nvPicPr>
        <p:blipFill>
          <a:blip r:embed="rId23"/>
          <a:stretch/>
        </p:blipFill>
        <p:spPr>
          <a:xfrm flipH="1" rot="10800000">
            <a:off x="6948360" y="465264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7" descr="星03"/>
          <p:cNvPicPr/>
          <p:nvPr/>
        </p:nvPicPr>
        <p:blipFill>
          <a:blip r:embed="rId24"/>
          <a:stretch/>
        </p:blipFill>
        <p:spPr>
          <a:xfrm flipH="1" rot="10800000">
            <a:off x="6588000" y="5157360"/>
            <a:ext cx="331920" cy="22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星03"/>
          <p:cNvPicPr/>
          <p:nvPr/>
        </p:nvPicPr>
        <p:blipFill>
          <a:blip r:embed="rId25"/>
          <a:stretch/>
        </p:blipFill>
        <p:spPr>
          <a:xfrm flipH="1" rot="10800000">
            <a:off x="6732720" y="3573000"/>
            <a:ext cx="3315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2:53:22Z</dcterms:created>
  <dc:creator>User</dc:creator>
  <dc:description/>
  <dc:language>en-US</dc:language>
  <cp:lastModifiedBy>admin</cp:lastModifiedBy>
  <dcterms:modified xsi:type="dcterms:W3CDTF">2016-01-08T08:52:53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