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4.wmf" ContentType="image/x-wmf"/>
  <Override PartName="/ppt/media/image23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.png" ContentType="image/png"/>
  <Override PartName="/ppt/media/image10.gif" ContentType="image/gif"/>
  <Override PartName="/ppt/media/image12.gif" ContentType="image/gif"/>
  <Override PartName="/ppt/media/image37.jpeg" ContentType="image/jpeg"/>
  <Override PartName="/ppt/media/image3.jpeg" ContentType="image/jpeg"/>
  <Override PartName="/ppt/media/image30.png" ContentType="image/png"/>
  <Override PartName="/ppt/media/image35.jpeg" ContentType="image/jpeg"/>
  <Override PartName="/ppt/media/image8.jpeg" ContentType="image/jpeg"/>
  <Override PartName="/ppt/media/image38.jpeg" ContentType="image/jpeg"/>
  <Override PartName="/ppt/media/image40.jpeg" ContentType="image/jpeg"/>
  <Override PartName="/ppt/media/image11.gif" ContentType="image/gif"/>
  <Override PartName="/ppt/media/image39.png" ContentType="image/png"/>
  <Override PartName="/ppt/media/image43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29.png" ContentType="image/png"/>
  <Override PartName="/ppt/media/chimes.wav" ContentType="audio/x-wav"/>
  <Override PartName="/ppt/media/image13.gif" ContentType="image/gif"/>
  <Override PartName="/ppt/media/image16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42.jpeg" ContentType="image/jpe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453-5157-485F-9C47-4C61FD1E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23E-C199-4F6F-A35F-6A93D59C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994-0F93-404C-97FA-DA309D05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F6E-2B1E-4471-ADA9-A6DA8DD2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CA3-1890-43A7-A119-AF2D93D9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B1F-DFD9-4F1D-887E-81496E3A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515-4705-4575-A5CD-E91AA41F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210-473C-4E08-8D76-040B689B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EB2-CC4D-4EB7-AE84-977F3743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A3E-F4B2-4F2C-AAE0-C9188F17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40E-B00A-4D7E-B1A2-0B3974D4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8261-76D9-4FC2-B5AC-8F7BB700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4148-87FC-42D1-BC93-F7AA3FA31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hyperlink" Target="http://www.teachercn.com/xxyw/Html/ydjx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71640" y="2276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2f"/>
                </a:solidFill>
                <a:latin typeface="Arial"/>
                <a:ea typeface="幼圆"/>
              </a:rPr>
              <a:t>25.</a:t>
            </a:r>
            <a:r>
              <a:rPr b="1" lang="zh-CN" sz="66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图片2"/>
          <p:cNvPicPr/>
          <p:nvPr/>
        </p:nvPicPr>
        <p:blipFill>
          <a:blip r:embed="rId2"/>
          <a:stretch/>
        </p:blipFill>
        <p:spPr>
          <a:xfrm>
            <a:off x="2703600" y="609480"/>
            <a:ext cx="324000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135240" y="5904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09480" y="1620720"/>
            <a:ext cx="822960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彩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一下掉到了纸上，把画弄脏了。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花狗懒洋洋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楼梯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33520" y="40384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顺口溜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小喇叭，叭叭叭；小花狗，趴趴趴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62120" y="3959280"/>
            <a:ext cx="441936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 ā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弄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脏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心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755640" y="2276640"/>
            <a:ext cx="6121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弄脏    肮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心脏    内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42920" y="0"/>
            <a:ext cx="90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满意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端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自己画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这幅画明天就要参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评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狗年春节韩国狗狗矢量图：卡通比格猎犬（比高犬）Beagle - 卡通小狗向量图14"/>
          <p:cNvPicPr/>
          <p:nvPr/>
        </p:nvPicPr>
        <p:blipFill>
          <a:blip r:embed="rId1"/>
          <a:stretch/>
        </p:blipFill>
        <p:spPr>
          <a:xfrm>
            <a:off x="5076720" y="6043680"/>
            <a:ext cx="4067280" cy="1628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1916280"/>
            <a:ext cx="91440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玲玲，时间不早了，快去睡吧！”爸爸又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36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就在这时候，水彩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叭的一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掉到了纸上，把画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弄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，玲玲哇地哭了起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539640" y="1604520"/>
            <a:ext cx="842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好多事情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并不像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我们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想象的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那么糟。只要肯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脑筋，坏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往往能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变成好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事。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250920" y="0"/>
            <a:ext cx="1780920" cy="2089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8534520" y="6248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5356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地     观察      愉快的     话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     奔跑      灵巧的     双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158" name="Line 6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161" name="Line 7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164" name="Line 8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167" name="Line 9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170" name="Line 10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173" name="Line 11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176" name="Line 12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玲玲得意的端详着自己画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着幅画明天就要参加评奖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玲玲，时间不早了，快去睡吧！”爸爸又在催她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好的，我把画笔收拾以下就去睡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就在这时候，水彩笔吧的一下掉到了地上，把画弄脏了，玲玲哇地哭了起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怎么了，孩子？”爸爸防下报纸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玲玲想了想，拿起笔，在弄脏的地方画了一只小花狗。小花狗懒洋洋地趴在楼梯上。玲玲满意地笑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看了，高兴地说：“看到了吧，孩子。好多事情并不像我们想象的那么糟糕。只要肯动脑筋，坏事往往能变好事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第二天的评奖会上，玲玲的画得了一等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第二十五课_玲玲的画.mp3" descr=""/>
          <p:cNvPicPr/>
          <p:nvPr/>
        </p:nvPicPr>
        <p:blipFill>
          <a:blip r:embed="rId1"/>
          <a:stretch/>
        </p:blipFill>
        <p:spPr>
          <a:xfrm>
            <a:off x="8028000" y="616572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2201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1"/>
          <p:cNvPicPr/>
          <p:nvPr/>
        </p:nvPicPr>
        <p:blipFill>
          <a:blip r:embed="rId1"/>
          <a:stretch/>
        </p:blipFill>
        <p:spPr>
          <a:xfrm>
            <a:off x="-226836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/>
          <p:cNvSpPr/>
          <p:nvPr/>
        </p:nvSpPr>
        <p:spPr>
          <a:xfrm>
            <a:off x="468360" y="5229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301"/>
                </a:moveTo>
                <a:lnTo>
                  <a:pt x="8986" y="7301"/>
                </a:lnTo>
                <a:lnTo>
                  <a:pt x="9369" y="7667"/>
                </a:lnTo>
                <a:lnTo>
                  <a:pt x="18578" y="7667"/>
                </a:lnTo>
                <a:lnTo>
                  <a:pt x="19135" y="8224"/>
                </a:lnTo>
                <a:lnTo>
                  <a:pt x="19135" y="8772"/>
                </a:lnTo>
                <a:lnTo>
                  <a:pt x="20980" y="8772"/>
                </a:lnTo>
                <a:lnTo>
                  <a:pt x="21346" y="8224"/>
                </a:lnTo>
                <a:lnTo>
                  <a:pt x="22086" y="8224"/>
                </a:lnTo>
                <a:lnTo>
                  <a:pt x="22086" y="13376"/>
                </a:lnTo>
                <a:lnTo>
                  <a:pt x="21346" y="13376"/>
                </a:lnTo>
                <a:lnTo>
                  <a:pt x="20980" y="12828"/>
                </a:lnTo>
                <a:lnTo>
                  <a:pt x="19135" y="12828"/>
                </a:lnTo>
                <a:lnTo>
                  <a:pt x="19135" y="14107"/>
                </a:lnTo>
                <a:lnTo>
                  <a:pt x="9552" y="14107"/>
                </a:lnTo>
                <a:lnTo>
                  <a:pt x="9552" y="9877"/>
                </a:lnTo>
                <a:lnTo>
                  <a:pt x="9369" y="9877"/>
                </a:lnTo>
                <a:lnTo>
                  <a:pt x="8986" y="10243"/>
                </a:lnTo>
                <a:lnTo>
                  <a:pt x="807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346560" y="836640"/>
            <a:ext cx="145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再读课文，想一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913480" y="2563560"/>
            <a:ext cx="386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起因：画弄脏，来不及画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过：在弄脏的地方画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只小花狗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果：得了一等奖。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755640" y="1052640"/>
            <a:ext cx="777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玲玲明天要去参加评奖的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不小心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_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 ＿＿＿的帮助下，玲玲在原本脏的地方＿＿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第二天的评奖会上，玲玲的画    ＿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826920" y="1628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140360" y="17002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弄脏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826920" y="2349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爸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2916360" y="3068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了一只小花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900000" y="443700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得了一等奖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780408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自读课文，想一想 玲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的心情是怎样变化的？请把代表玲玲心情变化的词语用“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——”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划出来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971640" y="1484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4"/>
          <p:cNvPicPr/>
          <p:nvPr/>
        </p:nvPicPr>
        <p:blipFill>
          <a:blip r:embed="rId2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1979640" y="1268280"/>
            <a:ext cx="4321080" cy="1798920"/>
            <a:chOff x="1979640" y="1268280"/>
            <a:chExt cx="4321080" cy="1798920"/>
          </a:xfrm>
        </p:grpSpPr>
        <p:sp>
          <p:nvSpPr>
            <p:cNvPr id="50" name="AutoShape 7"/>
            <p:cNvSpPr/>
            <p:nvPr/>
          </p:nvSpPr>
          <p:spPr>
            <a:xfrm>
              <a:off x="1979640" y="1268280"/>
              <a:ext cx="4176720" cy="179892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08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0" y="15112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玲玲满意地端详着自己画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家的一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就在这时候，水彩笔叭的一下掉到了纸上，把画弄脏了，玲玲哇地哭了起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167652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1"/>
          <p:cNvSpPr/>
          <p:nvPr/>
        </p:nvSpPr>
        <p:spPr>
          <a:xfrm>
            <a:off x="205740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3886200" y="35812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25184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68454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2743200" y="685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玲玲心情的词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80010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187280" y="4653000"/>
            <a:ext cx="660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开始对自己画的画满意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从哪里看出来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395280" y="0"/>
            <a:ext cx="5543640" cy="4437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79280" y="429912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          着自己画的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700360" y="436572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满意地端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227640" y="2205000"/>
            <a:ext cx="2665440" cy="1513080"/>
          </a:xfrm>
          <a:prstGeom prst="wedgeRoundRectCallout">
            <a:avLst>
              <a:gd name="adj1" fmla="val -45296"/>
              <a:gd name="adj2" fmla="val 103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为了这幅画，玲玲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端详是什么意思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194000" y="357336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得仔细、认真就是端详的意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5" descr=""/>
          <p:cNvPicPr/>
          <p:nvPr/>
        </p:nvPicPr>
        <p:blipFill>
          <a:blip r:embed="rId2"/>
          <a:stretch/>
        </p:blipFill>
        <p:spPr>
          <a:xfrm>
            <a:off x="-2224080" y="2814480"/>
            <a:ext cx="2271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900000" y="0"/>
            <a:ext cx="7632720" cy="4437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玲玲满意地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端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自己画的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584240" y="3573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仔细地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4360" y="1413000"/>
            <a:ext cx="774036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爸爸催她睡觉，在她收拾画笔时发生了什么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103920" y="350028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95600" y="465300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835280" y="5013360"/>
            <a:ext cx="5930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q"/>
          <p:cNvPicPr/>
          <p:nvPr/>
        </p:nvPicPr>
        <p:blipFill>
          <a:blip r:embed="rId1"/>
          <a:stretch/>
        </p:blipFill>
        <p:spPr>
          <a:xfrm>
            <a:off x="0" y="189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187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0" y="42991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17320" y="5805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17928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179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脏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948360" y="2421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拟声词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7548480" y="29973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用来模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声音的词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2458440" y="404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833480" y="2492280"/>
            <a:ext cx="5864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4"/>
          <p:cNvPicPr/>
          <p:nvPr/>
        </p:nvPicPr>
        <p:blipFill>
          <a:blip r:embed="rId1"/>
          <a:stretch/>
        </p:blipFill>
        <p:spPr>
          <a:xfrm>
            <a:off x="4572000" y="404640"/>
            <a:ext cx="8123400" cy="616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图片2"/>
          <p:cNvPicPr/>
          <p:nvPr/>
        </p:nvPicPr>
        <p:blipFill>
          <a:blip r:embed="rId2"/>
          <a:stretch/>
        </p:blipFill>
        <p:spPr>
          <a:xfrm>
            <a:off x="755640" y="907920"/>
            <a:ext cx="27273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350360" y="981000"/>
            <a:ext cx="4112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00"/>
                </a:solidFill>
                <a:latin typeface="Arial"/>
                <a:ea typeface="楷体_GB2312"/>
              </a:rPr>
              <a:t>玲 玲</a:t>
            </a:r>
            <a:endParaRPr b="1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61080" y="0"/>
            <a:ext cx="153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íng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409760" y="4653000"/>
            <a:ext cx="170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小巧玲珑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2862720" y="47628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26720" y="2387520"/>
            <a:ext cx="387756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3192120" y="333360"/>
            <a:ext cx="204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2826720" y="2387520"/>
            <a:ext cx="3877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431880" y="69228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3117240" y="333360"/>
            <a:ext cx="12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12280" y="1989000"/>
            <a:ext cx="29556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503160" y="40464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79280" y="42926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623960" y="54936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看了画后，怎么说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爸爸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仔细地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了看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别哭，孩子。在这儿画点儿什么，不是很好吗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9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914400" y="3413160"/>
            <a:ext cx="5334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仔细的近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认真      细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4800600" y="342900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反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马虎       粗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0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14400" y="341316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不是很好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很好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2067840" y="90792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玲玲听了爸爸的话后是怎么做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玲玲这回满意了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玲玲想了想，拿起笔，在弄脏的地方画了一只小花狗。小花狗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tzg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tzg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4000" y="2349360"/>
            <a:ext cx="864216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楼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252360" y="17002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 z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j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47640" y="307008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ā                zāo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187280" y="42926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ú                          j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258920" y="3645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 促   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声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糕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71640" y="4844880"/>
            <a:ext cx="817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  动脑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   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419640" y="404640"/>
            <a:ext cx="194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心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脏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小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仿宋_GB2312"/>
              </a:rPr>
              <a:t>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懒洋洋地趴在楼梯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250920" y="0"/>
            <a:ext cx="8208720" cy="46101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玲玲                 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306520" y="5516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满意地笑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111c38f4698"/>
          <p:cNvPicPr/>
          <p:nvPr/>
        </p:nvPicPr>
        <p:blipFill>
          <a:blip r:embed="rId1"/>
          <a:stretch/>
        </p:blipFill>
        <p:spPr>
          <a:xfrm>
            <a:off x="1979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111c38f4698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111c38f4698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4009320" y="260280"/>
            <a:ext cx="3884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以犬字为部首的字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名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狗、狐狸、狼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猫、猪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性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狠、狂、猛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玲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想了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拿起笔，在弄脏的地方画了一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花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5800" y="41148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因为画上小狗后，这幅画变得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，所以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1619280" y="114480"/>
            <a:ext cx="6372360" cy="46098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小花狗懒洋洋地趴在楼梯上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4000" y="256752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想了想，拿起笔，在弄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脏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画了一只小花狗。小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狗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03640" y="2637000"/>
            <a:ext cx="2160360" cy="360"/>
            <a:chOff x="3203640" y="2637000"/>
            <a:chExt cx="2160360" cy="360"/>
          </a:xfrm>
        </p:grpSpPr>
        <p:sp>
          <p:nvSpPr>
            <p:cNvPr id="350" name="Line 3"/>
            <p:cNvSpPr/>
            <p:nvPr/>
          </p:nvSpPr>
          <p:spPr>
            <a:xfrm>
              <a:off x="3203640" y="2637000"/>
              <a:ext cx="21603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3203640" y="2637000"/>
              <a:ext cx="21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4"/>
          <p:cNvSpPr/>
          <p:nvPr/>
        </p:nvSpPr>
        <p:spPr>
          <a:xfrm>
            <a:off x="3780000" y="0"/>
            <a:ext cx="4895640" cy="1700280"/>
          </a:xfrm>
          <a:prstGeom prst="wedgeEllipseCallout">
            <a:avLst>
              <a:gd name="adj1" fmla="val -45685"/>
              <a:gd name="adj2" fmla="val 64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玲玲会想些什么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227640" y="5345280"/>
            <a:ext cx="2665440" cy="1512720"/>
          </a:xfrm>
          <a:prstGeom prst="wedgeRoundRectCallout">
            <a:avLst>
              <a:gd name="adj1" fmla="val -69893"/>
              <a:gd name="adj2" fmla="val -438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除了画小花狗，还可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468360" y="14911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      看了看，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哭，孩子。在这儿画点儿什么，不是很好吗？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574080" y="1165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332000" y="458136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觉得这时一位怎样的爸爸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1476360" y="3500280"/>
            <a:ext cx="6408720" cy="90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爸爸为什么不直接告诉玲玲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1589040" y="33336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玲玲，时间不早了，快去睡吧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3221640" y="16002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铃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好的，我把画笔收拾一下就去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872280" y="292428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怎么了，孩子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3450960" y="419112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玲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我的画脏了，另画一张也来不及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0" y="5257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别哭，孩子。在这儿画点儿什么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不是很好吗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0" y="0"/>
            <a:ext cx="885672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端详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8360" y="48466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花狗懒洋洋地趴在楼梯上。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256536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1417320" y="40719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01480" y="1413000"/>
            <a:ext cx="8642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脏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  楼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梯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催     促    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筋     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971640" y="4844880"/>
            <a:ext cx="81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针对这件事是怎么教育玲玲的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FR_008"/>
          <p:cNvPicPr/>
          <p:nvPr/>
        </p:nvPicPr>
        <p:blipFill>
          <a:blip r:embed="rId1"/>
          <a:stretch/>
        </p:blipFill>
        <p:spPr>
          <a:xfrm>
            <a:off x="-1219320" y="-1523880"/>
            <a:ext cx="10896840" cy="100584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"/>
          <p:cNvSpPr/>
          <p:nvPr/>
        </p:nvSpPr>
        <p:spPr>
          <a:xfrm>
            <a:off x="1395360" y="476280"/>
            <a:ext cx="550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爸爸看了，高兴地说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看到了吧，孩子。好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事情并不像我们想象的那么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</a:rPr>
              <a:t>糟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。只要肯动脑筋，坏事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往能变成好事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〖脑〗"/>
          <p:cNvPicPr/>
          <p:nvPr/>
        </p:nvPicPr>
        <p:blipFill>
          <a:blip r:embed="rId1"/>
          <a:stretch/>
        </p:blipFill>
        <p:spPr>
          <a:xfrm>
            <a:off x="0" y="476280"/>
            <a:ext cx="4518000" cy="6381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〖筋〗"/>
          <p:cNvPicPr/>
          <p:nvPr/>
        </p:nvPicPr>
        <p:blipFill>
          <a:blip r:embed="rId2"/>
          <a:stretch/>
        </p:blipFill>
        <p:spPr>
          <a:xfrm>
            <a:off x="450072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179280" y="171720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看了，高兴地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了吧，好多事情并不像我们想象的那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只要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脑筋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800800" y="4796640"/>
            <a:ext cx="42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这里的坏事指什么？好事呢？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5724360" y="2492280"/>
            <a:ext cx="1944720" cy="7923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755640" y="566100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找到做好事的秘诀了吗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0" y="11448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994680" y="533520"/>
            <a:ext cx="7386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在生活中我们遇到事情办得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糟糕的时候，我们不能惊慌失措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要沉着冷静，开动脑筋想一想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补的办法。我们不能把一些暫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没有做好或者不小心做错的事情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都看成是坏事情，因为好坏是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以转变的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获奖"/>
          <p:cNvPicPr/>
          <p:nvPr/>
        </p:nvPicPr>
        <p:blipFill>
          <a:blip r:embed="rId1"/>
          <a:srcRect l="1561" t="0" r="3126" b="6250"/>
          <a:stretch/>
        </p:blipFill>
        <p:spPr>
          <a:xfrm>
            <a:off x="250920" y="0"/>
            <a:ext cx="86868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20090727_0b8d8b36fdbd62940415hnOjnzZK8HOe"/>
          <p:cNvPicPr/>
          <p:nvPr/>
        </p:nvPicPr>
        <p:blipFill>
          <a:blip r:embed="rId1"/>
          <a:stretch/>
        </p:blipFill>
        <p:spPr>
          <a:xfrm rot="19968000">
            <a:off x="323640" y="47592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2073-s"/>
          <p:cNvPicPr/>
          <p:nvPr/>
        </p:nvPicPr>
        <p:blipFill>
          <a:blip r:embed="rId2"/>
          <a:stretch/>
        </p:blipFill>
        <p:spPr>
          <a:xfrm rot="1003800">
            <a:off x="3131640" y="549000"/>
            <a:ext cx="1944720" cy="2768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4682284_064541796259_2"/>
          <p:cNvPicPr/>
          <p:nvPr/>
        </p:nvPicPr>
        <p:blipFill>
          <a:blip r:embed="rId3"/>
          <a:stretch/>
        </p:blipFill>
        <p:spPr>
          <a:xfrm>
            <a:off x="1476360" y="2781360"/>
            <a:ext cx="2262240" cy="2520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5540400" y="2205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093080" y="981000"/>
            <a:ext cx="1409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获奖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励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8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xiá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     f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ú         jiǎ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cu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ī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bā             zā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k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ěn           jī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Sunse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图片2"/>
          <p:cNvPicPr/>
          <p:nvPr/>
        </p:nvPicPr>
        <p:blipFill>
          <a:blip r:embed="rId2"/>
          <a:stretch/>
        </p:blipFill>
        <p:spPr>
          <a:xfrm>
            <a:off x="2779560" y="503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3154320" y="5335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09480" y="3701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画得奖了，玲玲真是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0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38088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心极了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神采飞扬   洋洋得意  喜形于色喜笑颜开  大喜过望   喜颜悦色  喜逐颜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1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533520" y="21024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的爸爸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自己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24000" y="260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交流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564200" y="1844640"/>
            <a:ext cx="60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这样的事我也遇到过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0"/>
          <p:cNvSpPr/>
          <p:nvPr/>
        </p:nvSpPr>
        <p:spPr>
          <a:xfrm>
            <a:off x="1332000" y="1989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609480" y="12952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说一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你遇到过这样的事吗？以后遇到这样的事你会怎么做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609480" y="327960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下课的时候，新买的裙子不小心被钉子钩破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美术课下课铃响了，就在这时你的画不小心弄脏了。如太阳上有了黑点，草地上染上了红颜料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、我和小朋友在家里玩过家家的时候，不小心把水洒了一地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468360" y="260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83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有些事真有意思！要是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动脑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；要是肯动脑筋，看来不可能办成的事也能办成。碰到问题，我们要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真想想，找到解决问题的办法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个善于思考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好孩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4"/>
          <p:cNvSpPr/>
          <p:nvPr/>
        </p:nvSpPr>
        <p:spPr>
          <a:xfrm>
            <a:off x="4387680" y="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世上无难事，只怕有心人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0" y="914400"/>
            <a:ext cx="8839080" cy="259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阅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线：                         </a:t>
            </a:r>
            <a:r>
              <a:rPr b="1" lang="zh-CN" sz="1800" spc="-1" strike="noStrike">
                <a:solidFill>
                  <a:srgbClr val="464646"/>
                </a:solidFill>
                <a:latin typeface="宋体"/>
              </a:rPr>
              <a:t>国王和大臣的故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位乐观而有智慧的大臣，发生什么坏事，都说：这是一件好事。国王很宠信他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天，国王出猎，围捕野兽时，不慎弄断了一只手指。他不但感到懊丧和疼痛，还怀疑这是不是什么不吉的先兆。于是，询问这大臣。大臣说：不必为此烦恼，这是一件好事！国王听了大怒，觉得他幸灾乐祸，立即下令把他关进监狱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过了一段时间，国王手上的伤口癒合了，又再出猎。这一次，他误出国境，中了野人的埋伏，被捕了。按野人的惯例，要把被捕者的首领杀了来祭神。看来，国王难逃被杀的命运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他被押上了祭坛，由巫师主持祭奠仪式。巫师忽然大叫起来：这个人不能用来做祭品！原来他发现国王缺了一只手指，因用残缺的人来做祭品，是对神不敬，神会降祸谴责。结果，用了另一被捕的大臣，代替了国王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被释放了，狼狈地逃回王宫。他想起了那位乐观而有智慧的大臣，曾说：他失去了一只手指，是一件好事；这一次，不是因为失去了一只手指，让自己捡回了性命吗？心里对这位大臣很是抱歉，立即下令把他放出监狱，并设宴款待，向他谢罪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不但原谅了国王，还说：我被关进了监狱，这是一件好事呀！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听了，莫名其妙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解释说：假如我不是被关进监狱，这次也一定随伴你出猎，也同时被捕。那么，代替你作为祭品的，也一定是我。我因在监狱，不致于成为祭品，这岂不是好事吗？国王恍然大悟，觉得他说得不错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0" y="-245880"/>
            <a:ext cx="9396360" cy="76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人名言：</a:t>
            </a: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能思考的人，才是一个力量无边的人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法 巴尔扎克）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学会思考，不要一碰到困难就向别人伸手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美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）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9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0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0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0"/>
          <p:cNvSpPr/>
          <p:nvPr/>
        </p:nvSpPr>
        <p:spPr>
          <a:xfrm>
            <a:off x="838080" y="297180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肯        脑       筋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85800" y="1752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月”字的不同写法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%5Bwallc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24000" y="333360"/>
            <a:ext cx="849600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肯定   端详   催促     评奖   弄脏   楼梯 叭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糕   脑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幅画 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懒洋洋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300720" y="51577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隶书"/>
              </a:rPr>
              <a:t>我会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鸟"/>
          <p:cNvPicPr/>
          <p:nvPr/>
        </p:nvPicPr>
        <p:blipFill>
          <a:blip r:embed="rId2"/>
          <a:stretch/>
        </p:blipFill>
        <p:spPr>
          <a:xfrm>
            <a:off x="4932360" y="3421080"/>
            <a:ext cx="1811520" cy="96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蝴蝶"/>
          <p:cNvPicPr/>
          <p:nvPr/>
        </p:nvPicPr>
        <p:blipFill>
          <a:blip r:embed="rId3"/>
          <a:stretch/>
        </p:blipFill>
        <p:spPr>
          <a:xfrm>
            <a:off x="7524720" y="4078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星05"/>
          <p:cNvPicPr/>
          <p:nvPr/>
        </p:nvPicPr>
        <p:blipFill>
          <a:blip r:embed="rId4"/>
          <a:stretch/>
        </p:blipFill>
        <p:spPr>
          <a:xfrm>
            <a:off x="6588000" y="37893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星05"/>
          <p:cNvPicPr/>
          <p:nvPr/>
        </p:nvPicPr>
        <p:blipFill>
          <a:blip r:embed="rId5"/>
          <a:stretch/>
        </p:blipFill>
        <p:spPr>
          <a:xfrm>
            <a:off x="6156360" y="4149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星05"/>
          <p:cNvPicPr/>
          <p:nvPr/>
        </p:nvPicPr>
        <p:blipFill>
          <a:blip r:embed="rId6"/>
          <a:stretch/>
        </p:blipFill>
        <p:spPr>
          <a:xfrm>
            <a:off x="7524720" y="35733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星05"/>
          <p:cNvPicPr/>
          <p:nvPr/>
        </p:nvPicPr>
        <p:blipFill>
          <a:blip r:embed="rId7"/>
          <a:stretch/>
        </p:blipFill>
        <p:spPr>
          <a:xfrm>
            <a:off x="6948360" y="4365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星05"/>
          <p:cNvPicPr/>
          <p:nvPr/>
        </p:nvPicPr>
        <p:blipFill>
          <a:blip r:embed="rId8"/>
          <a:stretch/>
        </p:blipFill>
        <p:spPr>
          <a:xfrm>
            <a:off x="831708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星05"/>
          <p:cNvPicPr/>
          <p:nvPr/>
        </p:nvPicPr>
        <p:blipFill>
          <a:blip r:embed="rId9"/>
          <a:stretch/>
        </p:blipFill>
        <p:spPr>
          <a:xfrm>
            <a:off x="6948360" y="3357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星05"/>
          <p:cNvPicPr/>
          <p:nvPr/>
        </p:nvPicPr>
        <p:blipFill>
          <a:blip r:embed="rId10"/>
          <a:stretch/>
        </p:blipFill>
        <p:spPr>
          <a:xfrm>
            <a:off x="601200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星05"/>
          <p:cNvPicPr/>
          <p:nvPr/>
        </p:nvPicPr>
        <p:blipFill>
          <a:blip r:embed="rId11"/>
          <a:stretch/>
        </p:blipFill>
        <p:spPr>
          <a:xfrm>
            <a:off x="7093080" y="501336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星05"/>
          <p:cNvPicPr/>
          <p:nvPr/>
        </p:nvPicPr>
        <p:blipFill>
          <a:blip r:embed="rId12"/>
          <a:stretch/>
        </p:blipFill>
        <p:spPr>
          <a:xfrm>
            <a:off x="795672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星05"/>
          <p:cNvPicPr/>
          <p:nvPr/>
        </p:nvPicPr>
        <p:blipFill>
          <a:blip r:embed="rId13"/>
          <a:stretch/>
        </p:blipFill>
        <p:spPr>
          <a:xfrm>
            <a:off x="8172360" y="4292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星05"/>
          <p:cNvPicPr/>
          <p:nvPr/>
        </p:nvPicPr>
        <p:blipFill>
          <a:blip r:embed="rId14"/>
          <a:stretch/>
        </p:blipFill>
        <p:spPr>
          <a:xfrm>
            <a:off x="716436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星05"/>
          <p:cNvPicPr/>
          <p:nvPr/>
        </p:nvPicPr>
        <p:blipFill>
          <a:blip r:embed="rId15"/>
          <a:stretch/>
        </p:blipFill>
        <p:spPr>
          <a:xfrm>
            <a:off x="6443640" y="3284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星05"/>
          <p:cNvPicPr/>
          <p:nvPr/>
        </p:nvPicPr>
        <p:blipFill>
          <a:blip r:embed="rId16"/>
          <a:stretch/>
        </p:blipFill>
        <p:spPr>
          <a:xfrm>
            <a:off x="5940360" y="4365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星05"/>
          <p:cNvPicPr/>
          <p:nvPr/>
        </p:nvPicPr>
        <p:blipFill>
          <a:blip r:embed="rId17"/>
          <a:stretch/>
        </p:blipFill>
        <p:spPr>
          <a:xfrm>
            <a:off x="6372360" y="5950080"/>
            <a:ext cx="863640" cy="29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星02"/>
          <p:cNvPicPr/>
          <p:nvPr/>
        </p:nvPicPr>
        <p:blipFill>
          <a:blip r:embed="rId18"/>
          <a:stretch/>
        </p:blipFill>
        <p:spPr>
          <a:xfrm>
            <a:off x="7885080" y="59500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星02"/>
          <p:cNvPicPr/>
          <p:nvPr/>
        </p:nvPicPr>
        <p:blipFill>
          <a:blip r:embed="rId19"/>
          <a:stretch/>
        </p:blipFill>
        <p:spPr>
          <a:xfrm>
            <a:off x="0" y="76500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星03"/>
          <p:cNvPicPr/>
          <p:nvPr/>
        </p:nvPicPr>
        <p:blipFill>
          <a:blip r:embed="rId20"/>
          <a:stretch/>
        </p:blipFill>
        <p:spPr>
          <a:xfrm flipH="1" rot="10800000">
            <a:off x="5651640" y="436536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星03"/>
          <p:cNvPicPr/>
          <p:nvPr/>
        </p:nvPicPr>
        <p:blipFill>
          <a:blip r:embed="rId21"/>
          <a:stretch/>
        </p:blipFill>
        <p:spPr>
          <a:xfrm flipH="1" rot="10800000">
            <a:off x="6372360" y="458100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星03"/>
          <p:cNvPicPr/>
          <p:nvPr/>
        </p:nvPicPr>
        <p:blipFill>
          <a:blip r:embed="rId22"/>
          <a:stretch/>
        </p:blipFill>
        <p:spPr>
          <a:xfrm flipH="1" rot="10800000">
            <a:off x="8028000" y="400500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星03"/>
          <p:cNvPicPr/>
          <p:nvPr/>
        </p:nvPicPr>
        <p:blipFill>
          <a:blip r:embed="rId23"/>
          <a:stretch/>
        </p:blipFill>
        <p:spPr>
          <a:xfrm flipH="1" rot="10800000">
            <a:off x="6948360" y="465264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星03"/>
          <p:cNvPicPr/>
          <p:nvPr/>
        </p:nvPicPr>
        <p:blipFill>
          <a:blip r:embed="rId24"/>
          <a:stretch/>
        </p:blipFill>
        <p:spPr>
          <a:xfrm flipH="1" rot="10800000">
            <a:off x="6588000" y="515736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星03"/>
          <p:cNvPicPr/>
          <p:nvPr/>
        </p:nvPicPr>
        <p:blipFill>
          <a:blip r:embed="rId25"/>
          <a:stretch/>
        </p:blipFill>
        <p:spPr>
          <a:xfrm flipH="1" rot="10800000">
            <a:off x="6732720" y="3573000"/>
            <a:ext cx="3315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admin</cp:lastModifiedBy>
  <dcterms:modified xsi:type="dcterms:W3CDTF">2016-01-08T08:52:53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