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5.gif" ContentType="image/gif"/>
  <Override PartName="/ppt/media/image6.jpeg" ContentType="image/jpeg"/>
  <Override PartName="/ppt/media/image9.png" ContentType="image/png"/>
  <Override PartName="/ppt/media/image13.jpeg" ContentType="image/jpeg"/>
  <Override PartName="/ppt/media/image25.jpeg" ContentType="image/jpeg"/>
  <Override PartName="/ppt/media/image21.png" ContentType="image/png"/>
  <Override PartName="/ppt/media/image4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23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98C5-2684-403A-B1A5-A11D50DA6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9C8D-8D0B-400F-AEE5-3F5FEC6C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E2EC-4979-46DE-8519-7C27A445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CA38-3D2F-4C90-863B-3543FA23B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4FF3-57E9-4F31-B652-7A1674F9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2B59-C546-4183-9374-788D0C51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6BA8-DFDF-4349-81B9-31F2CAF1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B6F9-711D-4C67-8108-7A85F82C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075D-DDCA-422B-AA9B-DC7B9179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2937-5F8E-4DA4-9F3D-9C45DFD4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FEDE-8C12-4978-B3E5-555F9EF4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14EC-80B9-464D-B922-E89D2570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353A-85D6-43E6-BE8E-D237E350B9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1ydt.com/video/n_show/Nav_6/1679091C_1.htm" TargetMode="External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1ydt.com/video/n_show/Nav_6/1679091C_1.htm" TargetMode="External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1ydt.com/video/n_show/Nav_6/1679091C_1.htm" TargetMode="External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png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jpeg"/><Relationship Id="rId3" Type="http://schemas.openxmlformats.org/officeDocument/2006/relationships/image" Target="../media/image21.png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hyperlink" Target="http://www.1ydt.com/video/n_show/Nav_6/1679091C_1.htm" TargetMode="Externa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3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hyperlink" Target="http://www.1ydt.com/video/n_show/Nav_6/1679091C_1.htm" TargetMode="External"/><Relationship Id="rId16" Type="http://schemas.openxmlformats.org/officeDocument/2006/relationships/hyperlink" Target="http://www.1ydt.com/video/n_show/Nav_6/1679091C_1.htm" TargetMode="External"/><Relationship Id="rId1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allcoo.com/cartoon/good_morning/html/image18.html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hyperlink" Target="http://www.tucoo.com/vector/B_dog/ai/dog035.rar" TargetMode="External"/><Relationship Id="rId6" Type="http://schemas.openxmlformats.org/officeDocument/2006/relationships/image" Target="../media/image9.png"/><Relationship Id="rId7" Type="http://schemas.openxmlformats.org/officeDocument/2006/relationships/hyperlink" Target="http://www.1ydt.com/video/n_show/Nav_6/1679091C_1.htm" TargetMode="External"/><Relationship Id="rId8" Type="http://schemas.openxmlformats.org/officeDocument/2006/relationships/hyperlink" Target="http://www.1ydt.com/video/n_show/Nav_6/1679091C_1.htm" TargetMode="Externa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allcoo.com/cartoon/good_morning/html/image18.html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hyperlink" Target="http://www.tucoo.com/vector/B_dog/ai/dog035.rar" TargetMode="External"/><Relationship Id="rId6" Type="http://schemas.openxmlformats.org/officeDocument/2006/relationships/image" Target="../media/image9.png"/><Relationship Id="rId7" Type="http://schemas.openxmlformats.org/officeDocument/2006/relationships/hyperlink" Target="http://www.1ydt.com/video/n_show/Nav_6/1679091C_1.htm" TargetMode="External"/><Relationship Id="rId8" Type="http://schemas.openxmlformats.org/officeDocument/2006/relationships/hyperlink" Target="http://www.1ydt.com/video/n_show/Nav_6/1679091C_1.htm" TargetMode="External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" Target="slide1.xml"/><Relationship Id="rId4" Type="http://schemas.openxmlformats.org/officeDocument/2006/relationships/image" Target="../media/image12.png"/><Relationship Id="rId5" Type="http://schemas.openxmlformats.org/officeDocument/2006/relationships/hyperlink" Target="http://www.1ydt.com/video/n_show/Nav_6/1679091C_1.htm" TargetMode="External"/><Relationship Id="rId6" Type="http://schemas.openxmlformats.org/officeDocument/2006/relationships/hyperlink" Target="http://www.1ydt.com/video/n_show/Nav_6/1679091C_1.htm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allcoo.com/cartoon/good_morning/html/image18.html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1ydt.com/video/n_show/Nav_6/1679091C_1.htm" TargetMode="External"/><Relationship Id="rId2" Type="http://schemas.openxmlformats.org/officeDocument/2006/relationships/hyperlink" Target="http://www.1ydt.com/video/n_show/Nav_6/1679091C_1.ht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1ydt.com/video/n_show/Nav_6/1679091C_1.htm" TargetMode="External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2560" y="260280"/>
            <a:ext cx="60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Arial"/>
                <a:ea typeface="华文新魏"/>
              </a:rPr>
              <a:t>新课标人教版二年级语文第四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044720" y="1700280"/>
            <a:ext cx="626400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玲玲的画</a:t>
            </a:r>
            <a:endParaRPr b="1" lang="en-US" sz="96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4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6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" nodeType="after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9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80"/>
                                      </p:to>
                                    </p:animClr>
                                    <p:set>
                                      <p:cBhvr>
                                        <p:cTn id="2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11"/>
          <p:cNvPicPr/>
          <p:nvPr/>
        </p:nvPicPr>
        <p:blipFill>
          <a:blip r:embed="rId1"/>
          <a:stretch/>
        </p:blipFill>
        <p:spPr>
          <a:xfrm>
            <a:off x="-1908000" y="0"/>
            <a:ext cx="11052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40000" y="5805360"/>
            <a:ext cx="7199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971640" y="14605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1052640"/>
            <a:ext cx="48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Arial"/>
              </a:rPr>
              <a:t>阅读提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24000" y="2133720"/>
            <a:ext cx="65167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请用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线划出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当玲玲遇到困难的时候，爸爸给她讲了一个道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爸爸是怎样说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rcRect l="25126" t="42875" r="33791" b="10392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116240" y="-27000"/>
            <a:ext cx="1400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楷体_GB2312"/>
              </a:rPr>
              <a:t>玲玲的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59280" y="333360"/>
            <a:ext cx="6084720" cy="3816360"/>
            <a:chOff x="3059280" y="333360"/>
            <a:chExt cx="6084720" cy="3816360"/>
          </a:xfrm>
        </p:grpSpPr>
        <p:sp>
          <p:nvSpPr>
            <p:cNvPr id="181" name=""/>
            <p:cNvSpPr/>
            <p:nvPr/>
          </p:nvSpPr>
          <p:spPr>
            <a:xfrm>
              <a:off x="3059280" y="333360"/>
              <a:ext cx="6084720" cy="3816360"/>
            </a:xfrm>
            <a:prstGeom prst="cloudCallout">
              <a:avLst>
                <a:gd name="adj1" fmla="val -51800"/>
                <a:gd name="adj2" fmla="val 153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37000" y="1052640"/>
              <a:ext cx="5607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2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看到了吧，孩子。好多事        情并不像我们想象的那么糟。只要肯动脑筋，</a:t>
              </a:r>
              <a:r>
                <a:rPr b="1" lang="zh-CN" sz="3200" spc="-1" strike="noStrike">
                  <a:solidFill>
                    <a:srgbClr val="006600"/>
                  </a:solidFill>
                  <a:latin typeface="楷体_GB2312"/>
                  <a:ea typeface="楷体_GB2312"/>
                </a:rPr>
                <a:t>坏事</a:t>
              </a:r>
              <a:r>
                <a:rPr b="1" lang="zh-CN" sz="32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往往能变成</a:t>
              </a:r>
              <a:r>
                <a:rPr b="1" lang="zh-CN" sz="3200" spc="-1" strike="noStrike">
                  <a:solidFill>
                    <a:srgbClr val="006600"/>
                  </a:solidFill>
                  <a:latin typeface="楷体_GB2312"/>
                  <a:ea typeface="楷体_GB2312"/>
                </a:rPr>
                <a:t>好事</a:t>
              </a:r>
              <a:r>
                <a:rPr b="1" lang="zh-CN" sz="32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990720" y="963720"/>
            <a:ext cx="2079360" cy="5601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85800" y="137160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读想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978200"/>
            <a:ext cx="7696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玲玲是怎么解决掉画上的墨迹呢？为什么爸　 爸不直接告诉玲玲画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3048120"/>
            <a:ext cx="7696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玲玲想了想，……小花狗懒洋洋地趴在楼梯　 上。玲玲满意地笑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玲玲想了想，她会想什么？她为什么要画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狗？而不是其它东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“玲玲满意地笑了”说明什么？如果是你，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想些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828720" y="-387360"/>
            <a:ext cx="10585440" cy="9072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44360" y="4149720"/>
            <a:ext cx="882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就在这时候，水彩笔叭的一下掉到了纸上，把画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仿宋_GB2312"/>
              </a:rPr>
              <a:t>弄脏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，玲玲哇地哭了起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1"/>
          <p:cNvPicPr/>
          <p:nvPr/>
        </p:nvPicPr>
        <p:blipFill>
          <a:blip r:embed="rId2"/>
          <a:srcRect l="0" t="0" r="21747" b="38976"/>
          <a:stretch/>
        </p:blipFill>
        <p:spPr>
          <a:xfrm>
            <a:off x="826920" y="765000"/>
            <a:ext cx="7272360" cy="3598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图片5"/>
          <p:cNvPicPr/>
          <p:nvPr/>
        </p:nvPicPr>
        <p:blipFill>
          <a:blip r:embed="rId1"/>
          <a:stretch/>
        </p:blipFill>
        <p:spPr>
          <a:xfrm>
            <a:off x="0" y="-603360"/>
            <a:ext cx="9756720" cy="7993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971640" y="1413000"/>
            <a:ext cx="777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的画脏了，另画一张也来不及了。”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58920" y="4365720"/>
            <a:ext cx="61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1"/>
          <p:cNvPicPr/>
          <p:nvPr/>
        </p:nvPicPr>
        <p:blipFill>
          <a:blip r:embed="rId2"/>
          <a:srcRect l="0" t="0" r="21747" b="38976"/>
          <a:stretch/>
        </p:blipFill>
        <p:spPr>
          <a:xfrm>
            <a:off x="1835280" y="2852640"/>
            <a:ext cx="5761080" cy="3456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-612720" y="-1035000"/>
            <a:ext cx="10585440" cy="8712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图片4"/>
          <p:cNvPicPr/>
          <p:nvPr/>
        </p:nvPicPr>
        <p:blipFill>
          <a:blip r:embed="rId2"/>
          <a:stretch/>
        </p:blipFill>
        <p:spPr>
          <a:xfrm>
            <a:off x="900000" y="2133720"/>
            <a:ext cx="7489800" cy="43196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6"/>
          <p:cNvSpPr/>
          <p:nvPr/>
        </p:nvSpPr>
        <p:spPr>
          <a:xfrm>
            <a:off x="971640" y="83664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第二天的评奖会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的画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得了一等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7" descr="4"/>
          <p:cNvPicPr/>
          <p:nvPr/>
        </p:nvPicPr>
        <p:blipFill>
          <a:blip r:embed="rId3"/>
          <a:stretch/>
        </p:blipFill>
        <p:spPr>
          <a:xfrm>
            <a:off x="5292720" y="4797360"/>
            <a:ext cx="2448000" cy="12970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6"/>
          <p:cNvSpPr/>
          <p:nvPr/>
        </p:nvSpPr>
        <p:spPr>
          <a:xfrm>
            <a:off x="1187280" y="371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1692360" y="458136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1619280" y="400536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"/>
          <p:cNvSpPr/>
          <p:nvPr/>
        </p:nvSpPr>
        <p:spPr>
          <a:xfrm>
            <a:off x="1431000" y="121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898560"/>
            <a:ext cx="77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玲玲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想了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拿起笔，在弄脏的地方画了一只小花狗。小花狗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懒洋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地趴在楼梯上。玲玲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满意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笑了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8" descr="图片4"/>
          <p:cNvPicPr/>
          <p:nvPr/>
        </p:nvPicPr>
        <p:blipFill>
          <a:blip r:embed="rId2"/>
          <a:stretch/>
        </p:blipFill>
        <p:spPr>
          <a:xfrm>
            <a:off x="611280" y="3429000"/>
            <a:ext cx="7200720" cy="30956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705720" y="4941720"/>
            <a:ext cx="458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4"/>
          <p:cNvPicPr/>
          <p:nvPr/>
        </p:nvPicPr>
        <p:blipFill>
          <a:blip r:embed="rId3"/>
          <a:stretch/>
        </p:blipFill>
        <p:spPr>
          <a:xfrm>
            <a:off x="4932360" y="5157720"/>
            <a:ext cx="2233440" cy="11527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-395280" y="0"/>
            <a:ext cx="1094436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-128520" y="647640"/>
            <a:ext cx="851688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       “玲玲，时间不早了，快去睡吧！”爸爸又在催她了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“好的，我把画笔收拾一下就去睡。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“怎么了，孩子？”爸爸放下报纸问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“我的画脏了，另画一张也来不及了。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爸爸仔细地看了看，说：“别哭，孩子。在这儿画点什么，不是很好吗？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爸爸看了，高兴地说：“看到了吧，孩子。好多事情并不像我们想象的那么糟糕。只要肯动脑筋，坏事往往能变好事。”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48360" y="5516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9360" y="6308640"/>
            <a:ext cx="459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2000" y="333360"/>
            <a:ext cx="61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﹏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97040" y="177336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35640" y="270828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1080" y="3213000"/>
            <a:ext cx="67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﹏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1080" y="4654440"/>
            <a:ext cx="734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﹏﹏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78640" y="371628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8000" y="422100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﹏﹏﹏﹏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84560" y="6170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60360" y="2133720"/>
            <a:ext cx="5688000" cy="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87280" y="3068640"/>
            <a:ext cx="6121440" cy="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33520" y="1143000"/>
            <a:ext cx="8305560" cy="43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日积月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   懒洋洋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趴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意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笑   高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意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端详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11"/>
          <p:cNvPicPr/>
          <p:nvPr/>
        </p:nvPicPr>
        <p:blipFill>
          <a:blip r:embed="rId1"/>
          <a:stretch/>
        </p:blipFill>
        <p:spPr>
          <a:xfrm>
            <a:off x="-1765440" y="0"/>
            <a:ext cx="1090944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40000" y="5805360"/>
            <a:ext cx="7199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971640" y="14605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55640" y="2060640"/>
            <a:ext cx="63010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说说你在生活中有没有遇到过类似的事？是否也曾体会过坏事变好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08000" y="981000"/>
            <a:ext cx="28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说一说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图片2"/>
          <p:cNvPicPr/>
          <p:nvPr/>
        </p:nvPicPr>
        <p:blipFill>
          <a:blip r:embed="rId2"/>
          <a:stretch/>
        </p:blipFill>
        <p:spPr>
          <a:xfrm>
            <a:off x="0" y="0"/>
            <a:ext cx="2484360" cy="792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4981680"/>
          </a:xfrm>
          <a:custGeom>
            <a:avLst/>
            <a:gdLst/>
            <a:ahLst/>
            <a:rect l="l" t="t" r="r" b="b"/>
            <a:pathLst>
              <a:path w="5402" h="3002">
                <a:moveTo>
                  <a:pt x="2927" y="2894"/>
                </a:moveTo>
                <a:cubicBezTo>
                  <a:pt x="2728" y="2884"/>
                  <a:pt x="2577" y="3002"/>
                  <a:pt x="2405" y="2985"/>
                </a:cubicBezTo>
                <a:cubicBezTo>
                  <a:pt x="2233" y="2968"/>
                  <a:pt x="2083" y="2813"/>
                  <a:pt x="1893" y="2795"/>
                </a:cubicBezTo>
                <a:cubicBezTo>
                  <a:pt x="1701" y="2778"/>
                  <a:pt x="1488" y="2891"/>
                  <a:pt x="1258" y="2878"/>
                </a:cubicBezTo>
                <a:cubicBezTo>
                  <a:pt x="1030" y="2865"/>
                  <a:pt x="723" y="2873"/>
                  <a:pt x="514" y="2719"/>
                </a:cubicBezTo>
                <a:cubicBezTo>
                  <a:pt x="306" y="2565"/>
                  <a:pt x="0" y="2253"/>
                  <a:pt x="7" y="1954"/>
                </a:cubicBezTo>
                <a:cubicBezTo>
                  <a:pt x="15" y="1655"/>
                  <a:pt x="275" y="1235"/>
                  <a:pt x="562" y="930"/>
                </a:cubicBezTo>
                <a:cubicBezTo>
                  <a:pt x="849" y="624"/>
                  <a:pt x="1300" y="240"/>
                  <a:pt x="1727" y="120"/>
                </a:cubicBezTo>
                <a:cubicBezTo>
                  <a:pt x="2154" y="0"/>
                  <a:pt x="2792" y="135"/>
                  <a:pt x="3125" y="212"/>
                </a:cubicBezTo>
                <a:cubicBezTo>
                  <a:pt x="3458" y="289"/>
                  <a:pt x="3517" y="493"/>
                  <a:pt x="3726" y="584"/>
                </a:cubicBezTo>
                <a:cubicBezTo>
                  <a:pt x="3935" y="675"/>
                  <a:pt x="4159" y="677"/>
                  <a:pt x="4378" y="760"/>
                </a:cubicBezTo>
                <a:cubicBezTo>
                  <a:pt x="4597" y="843"/>
                  <a:pt x="4878" y="893"/>
                  <a:pt x="5041" y="1085"/>
                </a:cubicBezTo>
                <a:cubicBezTo>
                  <a:pt x="5204" y="1277"/>
                  <a:pt x="5402" y="1686"/>
                  <a:pt x="5356" y="1909"/>
                </a:cubicBezTo>
                <a:cubicBezTo>
                  <a:pt x="5310" y="2132"/>
                  <a:pt x="4908" y="2293"/>
                  <a:pt x="4766" y="2425"/>
                </a:cubicBezTo>
                <a:cubicBezTo>
                  <a:pt x="4624" y="2557"/>
                  <a:pt x="4628" y="2623"/>
                  <a:pt x="4505" y="2699"/>
                </a:cubicBezTo>
                <a:cubicBezTo>
                  <a:pt x="4382" y="2775"/>
                  <a:pt x="4176" y="2839"/>
                  <a:pt x="4025" y="2879"/>
                </a:cubicBezTo>
                <a:cubicBezTo>
                  <a:pt x="3874" y="2919"/>
                  <a:pt x="3784" y="2936"/>
                  <a:pt x="3601" y="2938"/>
                </a:cubicBezTo>
                <a:cubicBezTo>
                  <a:pt x="3418" y="2940"/>
                  <a:pt x="3068" y="2903"/>
                  <a:pt x="2927" y="2894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32000" y="4365720"/>
            <a:ext cx="3144960" cy="2492280"/>
          </a:xfrm>
          <a:custGeom>
            <a:avLst/>
            <a:gdLst/>
            <a:ahLst/>
            <a:rect l="l" t="t" r="r" b="b"/>
            <a:pathLst>
              <a:path w="1165" h="1318">
                <a:moveTo>
                  <a:pt x="122" y="1174"/>
                </a:moveTo>
                <a:cubicBezTo>
                  <a:pt x="0" y="1030"/>
                  <a:pt x="286" y="492"/>
                  <a:pt x="319" y="310"/>
                </a:cubicBezTo>
                <a:cubicBezTo>
                  <a:pt x="352" y="128"/>
                  <a:pt x="281" y="98"/>
                  <a:pt x="319" y="83"/>
                </a:cubicBezTo>
                <a:cubicBezTo>
                  <a:pt x="357" y="68"/>
                  <a:pt x="463" y="219"/>
                  <a:pt x="546" y="219"/>
                </a:cubicBezTo>
                <a:cubicBezTo>
                  <a:pt x="629" y="219"/>
                  <a:pt x="773" y="0"/>
                  <a:pt x="818" y="83"/>
                </a:cubicBezTo>
                <a:cubicBezTo>
                  <a:pt x="863" y="166"/>
                  <a:pt x="780" y="536"/>
                  <a:pt x="818" y="718"/>
                </a:cubicBezTo>
                <a:cubicBezTo>
                  <a:pt x="856" y="900"/>
                  <a:pt x="1165" y="1098"/>
                  <a:pt x="1049" y="1174"/>
                </a:cubicBezTo>
                <a:cubicBezTo>
                  <a:pt x="933" y="1250"/>
                  <a:pt x="244" y="1318"/>
                  <a:pt x="122" y="1174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11280" y="476280"/>
            <a:ext cx="1965240" cy="2881440"/>
            <a:chOff x="611280" y="476280"/>
            <a:chExt cx="1965240" cy="288144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611280" y="476280"/>
              <a:ext cx="1965240" cy="288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" name=""/>
            <p:cNvGrpSpPr/>
            <p:nvPr/>
          </p:nvGrpSpPr>
          <p:grpSpPr>
            <a:xfrm>
              <a:off x="1259640" y="1413000"/>
              <a:ext cx="903240" cy="1013040"/>
              <a:chOff x="1259640" y="1413000"/>
              <a:chExt cx="903240" cy="1013040"/>
            </a:xfrm>
          </p:grpSpPr>
          <p:sp>
            <p:nvSpPr>
              <p:cNvPr id="52" name=""/>
              <p:cNvSpPr/>
              <p:nvPr/>
            </p:nvSpPr>
            <p:spPr>
              <a:xfrm>
                <a:off x="1298160" y="184464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玲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259640" y="1413000"/>
                <a:ext cx="90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líng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" name=""/>
          <p:cNvGrpSpPr/>
          <p:nvPr/>
        </p:nvGrpSpPr>
        <p:grpSpPr>
          <a:xfrm>
            <a:off x="1692360" y="-243000"/>
            <a:ext cx="2160000" cy="2881440"/>
            <a:chOff x="1692360" y="-243000"/>
            <a:chExt cx="2160000" cy="2881440"/>
          </a:xfrm>
        </p:grpSpPr>
        <p:pic>
          <p:nvPicPr>
            <p:cNvPr id="55" name="" descr=""/>
            <p:cNvPicPr/>
            <p:nvPr/>
          </p:nvPicPr>
          <p:blipFill>
            <a:blip r:embed="rId4"/>
            <a:stretch/>
          </p:blipFill>
          <p:spPr>
            <a:xfrm>
              <a:off x="1692360" y="-243000"/>
              <a:ext cx="216000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2561040" y="1096920"/>
              <a:ext cx="87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45320" y="664920"/>
              <a:ext cx="136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xiá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012000" y="2276640"/>
            <a:ext cx="2736360" cy="2881080"/>
            <a:chOff x="6012000" y="2276640"/>
            <a:chExt cx="2736360" cy="2881080"/>
          </a:xfrm>
        </p:grpSpPr>
        <p:pic>
          <p:nvPicPr>
            <p:cNvPr id="59" name="" descr=""/>
            <p:cNvPicPr/>
            <p:nvPr/>
          </p:nvPicPr>
          <p:blipFill>
            <a:blip r:embed="rId5"/>
            <a:stretch/>
          </p:blipFill>
          <p:spPr>
            <a:xfrm>
              <a:off x="6012000" y="2276640"/>
              <a:ext cx="2736360" cy="28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957720" y="3112920"/>
              <a:ext cx="923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zā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789440" y="2563920"/>
            <a:ext cx="2303280" cy="2881080"/>
            <a:chOff x="4789440" y="2563920"/>
            <a:chExt cx="2303280" cy="2881080"/>
          </a:xfrm>
        </p:grpSpPr>
        <p:pic>
          <p:nvPicPr>
            <p:cNvPr id="62" name="" descr=""/>
            <p:cNvPicPr/>
            <p:nvPr/>
          </p:nvPicPr>
          <p:blipFill>
            <a:blip r:embed="rId6"/>
            <a:stretch/>
          </p:blipFill>
          <p:spPr>
            <a:xfrm>
              <a:off x="4789440" y="2563920"/>
              <a:ext cx="2303280" cy="2881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"/>
            <p:cNvGrpSpPr/>
            <p:nvPr/>
          </p:nvGrpSpPr>
          <p:grpSpPr>
            <a:xfrm>
              <a:off x="5548320" y="3500280"/>
              <a:ext cx="975960" cy="1012680"/>
              <a:chOff x="5548320" y="3500280"/>
              <a:chExt cx="975960" cy="1012680"/>
            </a:xfrm>
          </p:grpSpPr>
          <p:sp>
            <p:nvSpPr>
              <p:cNvPr id="64" name=""/>
              <p:cNvSpPr/>
              <p:nvPr/>
            </p:nvSpPr>
            <p:spPr>
              <a:xfrm>
                <a:off x="5594400" y="3931560"/>
                <a:ext cx="929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梯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548320" y="3500280"/>
                <a:ext cx="72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tī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" name=""/>
          <p:cNvGrpSpPr/>
          <p:nvPr/>
        </p:nvGrpSpPr>
        <p:grpSpPr>
          <a:xfrm>
            <a:off x="3708360" y="2492280"/>
            <a:ext cx="1965240" cy="2881440"/>
            <a:chOff x="3708360" y="2492280"/>
            <a:chExt cx="1965240" cy="2881440"/>
          </a:xfrm>
        </p:grpSpPr>
        <p:pic>
          <p:nvPicPr>
            <p:cNvPr id="67" name="" descr=""/>
            <p:cNvPicPr/>
            <p:nvPr/>
          </p:nvPicPr>
          <p:blipFill>
            <a:blip r:embed="rId7"/>
            <a:stretch/>
          </p:blipFill>
          <p:spPr>
            <a:xfrm>
              <a:off x="3708360" y="2492280"/>
              <a:ext cx="1965240" cy="288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" name=""/>
            <p:cNvGrpSpPr/>
            <p:nvPr/>
          </p:nvGrpSpPr>
          <p:grpSpPr>
            <a:xfrm>
              <a:off x="4357080" y="3429000"/>
              <a:ext cx="832320" cy="1013040"/>
              <a:chOff x="4357080" y="3429000"/>
              <a:chExt cx="832320" cy="1013040"/>
            </a:xfrm>
          </p:grpSpPr>
          <p:sp>
            <p:nvSpPr>
              <p:cNvPr id="69" name=""/>
              <p:cNvSpPr/>
              <p:nvPr/>
            </p:nvSpPr>
            <p:spPr>
              <a:xfrm>
                <a:off x="4395600" y="3860640"/>
                <a:ext cx="793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楼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357080" y="3429000"/>
                <a:ext cx="790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lóu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"/>
          <p:cNvGrpSpPr/>
          <p:nvPr/>
        </p:nvGrpSpPr>
        <p:grpSpPr>
          <a:xfrm>
            <a:off x="2462040" y="2276640"/>
            <a:ext cx="1965600" cy="2881080"/>
            <a:chOff x="2462040" y="2276640"/>
            <a:chExt cx="1965600" cy="2881080"/>
          </a:xfrm>
        </p:grpSpPr>
        <p:pic>
          <p:nvPicPr>
            <p:cNvPr id="72" name="" descr=""/>
            <p:cNvPicPr/>
            <p:nvPr/>
          </p:nvPicPr>
          <p:blipFill>
            <a:blip r:embed="rId8"/>
            <a:stretch/>
          </p:blipFill>
          <p:spPr>
            <a:xfrm>
              <a:off x="2462040" y="2276640"/>
              <a:ext cx="1965600" cy="28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252600" y="3600360"/>
              <a:ext cx="79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968920" y="3213000"/>
              <a:ext cx="1186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jiăng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971640" y="2492280"/>
            <a:ext cx="2376000" cy="2881440"/>
            <a:chOff x="971640" y="2492280"/>
            <a:chExt cx="2376000" cy="2881440"/>
          </a:xfrm>
        </p:grpSpPr>
        <p:pic>
          <p:nvPicPr>
            <p:cNvPr id="76" name="" descr=""/>
            <p:cNvPicPr/>
            <p:nvPr/>
          </p:nvPicPr>
          <p:blipFill>
            <a:blip r:embed="rId9"/>
            <a:stretch/>
          </p:blipFill>
          <p:spPr>
            <a:xfrm>
              <a:off x="971640" y="2492280"/>
              <a:ext cx="2376000" cy="288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" name=""/>
            <p:cNvGrpSpPr/>
            <p:nvPr/>
          </p:nvGrpSpPr>
          <p:grpSpPr>
            <a:xfrm>
              <a:off x="1754640" y="3429000"/>
              <a:ext cx="1006920" cy="1013040"/>
              <a:chOff x="1754640" y="3429000"/>
              <a:chExt cx="1006920" cy="1013040"/>
            </a:xfrm>
          </p:grpSpPr>
          <p:sp>
            <p:nvSpPr>
              <p:cNvPr id="78" name=""/>
              <p:cNvSpPr/>
              <p:nvPr/>
            </p:nvSpPr>
            <p:spPr>
              <a:xfrm>
                <a:off x="1802160" y="3860640"/>
                <a:ext cx="959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筋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754640" y="3429000"/>
                <a:ext cx="980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jī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" name=""/>
          <p:cNvGrpSpPr/>
          <p:nvPr/>
        </p:nvGrpSpPr>
        <p:grpSpPr>
          <a:xfrm>
            <a:off x="-57240" y="2276640"/>
            <a:ext cx="1965240" cy="2881080"/>
            <a:chOff x="-57240" y="2276640"/>
            <a:chExt cx="1965240" cy="2881080"/>
          </a:xfrm>
        </p:grpSpPr>
        <p:pic>
          <p:nvPicPr>
            <p:cNvPr id="81" name="" descr=""/>
            <p:cNvPicPr/>
            <p:nvPr/>
          </p:nvPicPr>
          <p:blipFill>
            <a:blip r:embed="rId10"/>
            <a:stretch/>
          </p:blipFill>
          <p:spPr>
            <a:xfrm>
              <a:off x="-57240" y="2276640"/>
              <a:ext cx="1965240" cy="2881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591120" y="3213000"/>
              <a:ext cx="903240" cy="1012680"/>
              <a:chOff x="591120" y="3213000"/>
              <a:chExt cx="903240" cy="1012680"/>
            </a:xfrm>
          </p:grpSpPr>
          <p:sp>
            <p:nvSpPr>
              <p:cNvPr id="83" name=""/>
              <p:cNvSpPr/>
              <p:nvPr/>
            </p:nvSpPr>
            <p:spPr>
              <a:xfrm>
                <a:off x="629640" y="364428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脑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91120" y="3213000"/>
                <a:ext cx="90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nă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6804000" y="907920"/>
            <a:ext cx="2088720" cy="2881440"/>
            <a:chOff x="6804000" y="907920"/>
            <a:chExt cx="2088720" cy="2881440"/>
          </a:xfrm>
        </p:grpSpPr>
        <p:pic>
          <p:nvPicPr>
            <p:cNvPr id="86" name="" descr=""/>
            <p:cNvPicPr/>
            <p:nvPr/>
          </p:nvPicPr>
          <p:blipFill>
            <a:blip r:embed="rId11"/>
            <a:stretch/>
          </p:blipFill>
          <p:spPr>
            <a:xfrm>
              <a:off x="6804000" y="907920"/>
              <a:ext cx="2088720" cy="288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" name=""/>
            <p:cNvGrpSpPr/>
            <p:nvPr/>
          </p:nvGrpSpPr>
          <p:grpSpPr>
            <a:xfrm>
              <a:off x="7492320" y="1893600"/>
              <a:ext cx="1035360" cy="964080"/>
              <a:chOff x="7492320" y="1893600"/>
              <a:chExt cx="1035360" cy="964080"/>
            </a:xfrm>
          </p:grpSpPr>
          <p:sp>
            <p:nvSpPr>
              <p:cNvPr id="88" name=""/>
              <p:cNvSpPr/>
              <p:nvPr/>
            </p:nvSpPr>
            <p:spPr>
              <a:xfrm>
                <a:off x="7534080" y="227628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脏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492320" y="1893600"/>
                <a:ext cx="1035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zā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"/>
          <p:cNvGrpSpPr/>
          <p:nvPr/>
        </p:nvGrpSpPr>
        <p:grpSpPr>
          <a:xfrm>
            <a:off x="5506920" y="619200"/>
            <a:ext cx="1944720" cy="2881080"/>
            <a:chOff x="5506920" y="619200"/>
            <a:chExt cx="1944720" cy="2881080"/>
          </a:xfrm>
        </p:grpSpPr>
        <p:pic>
          <p:nvPicPr>
            <p:cNvPr id="91" name="" descr=""/>
            <p:cNvPicPr/>
            <p:nvPr/>
          </p:nvPicPr>
          <p:blipFill>
            <a:blip r:embed="rId12"/>
            <a:stretch/>
          </p:blipFill>
          <p:spPr>
            <a:xfrm>
              <a:off x="5506920" y="619200"/>
              <a:ext cx="1944720" cy="28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6276600" y="1960200"/>
              <a:ext cx="78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47720" y="1555560"/>
              <a:ext cx="851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cuī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356000" y="260280"/>
            <a:ext cx="1871640" cy="2881440"/>
            <a:chOff x="4356000" y="260280"/>
            <a:chExt cx="1871640" cy="2881440"/>
          </a:xfrm>
        </p:grpSpPr>
        <p:pic>
          <p:nvPicPr>
            <p:cNvPr id="95" name="" descr=""/>
            <p:cNvPicPr/>
            <p:nvPr/>
          </p:nvPicPr>
          <p:blipFill>
            <a:blip r:embed="rId13"/>
            <a:stretch/>
          </p:blipFill>
          <p:spPr>
            <a:xfrm>
              <a:off x="4356000" y="260280"/>
              <a:ext cx="187164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10200" y="1528560"/>
              <a:ext cx="75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54400" y="1165320"/>
              <a:ext cx="604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b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132000" y="-316080"/>
            <a:ext cx="1965240" cy="2881440"/>
            <a:chOff x="3132000" y="-316080"/>
            <a:chExt cx="1965240" cy="2881440"/>
          </a:xfrm>
        </p:grpSpPr>
        <p:pic>
          <p:nvPicPr>
            <p:cNvPr id="99" name="" descr=""/>
            <p:cNvPicPr/>
            <p:nvPr/>
          </p:nvPicPr>
          <p:blipFill>
            <a:blip r:embed="rId14"/>
            <a:stretch/>
          </p:blipFill>
          <p:spPr>
            <a:xfrm>
              <a:off x="3132000" y="-316080"/>
              <a:ext cx="196524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922560" y="981000"/>
              <a:ext cx="79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34440" y="62064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f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71440" y="3240"/>
            <a:ext cx="235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摘一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0" y="-458640"/>
            <a:ext cx="9144000" cy="82803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5"/>
          <p:cNvSpPr/>
          <p:nvPr/>
        </p:nvSpPr>
        <p:spPr>
          <a:xfrm>
            <a:off x="1547640" y="2205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1187280" y="371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1403280" y="393372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900000" y="1052640"/>
            <a:ext cx="619308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帮帮忙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书被雨淋湿了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漂亮的裙子被勾出了一个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042920" y="400536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在今后，如果是你遇到这样的事情，你会怎么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72453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826920" y="184464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实践活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回到家里，把这个故事讲给爸爸妈妈听，或自己从书刊中再找一个开动脑筋、变坏事为好事的小故事讲给班上的同学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86472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图片2"/>
          <p:cNvPicPr/>
          <p:nvPr/>
        </p:nvPicPr>
        <p:blipFill>
          <a:blip r:embed="rId2"/>
          <a:stretch/>
        </p:blipFill>
        <p:spPr>
          <a:xfrm>
            <a:off x="539640" y="476280"/>
            <a:ext cx="2880000" cy="792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1042920" y="476280"/>
            <a:ext cx="24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900000" y="1844640"/>
            <a:ext cx="824400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玲  玲      端  详　  弄  脏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评  奖      楼  梯      催  促                            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1258920" y="3645000"/>
            <a:ext cx="7885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幅画　 动脑筋     懒洋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71640" y="472428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糟  糕       小  狗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叭的一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韩国插画壁纸 17 - [wallcoo.com]_child_illustration_023c0317.jpg">
            <a:hlinkClick r:id="rId1"/>
          </p:cNvPr>
          <p:cNvPicPr/>
          <p:nvPr/>
        </p:nvPicPr>
        <p:blipFill>
          <a:blip r:embed="rId2"/>
          <a:srcRect l="0" t="0" r="0" b="48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58920" y="1413000"/>
            <a:ext cx="2990880" cy="3240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4788000" y="1413000"/>
            <a:ext cx="2990880" cy="3240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1720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脑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6228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筋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台湾矢量卡通图库 - 趣味动物篇 - 卡通狗图片 - 卡通狗向量图3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62880" y="4869000"/>
            <a:ext cx="1581120" cy="1989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39640" y="501336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脑门儿    大脑    脑筋   筋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韩国插画壁纸 17 - [wallcoo.com]_child_illustration_023c0317.jpg">
            <a:hlinkClick r:id="rId1"/>
          </p:cNvPr>
          <p:cNvPicPr/>
          <p:nvPr/>
        </p:nvPicPr>
        <p:blipFill>
          <a:blip r:embed="rId2"/>
          <a:srcRect l="0" t="0" r="0" b="48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258920" y="1413000"/>
            <a:ext cx="2990880" cy="3240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788000" y="1413000"/>
            <a:ext cx="2990880" cy="3240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71720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楼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6228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梯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台湾矢量卡通图库 - 趣味动物篇 - 卡通狗图片 - 卡通狗向量图3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62880" y="4869000"/>
            <a:ext cx="1581120" cy="1989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8360" y="494172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高楼   楼房       木梯  梯子  云梯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-36360" y="2700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2482920" y="1197000"/>
            <a:ext cx="1873080" cy="1971720"/>
            <a:chOff x="2482920" y="1197000"/>
            <a:chExt cx="1873080" cy="1971720"/>
          </a:xfrm>
        </p:grpSpPr>
        <p:sp>
          <p:nvSpPr>
            <p:cNvPr id="131" name=""/>
            <p:cNvSpPr/>
            <p:nvPr/>
          </p:nvSpPr>
          <p:spPr>
            <a:xfrm>
              <a:off x="2482920" y="1197000"/>
              <a:ext cx="187308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82920" y="2173680"/>
              <a:ext cx="187308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08840" y="1197000"/>
              <a:ext cx="0" cy="19717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580000" y="4005360"/>
            <a:ext cx="1873440" cy="1971720"/>
            <a:chOff x="5580000" y="4005360"/>
            <a:chExt cx="1873440" cy="1971720"/>
          </a:xfrm>
        </p:grpSpPr>
        <p:sp>
          <p:nvSpPr>
            <p:cNvPr id="135" name=""/>
            <p:cNvSpPr/>
            <p:nvPr/>
          </p:nvSpPr>
          <p:spPr>
            <a:xfrm>
              <a:off x="5580000" y="4005360"/>
              <a:ext cx="187344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80000" y="4982040"/>
              <a:ext cx="187344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506280" y="4005360"/>
              <a:ext cx="0" cy="19717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482920" y="4005360"/>
            <a:ext cx="1873080" cy="1971720"/>
            <a:chOff x="2482920" y="4005360"/>
            <a:chExt cx="1873080" cy="1971720"/>
          </a:xfrm>
        </p:grpSpPr>
        <p:sp>
          <p:nvSpPr>
            <p:cNvPr id="139" name=""/>
            <p:cNvSpPr/>
            <p:nvPr/>
          </p:nvSpPr>
          <p:spPr>
            <a:xfrm>
              <a:off x="2482920" y="4005360"/>
              <a:ext cx="187308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82920" y="4982040"/>
              <a:ext cx="187308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08840" y="4005360"/>
              <a:ext cx="0" cy="19717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580000" y="1170000"/>
            <a:ext cx="1873440" cy="1971720"/>
            <a:chOff x="5580000" y="1170000"/>
            <a:chExt cx="1873440" cy="1971720"/>
          </a:xfrm>
        </p:grpSpPr>
        <p:sp>
          <p:nvSpPr>
            <p:cNvPr id="143" name=""/>
            <p:cNvSpPr/>
            <p:nvPr/>
          </p:nvSpPr>
          <p:spPr>
            <a:xfrm>
              <a:off x="5580000" y="1170000"/>
              <a:ext cx="187344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80000" y="2146680"/>
              <a:ext cx="187344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06280" y="1170000"/>
              <a:ext cx="0" cy="19717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84360" y="4005360"/>
            <a:ext cx="691920" cy="96840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147" name=""/>
          <p:cNvSpPr/>
          <p:nvPr/>
        </p:nvSpPr>
        <p:spPr>
          <a:xfrm rot="20895600">
            <a:off x="812880" y="668160"/>
            <a:ext cx="714240" cy="2544840"/>
          </a:xfrm>
          <a:prstGeom prst="wedgeEllipseCallout">
            <a:avLst>
              <a:gd name="adj1" fmla="val 21907"/>
              <a:gd name="adj2" fmla="val 64981"/>
            </a:avLst>
          </a:prstGeom>
          <a:solidFill>
            <a:srgbClr val="a7f7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18640" y="1125360"/>
            <a:ext cx="729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我会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84360" y="1052640"/>
            <a:ext cx="1800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3300"/>
                </a:solidFill>
                <a:latin typeface="Arial"/>
                <a:ea typeface="楷体_GB2312"/>
              </a:rPr>
              <a:t>叭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80000" y="981000"/>
            <a:ext cx="1800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3300"/>
                </a:solidFill>
                <a:latin typeface="Arial"/>
                <a:ea typeface="楷体_GB2312"/>
              </a:rPr>
              <a:t>狗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11280" y="3716280"/>
            <a:ext cx="16574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3300"/>
                </a:solidFill>
                <a:latin typeface="Arial"/>
                <a:ea typeface="楷体_GB2312"/>
              </a:rPr>
              <a:t>糟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80000" y="3860640"/>
            <a:ext cx="17287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3300"/>
                </a:solidFill>
                <a:latin typeface="Arial"/>
                <a:ea typeface="楷体_GB2312"/>
              </a:rPr>
              <a:t>肯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459640" y="6093000"/>
            <a:ext cx="432000" cy="504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498920" y="1268280"/>
            <a:ext cx="936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喇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叭的一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40720" y="1268280"/>
            <a:ext cx="1403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哈巴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56000" y="4005360"/>
            <a:ext cx="165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糟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糟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1640" y="4005360"/>
            <a:ext cx="208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肯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林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韩国插画壁纸 17 - [wallcoo.com]_child_illustration_023c0317.jpg">
            <a:hlinkClick r:id="rId1"/>
          </p:cNvPr>
          <p:cNvPicPr/>
          <p:nvPr/>
        </p:nvPicPr>
        <p:blipFill>
          <a:blip r:embed="rId2"/>
          <a:srcRect l="0" t="0" r="0" b="48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11280" y="404640"/>
            <a:ext cx="8064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端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详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评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奖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脑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筋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楼梯 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催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眠 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弄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脏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叭叭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响     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幅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55640" y="692280"/>
            <a:ext cx="813744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文讲了玲玲画了　　　　　　　　　，正当她收拾画笔去睡觉的时候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　　　　　　　，在爸爸的引导下，　　　　　　　　　　　　　　　　，　　　　　　　　　　　后来，　　　　　　　　　　　　　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16360" y="1413000"/>
            <a:ext cx="352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263700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16720" y="191628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47640" y="3284640"/>
            <a:ext cx="64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08000" y="3933720"/>
            <a:ext cx="568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9280" y="429912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玲玲</a:t>
            </a:r>
            <a:r>
              <a:rPr b="1" lang="zh-CN" sz="4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满意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地</a:t>
            </a:r>
            <a:r>
              <a:rPr b="1" lang="zh-CN" sz="4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端详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着自己画的</a:t>
            </a:r>
            <a:r>
              <a:rPr b="1" lang="zh-CN" sz="4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家的一角</a:t>
            </a:r>
            <a:r>
              <a:rPr b="1" lang="zh-CN" sz="4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这幅画明天就要参加评奖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图片4"/>
          <p:cNvPicPr/>
          <p:nvPr/>
        </p:nvPicPr>
        <p:blipFill>
          <a:blip r:embed="rId1"/>
          <a:stretch/>
        </p:blipFill>
        <p:spPr>
          <a:xfrm>
            <a:off x="611280" y="260280"/>
            <a:ext cx="7921440" cy="3960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11:43:38Z</dcterms:created>
  <dc:creator/>
  <dc:description/>
  <dc:language>en-US</dc:language>
  <cp:lastModifiedBy>user</cp:lastModifiedBy>
  <dcterms:modified xsi:type="dcterms:W3CDTF">2013-12-15T08:48:04Z</dcterms:modified>
  <cp:revision>115</cp:revision>
  <dc:subject/>
  <dc:title>幻灯片 1</dc:title>
</cp:coreProperties>
</file>