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62E-5419-412F-9AE5-589335A6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63D-6B2E-4601-8151-22B22F3C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AFF-402E-4A4E-8044-718CE1AE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BDE-F043-4512-881C-B0B901B4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27A7-D2BB-4557-B8C5-98C6E649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3926-7F4C-4934-9FE0-62483AFA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1ACA-B09B-4C18-A54C-4925A37D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B21D-E291-4CF9-ADD6-336A3300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CC62-D35F-4F7A-8221-DA443B41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094C-1CF0-4075-9603-34EA1CCD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2087-BC34-45D4-BE2C-330AE43E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027-D3D9-4EB5-994B-EF4D8161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32BF-879E-41FA-9DAD-53B6154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856A-3FCC-4D23-A101-BB46CF2A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8531-6372-4769-813E-4E49265C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50CF-2D86-43A4-8BB0-A52BECB0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0532-F627-416F-B1D1-3AB59F61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0F9C2-C674-47B9-A0AC-582990F5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0372-0B4D-4DE3-9F0B-9D0AFCB2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EF3E-9E8D-470F-BB04-E0262D83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6C30-A7DB-4176-A83D-9305C073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59F7-8322-4A3C-A29B-FFEA992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591-80B2-4B18-BCF7-363915E1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299C-55DC-486F-B1F9-BD596A8D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95ED7-2F05-44EE-8999-FDAD5E79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4E25D-4FCE-4E3C-BD7E-45F3B804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383F-5239-4956-B127-C1F44424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9819-0389-4ED3-80CD-CC6B55EA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6A67-1B98-4387-B5A1-6670AC4F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3059-8542-4570-80D7-429B9B80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24F-EF8D-4C47-8DD6-B39ED3EB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30E-8FCC-4A27-B377-DA6B51CA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960-F3FF-4DB1-A075-59EB3DF0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2DD-78AB-487A-95CA-B83C28C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9B1-739D-4F21-B32E-026F6F57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C3C-D2F8-4814-B07E-BDFF3789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53ED-A24E-4F21-9218-7F937C1BADEE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2A5-0AA2-4558-AE70-D8C9FE2251DC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7707-8F2B-4BF2-A313-38610EC906BC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EB6B-9F03-4AC2-B01E-640A272BC2BD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64FD-0DA0-49CB-AB0A-5DA1AFB82AAB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121"/>
          <p:cNvGrpSpPr/>
          <p:nvPr/>
        </p:nvGrpSpPr>
        <p:grpSpPr>
          <a:xfrm>
            <a:off x="1979640" y="1268280"/>
            <a:ext cx="4321080" cy="1798560"/>
            <a:chOff x="1979640" y="1268280"/>
            <a:chExt cx="4321080" cy="1798560"/>
          </a:xfrm>
        </p:grpSpPr>
        <p:sp>
          <p:nvSpPr>
            <p:cNvPr id="126" name="云形标注 5122"/>
            <p:cNvSpPr/>
            <p:nvPr/>
          </p:nvSpPr>
          <p:spPr>
            <a:xfrm>
              <a:off x="1979640" y="1268280"/>
              <a:ext cx="4176720" cy="179856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27" name="文本框 5123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pic>
        <p:nvPicPr>
          <p:cNvPr id="128" name="图片 5124" descr="4"/>
          <p:cNvPicPr/>
          <p:nvPr/>
        </p:nvPicPr>
        <p:blipFill>
          <a:blip r:embed="rId1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8720" y="1197000"/>
            <a:ext cx="136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小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巧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玲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4338" descr="goods_425452_420_420"/>
          <p:cNvPicPr/>
          <p:nvPr/>
        </p:nvPicPr>
        <p:blipFill>
          <a:blip r:embed="rId1"/>
          <a:stretch/>
        </p:blipFill>
        <p:spPr>
          <a:xfrm>
            <a:off x="900000" y="404640"/>
            <a:ext cx="605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5363" descr="289877_204908048334_2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6385" descr="图片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未知"/>
          <p:cNvSpPr/>
          <p:nvPr/>
        </p:nvSpPr>
        <p:spPr>
          <a:xfrm>
            <a:off x="0" y="0"/>
            <a:ext cx="9144000" cy="5638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270036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8" name="文本框 16389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69" name="组合 16390"/>
          <p:cNvGrpSpPr/>
          <p:nvPr/>
        </p:nvGrpSpPr>
        <p:grpSpPr>
          <a:xfrm>
            <a:off x="304920" y="838080"/>
            <a:ext cx="2666880" cy="2438280"/>
            <a:chOff x="304920" y="838080"/>
            <a:chExt cx="2666880" cy="2438280"/>
          </a:xfrm>
        </p:grpSpPr>
        <p:pic>
          <p:nvPicPr>
            <p:cNvPr id="270" name="图片 16391" descr="苹果1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16392"/>
            <p:cNvSpPr/>
            <p:nvPr/>
          </p:nvSpPr>
          <p:spPr>
            <a:xfrm>
              <a:off x="914400" y="16002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玲珑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2" name="组合 16393"/>
          <p:cNvGrpSpPr/>
          <p:nvPr/>
        </p:nvGrpSpPr>
        <p:grpSpPr>
          <a:xfrm>
            <a:off x="3581280" y="0"/>
            <a:ext cx="2666880" cy="2438280"/>
            <a:chOff x="3581280" y="0"/>
            <a:chExt cx="2666880" cy="2438280"/>
          </a:xfrm>
        </p:grpSpPr>
        <p:pic>
          <p:nvPicPr>
            <p:cNvPr id="273" name="图片 16394" descr="苹果1"/>
            <p:cNvPicPr/>
            <p:nvPr/>
          </p:nvPicPr>
          <p:blipFill>
            <a:blip r:embed="rId4"/>
            <a:stretch/>
          </p:blipFill>
          <p:spPr>
            <a:xfrm>
              <a:off x="3581280" y="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6395"/>
            <p:cNvSpPr/>
            <p:nvPr/>
          </p:nvSpPr>
          <p:spPr>
            <a:xfrm>
              <a:off x="4190760" y="7621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糟糕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5" name="组合 16396"/>
          <p:cNvGrpSpPr/>
          <p:nvPr/>
        </p:nvGrpSpPr>
        <p:grpSpPr>
          <a:xfrm>
            <a:off x="-531720" y="2666880"/>
            <a:ext cx="2665080" cy="2438280"/>
            <a:chOff x="-531720" y="2666880"/>
            <a:chExt cx="2665080" cy="2438280"/>
          </a:xfrm>
        </p:grpSpPr>
        <p:pic>
          <p:nvPicPr>
            <p:cNvPr id="276" name="图片 16397" descr="苹果1"/>
            <p:cNvPicPr/>
            <p:nvPr/>
          </p:nvPicPr>
          <p:blipFill>
            <a:blip r:embed="rId5"/>
            <a:stretch/>
          </p:blipFill>
          <p:spPr>
            <a:xfrm>
              <a:off x="-531720" y="2666880"/>
              <a:ext cx="2436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398"/>
            <p:cNvSpPr/>
            <p:nvPr/>
          </p:nvSpPr>
          <p:spPr>
            <a:xfrm>
              <a:off x="77400" y="3429000"/>
              <a:ext cx="20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肯定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8" name="组合 16399"/>
          <p:cNvGrpSpPr/>
          <p:nvPr/>
        </p:nvGrpSpPr>
        <p:grpSpPr>
          <a:xfrm>
            <a:off x="914400" y="2819520"/>
            <a:ext cx="2666880" cy="2438280"/>
            <a:chOff x="914400" y="2819520"/>
            <a:chExt cx="2666880" cy="2438280"/>
          </a:xfrm>
        </p:grpSpPr>
        <p:pic>
          <p:nvPicPr>
            <p:cNvPr id="279" name="图片 16400" descr="苹果1"/>
            <p:cNvPicPr/>
            <p:nvPr/>
          </p:nvPicPr>
          <p:blipFill>
            <a:blip r:embed="rId6"/>
            <a:stretch/>
          </p:blipFill>
          <p:spPr>
            <a:xfrm>
              <a:off x="91440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16401"/>
            <p:cNvSpPr/>
            <p:nvPr/>
          </p:nvSpPr>
          <p:spPr>
            <a:xfrm>
              <a:off x="152388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脑筋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1" name="组合 16402"/>
          <p:cNvGrpSpPr/>
          <p:nvPr/>
        </p:nvGrpSpPr>
        <p:grpSpPr>
          <a:xfrm>
            <a:off x="2819520" y="2819520"/>
            <a:ext cx="2666880" cy="2438280"/>
            <a:chOff x="2819520" y="2819520"/>
            <a:chExt cx="2666880" cy="2438280"/>
          </a:xfrm>
        </p:grpSpPr>
        <p:pic>
          <p:nvPicPr>
            <p:cNvPr id="282" name="图片 16403" descr="苹果1"/>
            <p:cNvPicPr/>
            <p:nvPr/>
          </p:nvPicPr>
          <p:blipFill>
            <a:blip r:embed="rId7"/>
            <a:stretch/>
          </p:blipFill>
          <p:spPr>
            <a:xfrm>
              <a:off x="281952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404"/>
            <p:cNvSpPr/>
            <p:nvPr/>
          </p:nvSpPr>
          <p:spPr>
            <a:xfrm>
              <a:off x="342900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端详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4" name="组合 16405"/>
          <p:cNvGrpSpPr/>
          <p:nvPr/>
        </p:nvGrpSpPr>
        <p:grpSpPr>
          <a:xfrm>
            <a:off x="4343400" y="2743200"/>
            <a:ext cx="2666880" cy="2438280"/>
            <a:chOff x="4343400" y="2743200"/>
            <a:chExt cx="2666880" cy="2438280"/>
          </a:xfrm>
        </p:grpSpPr>
        <p:pic>
          <p:nvPicPr>
            <p:cNvPr id="285" name="图片 16406" descr="苹果1"/>
            <p:cNvPicPr/>
            <p:nvPr/>
          </p:nvPicPr>
          <p:blipFill>
            <a:blip r:embed="rId8"/>
            <a:stretch/>
          </p:blipFill>
          <p:spPr>
            <a:xfrm>
              <a:off x="4343400" y="27432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16407"/>
            <p:cNvSpPr/>
            <p:nvPr/>
          </p:nvSpPr>
          <p:spPr>
            <a:xfrm>
              <a:off x="4952880" y="35053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一幅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7" name="组合 16408"/>
          <p:cNvGrpSpPr/>
          <p:nvPr/>
        </p:nvGrpSpPr>
        <p:grpSpPr>
          <a:xfrm>
            <a:off x="6019920" y="3048120"/>
            <a:ext cx="2666880" cy="2438280"/>
            <a:chOff x="6019920" y="3048120"/>
            <a:chExt cx="2666880" cy="2438280"/>
          </a:xfrm>
        </p:grpSpPr>
        <p:pic>
          <p:nvPicPr>
            <p:cNvPr id="288" name="图片 16409" descr="苹果1"/>
            <p:cNvPicPr/>
            <p:nvPr/>
          </p:nvPicPr>
          <p:blipFill>
            <a:blip r:embed="rId9"/>
            <a:stretch/>
          </p:blipFill>
          <p:spPr>
            <a:xfrm>
              <a:off x="60199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16410"/>
            <p:cNvSpPr/>
            <p:nvPr/>
          </p:nvSpPr>
          <p:spPr>
            <a:xfrm>
              <a:off x="6629400" y="3810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奖励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0" name="组合 16411"/>
          <p:cNvGrpSpPr/>
          <p:nvPr/>
        </p:nvGrpSpPr>
        <p:grpSpPr>
          <a:xfrm>
            <a:off x="6477120" y="1523880"/>
            <a:ext cx="2666880" cy="2438280"/>
            <a:chOff x="6477120" y="1523880"/>
            <a:chExt cx="2666880" cy="2438280"/>
          </a:xfrm>
        </p:grpSpPr>
        <p:pic>
          <p:nvPicPr>
            <p:cNvPr id="291" name="图片 16412" descr="苹果1"/>
            <p:cNvPicPr/>
            <p:nvPr/>
          </p:nvPicPr>
          <p:blipFill>
            <a:blip r:embed="rId10"/>
            <a:stretch/>
          </p:blipFill>
          <p:spPr>
            <a:xfrm>
              <a:off x="6477120" y="15238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413"/>
            <p:cNvSpPr/>
            <p:nvPr/>
          </p:nvSpPr>
          <p:spPr>
            <a:xfrm>
              <a:off x="7086600" y="22860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催促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3" name="组合 16414"/>
          <p:cNvGrpSpPr/>
          <p:nvPr/>
        </p:nvGrpSpPr>
        <p:grpSpPr>
          <a:xfrm>
            <a:off x="1828800" y="-227160"/>
            <a:ext cx="2666880" cy="2436840"/>
            <a:chOff x="1828800" y="-227160"/>
            <a:chExt cx="2666880" cy="2436840"/>
          </a:xfrm>
        </p:grpSpPr>
        <p:pic>
          <p:nvPicPr>
            <p:cNvPr id="294" name="图片 16415" descr="苹果1"/>
            <p:cNvPicPr/>
            <p:nvPr/>
          </p:nvPicPr>
          <p:blipFill>
            <a:blip r:embed="rId11"/>
            <a:stretch/>
          </p:blipFill>
          <p:spPr>
            <a:xfrm>
              <a:off x="1828800" y="-227160"/>
              <a:ext cx="243828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416"/>
            <p:cNvSpPr/>
            <p:nvPr/>
          </p:nvSpPr>
          <p:spPr>
            <a:xfrm>
              <a:off x="2438280" y="534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喇叭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6" name="组合 16417"/>
          <p:cNvGrpSpPr/>
          <p:nvPr/>
        </p:nvGrpSpPr>
        <p:grpSpPr>
          <a:xfrm>
            <a:off x="4876920" y="914400"/>
            <a:ext cx="2666880" cy="2438280"/>
            <a:chOff x="4876920" y="914400"/>
            <a:chExt cx="2666880" cy="2438280"/>
          </a:xfrm>
        </p:grpSpPr>
        <p:pic>
          <p:nvPicPr>
            <p:cNvPr id="297" name="图片 16418" descr="苹果1"/>
            <p:cNvPicPr/>
            <p:nvPr/>
          </p:nvPicPr>
          <p:blipFill>
            <a:blip r:embed="rId12"/>
            <a:stretch/>
          </p:blipFill>
          <p:spPr>
            <a:xfrm>
              <a:off x="4876920" y="9144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16419"/>
            <p:cNvSpPr/>
            <p:nvPr/>
          </p:nvSpPr>
          <p:spPr>
            <a:xfrm>
              <a:off x="5486400" y="16765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楼梯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9" name="组合 16420"/>
          <p:cNvGrpSpPr/>
          <p:nvPr/>
        </p:nvGrpSpPr>
        <p:grpSpPr>
          <a:xfrm>
            <a:off x="2362320" y="1371600"/>
            <a:ext cx="2666880" cy="2438280"/>
            <a:chOff x="2362320" y="1371600"/>
            <a:chExt cx="2666880" cy="2438280"/>
          </a:xfrm>
        </p:grpSpPr>
        <p:pic>
          <p:nvPicPr>
            <p:cNvPr id="300" name="图片 16421" descr="苹果1"/>
            <p:cNvPicPr/>
            <p:nvPr/>
          </p:nvPicPr>
          <p:blipFill>
            <a:blip r:embed="rId13"/>
            <a:stretch/>
          </p:blipFill>
          <p:spPr>
            <a:xfrm>
              <a:off x="2362320" y="13716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16422"/>
            <p:cNvSpPr/>
            <p:nvPr/>
          </p:nvSpPr>
          <p:spPr>
            <a:xfrm>
              <a:off x="2971800" y="2133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弄脏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17409"/>
          <p:cNvSpPr/>
          <p:nvPr/>
        </p:nvSpPr>
        <p:spPr>
          <a:xfrm>
            <a:off x="321660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识字游戏：摘白云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3" name="云形标注 17410"/>
          <p:cNvSpPr/>
          <p:nvPr/>
        </p:nvSpPr>
        <p:spPr>
          <a:xfrm>
            <a:off x="684360" y="1773360"/>
            <a:ext cx="1439640" cy="1079280"/>
          </a:xfrm>
          <a:prstGeom prst="cloudCallout">
            <a:avLst>
              <a:gd name="adj1" fmla="val -55"/>
              <a:gd name="adj2" fmla="val 4058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玲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4" name="云形标注 17411"/>
          <p:cNvSpPr/>
          <p:nvPr/>
        </p:nvSpPr>
        <p:spPr>
          <a:xfrm>
            <a:off x="6877080" y="4221000"/>
            <a:ext cx="1295280" cy="1224000"/>
          </a:xfrm>
          <a:prstGeom prst="cloudCallout">
            <a:avLst>
              <a:gd name="adj1" fmla="val -24143"/>
              <a:gd name="adj2" fmla="val 126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5" name="云形标注 17412"/>
          <p:cNvSpPr/>
          <p:nvPr/>
        </p:nvSpPr>
        <p:spPr>
          <a:xfrm>
            <a:off x="5003640" y="4149720"/>
            <a:ext cx="1368720" cy="1224000"/>
          </a:xfrm>
          <a:prstGeom prst="cloudCallout">
            <a:avLst>
              <a:gd name="adj1" fmla="val 6032"/>
              <a:gd name="adj2" fmla="val -2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叭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6" name="云形标注 17413"/>
          <p:cNvSpPr/>
          <p:nvPr/>
        </p:nvSpPr>
        <p:spPr>
          <a:xfrm>
            <a:off x="2627280" y="4076640"/>
            <a:ext cx="1513080" cy="1297080"/>
          </a:xfrm>
          <a:prstGeom prst="cloudCallout">
            <a:avLst>
              <a:gd name="adj1" fmla="val 28592"/>
              <a:gd name="adj2" fmla="val 290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7" name="云形标注 17414"/>
          <p:cNvSpPr/>
          <p:nvPr/>
        </p:nvSpPr>
        <p:spPr>
          <a:xfrm>
            <a:off x="826920" y="4149720"/>
            <a:ext cx="1368720" cy="1440000"/>
          </a:xfrm>
          <a:prstGeom prst="cloudCallout">
            <a:avLst>
              <a:gd name="adj1" fmla="val 38050"/>
              <a:gd name="adj2" fmla="val 36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楼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8" name="云形标注 17415"/>
          <p:cNvSpPr/>
          <p:nvPr/>
        </p:nvSpPr>
        <p:spPr>
          <a:xfrm>
            <a:off x="6877080" y="1484280"/>
            <a:ext cx="1366920" cy="1081080"/>
          </a:xfrm>
          <a:prstGeom prst="cloudCallout">
            <a:avLst>
              <a:gd name="adj1" fmla="val 30023"/>
              <a:gd name="adj2" fmla="val 241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狗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9" name="云形标注 17416"/>
          <p:cNvSpPr/>
          <p:nvPr/>
        </p:nvSpPr>
        <p:spPr>
          <a:xfrm>
            <a:off x="5651640" y="2492280"/>
            <a:ext cx="1368360" cy="1152720"/>
          </a:xfrm>
          <a:prstGeom prst="cloudCallout">
            <a:avLst>
              <a:gd name="adj1" fmla="val -9166"/>
              <a:gd name="adj2" fmla="val 1721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0" name="云形标注 17417"/>
          <p:cNvSpPr/>
          <p:nvPr/>
        </p:nvSpPr>
        <p:spPr>
          <a:xfrm>
            <a:off x="3995640" y="1700280"/>
            <a:ext cx="1513080" cy="1297080"/>
          </a:xfrm>
          <a:prstGeom prst="cloudCallout">
            <a:avLst>
              <a:gd name="adj1" fmla="val 14740"/>
              <a:gd name="adj2" fmla="val 2600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糟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1" name="云形标注 17418"/>
          <p:cNvSpPr/>
          <p:nvPr/>
        </p:nvSpPr>
        <p:spPr>
          <a:xfrm>
            <a:off x="2340000" y="2421000"/>
            <a:ext cx="1368360" cy="1297080"/>
          </a:xfrm>
          <a:prstGeom prst="cloudCallout">
            <a:avLst>
              <a:gd name="adj1" fmla="val 18907"/>
              <a:gd name="adj2" fmla="val 48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脑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71280" y="155700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ānɡ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脏东西   弄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ànɡ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脏     内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《我家的一角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1403280" y="1627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20481"/>
          <p:cNvSpPr/>
          <p:nvPr/>
        </p:nvSpPr>
        <p:spPr>
          <a:xfrm>
            <a:off x="684360" y="134136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玲玲满意地端详着自己画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6" name="文本框 20482"/>
          <p:cNvSpPr/>
          <p:nvPr/>
        </p:nvSpPr>
        <p:spPr>
          <a:xfrm>
            <a:off x="1187280" y="4437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从哪个词语看出玲玲很喜欢自己的画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332000" y="11271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端详</a:t>
            </a:r>
            <a:endParaRPr b="0" lang="en-US" sz="7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9" name="文本框 21507"/>
          <p:cNvSpPr/>
          <p:nvPr/>
        </p:nvSpPr>
        <p:spPr>
          <a:xfrm>
            <a:off x="5651640" y="33591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认真地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26560" y="1916280"/>
            <a:ext cx="831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3553"/>
          <p:cNvSpPr/>
          <p:nvPr/>
        </p:nvSpPr>
        <p:spPr>
          <a:xfrm>
            <a:off x="277164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叭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2" name="文本框 23554"/>
          <p:cNvSpPr/>
          <p:nvPr/>
        </p:nvSpPr>
        <p:spPr>
          <a:xfrm>
            <a:off x="485928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趴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3" name="文本框 23555"/>
          <p:cNvSpPr/>
          <p:nvPr/>
        </p:nvSpPr>
        <p:spPr>
          <a:xfrm>
            <a:off x="611280" y="278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彩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一下掉到了纸上。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4" name="文本框 23556"/>
          <p:cNvSpPr/>
          <p:nvPr/>
        </p:nvSpPr>
        <p:spPr>
          <a:xfrm>
            <a:off x="324000" y="4365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花狗懒洋洋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楼梯上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90972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25 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宋体"/>
              </a:rPr>
              <a:t>玲 玲 的 画</a:t>
            </a:r>
            <a:endParaRPr b="0" lang="en-US" sz="8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1" name="矩形 6146"/>
          <p:cNvSpPr/>
          <p:nvPr/>
        </p:nvSpPr>
        <p:spPr>
          <a:xfrm>
            <a:off x="127980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2" name="矩形 6147"/>
          <p:cNvSpPr/>
          <p:nvPr/>
        </p:nvSpPr>
        <p:spPr>
          <a:xfrm>
            <a:off x="2214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3" name="矩形 6148"/>
          <p:cNvSpPr/>
          <p:nvPr/>
        </p:nvSpPr>
        <p:spPr>
          <a:xfrm>
            <a:off x="3222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4" name="矩形 6149"/>
          <p:cNvSpPr/>
          <p:nvPr/>
        </p:nvSpPr>
        <p:spPr>
          <a:xfrm>
            <a:off x="531036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5" name="矩形 6150"/>
          <p:cNvSpPr/>
          <p:nvPr/>
        </p:nvSpPr>
        <p:spPr>
          <a:xfrm>
            <a:off x="423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6" name="矩形 6151"/>
          <p:cNvSpPr/>
          <p:nvPr/>
        </p:nvSpPr>
        <p:spPr>
          <a:xfrm>
            <a:off x="747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拎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7" name="矩形 6152"/>
          <p:cNvSpPr/>
          <p:nvPr/>
        </p:nvSpPr>
        <p:spPr>
          <a:xfrm>
            <a:off x="639144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24577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26" name="矩形 24578"/>
          <p:cNvSpPr/>
          <p:nvPr/>
        </p:nvSpPr>
        <p:spPr>
          <a:xfrm>
            <a:off x="2843280" y="190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5601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8" name="文本框 25602"/>
          <p:cNvSpPr/>
          <p:nvPr/>
        </p:nvSpPr>
        <p:spPr>
          <a:xfrm>
            <a:off x="1042920" y="148428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爸爸催她睡觉，在她收拾画笔时发生了什么事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9" name="文本框 25603"/>
          <p:cNvSpPr/>
          <p:nvPr/>
        </p:nvSpPr>
        <p:spPr>
          <a:xfrm>
            <a:off x="2961000" y="306864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0" name="矩形 25604"/>
          <p:cNvSpPr/>
          <p:nvPr/>
        </p:nvSpPr>
        <p:spPr>
          <a:xfrm>
            <a:off x="1692360" y="4797360"/>
            <a:ext cx="593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1" name="矩形 25605"/>
          <p:cNvSpPr/>
          <p:nvPr/>
        </p:nvSpPr>
        <p:spPr>
          <a:xfrm>
            <a:off x="2468520" y="407664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472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2142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761904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35" name="组合 27651"/>
          <p:cNvGrpSpPr/>
          <p:nvPr/>
        </p:nvGrpSpPr>
        <p:grpSpPr>
          <a:xfrm>
            <a:off x="3139920" y="765000"/>
            <a:ext cx="4096440" cy="1663560"/>
            <a:chOff x="3139920" y="765000"/>
            <a:chExt cx="4096440" cy="1663560"/>
          </a:xfrm>
        </p:grpSpPr>
        <p:sp>
          <p:nvSpPr>
            <p:cNvPr id="336" name="AutoShape 6"/>
            <p:cNvSpPr/>
            <p:nvPr/>
          </p:nvSpPr>
          <p:spPr>
            <a:xfrm>
              <a:off x="3139920" y="765000"/>
              <a:ext cx="4096440" cy="166356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4379400" y="1213200"/>
              <a:ext cx="252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338" name="组合 27654"/>
          <p:cNvGrpSpPr/>
          <p:nvPr/>
        </p:nvGrpSpPr>
        <p:grpSpPr>
          <a:xfrm>
            <a:off x="4356000" y="2637000"/>
            <a:ext cx="4430520" cy="2669760"/>
            <a:chOff x="4356000" y="2637000"/>
            <a:chExt cx="4430520" cy="2669760"/>
          </a:xfrm>
        </p:grpSpPr>
        <p:sp>
          <p:nvSpPr>
            <p:cNvPr id="339" name="AutoShape 9"/>
            <p:cNvSpPr/>
            <p:nvPr/>
          </p:nvSpPr>
          <p:spPr>
            <a:xfrm>
              <a:off x="4356000" y="2637000"/>
              <a:ext cx="4024440" cy="266976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4606560" y="3017880"/>
              <a:ext cx="41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脏了，另画一张也来不及了。</a:t>
              </a:r>
              <a:endParaRPr b="0" lang="en-US" sz="40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28673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2" name="文本框 28674"/>
          <p:cNvSpPr/>
          <p:nvPr/>
        </p:nvSpPr>
        <p:spPr>
          <a:xfrm>
            <a:off x="3063960" y="249228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看了画后，怎么说的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组合 29698"/>
          <p:cNvGrpSpPr/>
          <p:nvPr/>
        </p:nvGrpSpPr>
        <p:grpSpPr>
          <a:xfrm>
            <a:off x="3132000" y="333360"/>
            <a:ext cx="5111640" cy="1728720"/>
            <a:chOff x="3132000" y="333360"/>
            <a:chExt cx="5111640" cy="1728720"/>
          </a:xfrm>
        </p:grpSpPr>
        <p:sp>
          <p:nvSpPr>
            <p:cNvPr id="345" name="AutoShape 6"/>
            <p:cNvSpPr/>
            <p:nvPr/>
          </p:nvSpPr>
          <p:spPr>
            <a:xfrm>
              <a:off x="3132000" y="333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3421080" y="550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儿什么，不是很好吗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6"/>
          <p:cNvSpPr/>
          <p:nvPr/>
        </p:nvSpPr>
        <p:spPr>
          <a:xfrm>
            <a:off x="735120" y="3867120"/>
            <a:ext cx="419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8" name="文本框 30722"/>
          <p:cNvSpPr/>
          <p:nvPr/>
        </p:nvSpPr>
        <p:spPr>
          <a:xfrm>
            <a:off x="1116000" y="2349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不是很好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9" name="文本框 30723"/>
          <p:cNvSpPr/>
          <p:nvPr/>
        </p:nvSpPr>
        <p:spPr>
          <a:xfrm>
            <a:off x="1116000" y="371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是很好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0" name="文本框 30724"/>
          <p:cNvSpPr/>
          <p:nvPr/>
        </p:nvSpPr>
        <p:spPr>
          <a:xfrm>
            <a:off x="900000" y="62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改成肯定句：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31745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2" name="文本框 31746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玲玲听了爸爸的话后是怎么做的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3" name="文本框 31747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4" name="矩形 31748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00000" y="2352600"/>
            <a:ext cx="763272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21e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想了想，拿起笔，在弄脏的地方画了一只小花狗。小花狗懒洋洋地趴在楼梯上。玲玲满意地笑了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33793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57" name="矩形 33794"/>
          <p:cNvSpPr/>
          <p:nvPr/>
        </p:nvSpPr>
        <p:spPr>
          <a:xfrm>
            <a:off x="3935160" y="190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7169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170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0" y="1214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玲玲满意地端详着自己画的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《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我家的一角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》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幅画明天就要参加评奖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玲玲，时间不早了，快去睡吧！”爸爸又在催她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好的，我把画笔收拾一下就去睡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就在这时候，水彩笔叭的一下掉到了纸上，把画弄脏了，玲玲哇地哭了起来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怎么了，孩子？”爸爸放下报纸问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我的画脏了，另画一张也来不及了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仔细地看了看，说：“别哭，孩子。在这儿画点儿什么，不是很好吗？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玲玲想了想，拿起笔，在弄脏的地方画了一只小花狗。小花狗懒洋洋地趴在楼梯上。玲玲满意地笑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看了，高兴地说：“看到了吧，孩子。好多事情并不像我们想象的那么糟。只要肯动脑筋，坏事往往能变成好事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在第二天的评奖会上，玲玲的画得了一等奖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1" name="矩形 7172"/>
          <p:cNvSpPr txBox="1"/>
          <p:nvPr/>
        </p:nvSpPr>
        <p:spPr>
          <a:xfrm>
            <a:off x="370836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9cc00">
                      <a:alpha val="80000"/>
                    </a:srgbClr>
                  </a:outerShdw>
                </a:effectLst>
                <a:latin typeface="楷体_GB2312"/>
              </a:rPr>
              <a:t>玲玲的画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9cc0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矩形 7173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43" name="玲玲的画.mp3" descr=""/>
          <p:cNvPicPr/>
          <p:nvPr/>
        </p:nvPicPr>
        <p:blipFill>
          <a:blip r:embed="rId3"/>
          <a:stretch/>
        </p:blipFill>
        <p:spPr>
          <a:xfrm>
            <a:off x="6227640" y="6922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874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611280" y="1052640"/>
            <a:ext cx="7921440" cy="5298840"/>
          </a:xfrm>
          <a:prstGeom prst="rect">
            <a:avLst/>
          </a:prstGeom>
          <a:ln w="0">
            <a:noFill/>
          </a:ln>
        </p:spPr>
      </p:pic>
      <p:sp>
        <p:nvSpPr>
          <p:cNvPr id="359" name="矩形 34818"/>
          <p:cNvSpPr/>
          <p:nvPr/>
        </p:nvSpPr>
        <p:spPr>
          <a:xfrm>
            <a:off x="3935160" y="26028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35841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4819680" y="476280"/>
            <a:ext cx="4324320" cy="37623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5842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0" y="404640"/>
            <a:ext cx="4643280" cy="398016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35843"/>
          <p:cNvSpPr/>
          <p:nvPr/>
        </p:nvSpPr>
        <p:spPr>
          <a:xfrm>
            <a:off x="104292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这两幅画，你更喜欢哪一幅？为什么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8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37889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65" name="文本框 37890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针对这件事是怎么教育玲玲的呢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38914"/>
          <p:cNvGrpSpPr/>
          <p:nvPr/>
        </p:nvGrpSpPr>
        <p:grpSpPr>
          <a:xfrm>
            <a:off x="3492360" y="907920"/>
            <a:ext cx="5830920" cy="2881440"/>
            <a:chOff x="3492360" y="907920"/>
            <a:chExt cx="5830920" cy="2881440"/>
          </a:xfrm>
        </p:grpSpPr>
        <p:sp>
          <p:nvSpPr>
            <p:cNvPr id="368" name="AutoShape 4"/>
            <p:cNvSpPr/>
            <p:nvPr/>
          </p:nvSpPr>
          <p:spPr>
            <a:xfrm>
              <a:off x="3492360" y="907920"/>
              <a:ext cx="565164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3851280" y="1315800"/>
              <a:ext cx="54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看到了吧，孩子。好多事情并不象我们想象的那么糟。只要肯动脑筋，坏事往往能变成好事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9937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71" name="文本框 39938"/>
          <p:cNvSpPr/>
          <p:nvPr/>
        </p:nvSpPr>
        <p:spPr>
          <a:xfrm>
            <a:off x="1116000" y="198900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的话有道理吗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听了爸爸的话，你有什么想法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372" name="图片 39939" descr="4"/>
          <p:cNvPicPr/>
          <p:nvPr/>
        </p:nvPicPr>
        <p:blipFill>
          <a:blip r:embed="rId1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100084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矩形 40962"/>
          <p:cNvSpPr/>
          <p:nvPr/>
        </p:nvSpPr>
        <p:spPr>
          <a:xfrm>
            <a:off x="395280" y="5236560"/>
            <a:ext cx="8352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二天的评奖会上，玲玲的画得了一等奖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41985"/>
          <p:cNvGrpSpPr/>
          <p:nvPr/>
        </p:nvGrpSpPr>
        <p:grpSpPr>
          <a:xfrm>
            <a:off x="2050920" y="1844640"/>
            <a:ext cx="7991640" cy="3090600"/>
            <a:chOff x="2050920" y="1844640"/>
            <a:chExt cx="7991640" cy="3090600"/>
          </a:xfrm>
        </p:grpSpPr>
        <p:sp>
          <p:nvSpPr>
            <p:cNvPr id="376" name="Text Box 8"/>
            <p:cNvSpPr/>
            <p:nvPr/>
          </p:nvSpPr>
          <p:spPr>
            <a:xfrm>
              <a:off x="2050920" y="1844640"/>
              <a:ext cx="79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2698560" y="314172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2914560" y="4292640"/>
              <a:ext cx="61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379" name="文本框 41989"/>
          <p:cNvSpPr/>
          <p:nvPr/>
        </p:nvSpPr>
        <p:spPr>
          <a:xfrm>
            <a:off x="1763640" y="112716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伤心极了  伤心绝望</a:t>
            </a:r>
            <a:r>
              <a:rPr b="1" lang="zh-CN" sz="4800" spc="-1" strike="noStrike">
                <a:solidFill>
                  <a:srgbClr val="06521e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悲观失望  泪如雨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0" name="文本框 41990"/>
          <p:cNvSpPr/>
          <p:nvPr/>
        </p:nvSpPr>
        <p:spPr>
          <a:xfrm>
            <a:off x="1835280" y="43657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画弄脏了，玲玲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                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6"/>
          <p:cNvSpPr/>
          <p:nvPr/>
        </p:nvSpPr>
        <p:spPr>
          <a:xfrm>
            <a:off x="1835280" y="4292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画得奖了，玲玲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2" name="文本框 43010"/>
          <p:cNvSpPr/>
          <p:nvPr/>
        </p:nvSpPr>
        <p:spPr>
          <a:xfrm>
            <a:off x="1692360" y="112716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开心极了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神采飞扬  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洋洋得意  喜笑颜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627200"/>
            <a:ext cx="7993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告诉我们一个什么道理？用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~~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文中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8193"/>
          <p:cNvGrpSpPr/>
          <p:nvPr/>
        </p:nvGrpSpPr>
        <p:grpSpPr>
          <a:xfrm>
            <a:off x="1187280" y="692280"/>
            <a:ext cx="1522440" cy="1655640"/>
            <a:chOff x="1187280" y="692280"/>
            <a:chExt cx="1522440" cy="1655640"/>
          </a:xfrm>
        </p:grpSpPr>
        <p:pic>
          <p:nvPicPr>
            <p:cNvPr id="145" name="图片 8194" descr="田字格"/>
            <p:cNvPicPr/>
            <p:nvPr/>
          </p:nvPicPr>
          <p:blipFill>
            <a:blip r:embed="rId1"/>
            <a:stretch/>
          </p:blipFill>
          <p:spPr>
            <a:xfrm>
              <a:off x="1187280" y="763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8195"/>
            <p:cNvSpPr/>
            <p:nvPr/>
          </p:nvSpPr>
          <p:spPr>
            <a:xfrm>
              <a:off x="1258560" y="692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叭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47" name="组合 8196"/>
          <p:cNvGrpSpPr/>
          <p:nvPr/>
        </p:nvGrpSpPr>
        <p:grpSpPr>
          <a:xfrm>
            <a:off x="1219320" y="2743200"/>
            <a:ext cx="1522440" cy="1655640"/>
            <a:chOff x="1219320" y="2743200"/>
            <a:chExt cx="1522440" cy="1655640"/>
          </a:xfrm>
        </p:grpSpPr>
        <p:pic>
          <p:nvPicPr>
            <p:cNvPr id="148" name="图片 8197" descr="田字格"/>
            <p:cNvPicPr/>
            <p:nvPr/>
          </p:nvPicPr>
          <p:blipFill>
            <a:blip r:embed="rId2"/>
            <a:stretch/>
          </p:blipFill>
          <p:spPr>
            <a:xfrm>
              <a:off x="121932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8198"/>
            <p:cNvSpPr/>
            <p:nvPr/>
          </p:nvSpPr>
          <p:spPr>
            <a:xfrm>
              <a:off x="129060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糟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0" name="组合 8199"/>
          <p:cNvGrpSpPr/>
          <p:nvPr/>
        </p:nvGrpSpPr>
        <p:grpSpPr>
          <a:xfrm>
            <a:off x="1219320" y="4648320"/>
            <a:ext cx="1522440" cy="1655640"/>
            <a:chOff x="1219320" y="4648320"/>
            <a:chExt cx="1522440" cy="1655640"/>
          </a:xfrm>
        </p:grpSpPr>
        <p:pic>
          <p:nvPicPr>
            <p:cNvPr id="151" name="图片 8200" descr="田字格"/>
            <p:cNvPicPr/>
            <p:nvPr/>
          </p:nvPicPr>
          <p:blipFill>
            <a:blip r:embed="rId3"/>
            <a:stretch/>
          </p:blipFill>
          <p:spPr>
            <a:xfrm>
              <a:off x="1219320" y="471960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8201"/>
            <p:cNvSpPr/>
            <p:nvPr/>
          </p:nvSpPr>
          <p:spPr>
            <a:xfrm>
              <a:off x="1290600" y="464832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3" name="组合 8202"/>
          <p:cNvGrpSpPr/>
          <p:nvPr/>
        </p:nvGrpSpPr>
        <p:grpSpPr>
          <a:xfrm>
            <a:off x="3809880" y="4724280"/>
            <a:ext cx="1522440" cy="1655640"/>
            <a:chOff x="3809880" y="4724280"/>
            <a:chExt cx="1522440" cy="1655640"/>
          </a:xfrm>
        </p:grpSpPr>
        <p:pic>
          <p:nvPicPr>
            <p:cNvPr id="154" name="图片 8203" descr="田字格"/>
            <p:cNvPicPr/>
            <p:nvPr/>
          </p:nvPicPr>
          <p:blipFill>
            <a:blip r:embed="rId4"/>
            <a:stretch/>
          </p:blipFill>
          <p:spPr>
            <a:xfrm>
              <a:off x="3809880" y="4795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8204"/>
            <p:cNvSpPr/>
            <p:nvPr/>
          </p:nvSpPr>
          <p:spPr>
            <a:xfrm>
              <a:off x="3881160" y="4724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脑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6" name="组合 8205"/>
          <p:cNvGrpSpPr/>
          <p:nvPr/>
        </p:nvGrpSpPr>
        <p:grpSpPr>
          <a:xfrm>
            <a:off x="3809880" y="2666880"/>
            <a:ext cx="1522440" cy="1655640"/>
            <a:chOff x="3809880" y="2666880"/>
            <a:chExt cx="1522440" cy="1655640"/>
          </a:xfrm>
        </p:grpSpPr>
        <p:pic>
          <p:nvPicPr>
            <p:cNvPr id="157" name="图片 8206" descr="田字格"/>
            <p:cNvPicPr/>
            <p:nvPr/>
          </p:nvPicPr>
          <p:blipFill>
            <a:blip r:embed="rId5"/>
            <a:stretch/>
          </p:blipFill>
          <p:spPr>
            <a:xfrm>
              <a:off x="3809880" y="27381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8207"/>
            <p:cNvSpPr/>
            <p:nvPr/>
          </p:nvSpPr>
          <p:spPr>
            <a:xfrm>
              <a:off x="3881160" y="26668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楼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9" name="组合 8208"/>
          <p:cNvGrpSpPr/>
          <p:nvPr/>
        </p:nvGrpSpPr>
        <p:grpSpPr>
          <a:xfrm>
            <a:off x="3733920" y="685800"/>
            <a:ext cx="1522440" cy="1655640"/>
            <a:chOff x="3733920" y="685800"/>
            <a:chExt cx="1522440" cy="1655640"/>
          </a:xfrm>
        </p:grpSpPr>
        <p:pic>
          <p:nvPicPr>
            <p:cNvPr id="160" name="图片 8209" descr="田字格"/>
            <p:cNvPicPr/>
            <p:nvPr/>
          </p:nvPicPr>
          <p:blipFill>
            <a:blip r:embed="rId6"/>
            <a:stretch/>
          </p:blipFill>
          <p:spPr>
            <a:xfrm>
              <a:off x="3733920" y="7570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8210"/>
            <p:cNvSpPr/>
            <p:nvPr/>
          </p:nvSpPr>
          <p:spPr>
            <a:xfrm>
              <a:off x="3805200" y="6858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玲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2" name="组合 8211"/>
          <p:cNvGrpSpPr/>
          <p:nvPr/>
        </p:nvGrpSpPr>
        <p:grpSpPr>
          <a:xfrm>
            <a:off x="6553080" y="4572000"/>
            <a:ext cx="1522440" cy="1655640"/>
            <a:chOff x="6553080" y="4572000"/>
            <a:chExt cx="1522440" cy="1655640"/>
          </a:xfrm>
        </p:grpSpPr>
        <p:pic>
          <p:nvPicPr>
            <p:cNvPr id="163" name="图片 8212" descr="田字格"/>
            <p:cNvPicPr/>
            <p:nvPr/>
          </p:nvPicPr>
          <p:blipFill>
            <a:blip r:embed="rId7"/>
            <a:stretch/>
          </p:blipFill>
          <p:spPr>
            <a:xfrm>
              <a:off x="6553080" y="46432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8213"/>
            <p:cNvSpPr/>
            <p:nvPr/>
          </p:nvSpPr>
          <p:spPr>
            <a:xfrm>
              <a:off x="6624360" y="45720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筋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5" name="组合 8214"/>
          <p:cNvGrpSpPr/>
          <p:nvPr/>
        </p:nvGrpSpPr>
        <p:grpSpPr>
          <a:xfrm>
            <a:off x="6553080" y="2743200"/>
            <a:ext cx="1522440" cy="1655640"/>
            <a:chOff x="6553080" y="2743200"/>
            <a:chExt cx="1522440" cy="1655640"/>
          </a:xfrm>
        </p:grpSpPr>
        <p:pic>
          <p:nvPicPr>
            <p:cNvPr id="166" name="图片 8215" descr="田字格"/>
            <p:cNvPicPr/>
            <p:nvPr/>
          </p:nvPicPr>
          <p:blipFill>
            <a:blip r:embed="rId8"/>
            <a:stretch/>
          </p:blipFill>
          <p:spPr>
            <a:xfrm>
              <a:off x="655308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8216"/>
            <p:cNvSpPr/>
            <p:nvPr/>
          </p:nvSpPr>
          <p:spPr>
            <a:xfrm>
              <a:off x="662436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8" name="组合 8217"/>
          <p:cNvGrpSpPr/>
          <p:nvPr/>
        </p:nvGrpSpPr>
        <p:grpSpPr>
          <a:xfrm>
            <a:off x="6400800" y="609480"/>
            <a:ext cx="1522440" cy="1655640"/>
            <a:chOff x="6400800" y="609480"/>
            <a:chExt cx="1522440" cy="1655640"/>
          </a:xfrm>
        </p:grpSpPr>
        <p:pic>
          <p:nvPicPr>
            <p:cNvPr id="169" name="图片 8218" descr="田字格"/>
            <p:cNvPicPr/>
            <p:nvPr/>
          </p:nvPicPr>
          <p:blipFill>
            <a:blip r:embed="rId9"/>
            <a:stretch/>
          </p:blipFill>
          <p:spPr>
            <a:xfrm>
              <a:off x="6400800" y="6807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8219"/>
            <p:cNvSpPr/>
            <p:nvPr/>
          </p:nvSpPr>
          <p:spPr>
            <a:xfrm>
              <a:off x="6472080" y="6094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狗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7"/>
          <p:cNvSpPr/>
          <p:nvPr/>
        </p:nvSpPr>
        <p:spPr>
          <a:xfrm>
            <a:off x="539640" y="9810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好多事情并不像我们想象的那么糟。只要肯动脑筋，坏事往往能变成好事。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46081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6" name="文本框 46082"/>
          <p:cNvSpPr/>
          <p:nvPr/>
        </p:nvSpPr>
        <p:spPr>
          <a:xfrm>
            <a:off x="250920" y="-58680"/>
            <a:ext cx="8661240" cy="292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王和大臣的故事 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古时候有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位大臣，他很乐观，无论发生了什么坏事，他都说：这是一件好事。大家都觉得他很奇怪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天，国王不小心弄断了一根手指。他很担心，还认为可能是不是什么不吉利的事。于是，国王问这位大臣。大臣说：大王，请不要烦恼，这是一件好事！国王听了大怒，认为大臣在笑话他，立即下令把他关进牢房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过了一段时间，国王手上的伤好了，又去打猎。这一次，他到很远的森林里，中了野人的埋伏，被野人抓住了。按野人的规矩，抓来的首领是要烧死了献给神的。看来，国王这回大难临头了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    国王被押上了神坛，就要点火的时候。忽然主持仪式的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巫师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叫起来：这个人少了一根手指，不能用来做祭品！用少了一根手指的人来做祭品，是对神不尊敬，神会生气的。结果，野人就杀了国王身边的一个大臣，没有杀国王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后来，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野人吧国王放回了王宫。国王想：这次真幸运，亏得断了一根手指。不然肯定会被烧死的。国王又想到上次说他断了手指是好事的那个大。于是，国王马上下令把大臣放出监狱，并向他道歉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原谅了国王，还说：我被你关进了监狱，这是一件好事呀！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国王听了，又感到很奇怪：“被关进监狱也是好事？”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说：是的，如果你不把我关进监狱，那我也肯定会和你一起去打猎，也会被野人抓住。野人可能还会用我来代替你作为祭品的献给神。但是我因为在监狱里，所以就没有成为祭品，这不是好事吗？国王听了，觉得他说得不错。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名人名言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4000" y="1384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一个会思考的人，才是一个力量无边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法国　巴尔扎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要学会思考，不要一碰到困难就要别人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美国　爱因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思考，是一切智慧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──奥地利　弗洛伊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1332000" y="20595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开动脑筋、将坏事变好事。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文本框 49153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1" name="文本框 49154"/>
          <p:cNvSpPr/>
          <p:nvPr/>
        </p:nvSpPr>
        <p:spPr>
          <a:xfrm>
            <a:off x="684360" y="141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新买的裙子不小心被钉子钩破了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2" name="矩形 49155"/>
          <p:cNvSpPr/>
          <p:nvPr/>
        </p:nvSpPr>
        <p:spPr>
          <a:xfrm>
            <a:off x="3984120" y="4006800"/>
            <a:ext cx="15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在家里玩的时候，不小心把水洒了一地。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3" name="矩形 49156"/>
          <p:cNvSpPr/>
          <p:nvPr/>
        </p:nvSpPr>
        <p:spPr>
          <a:xfrm>
            <a:off x="611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明明想去公园，可是下雨了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95" name="矩形 50178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6" name="文本框 50179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398" name="直接连接符 50180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01" name="直接连接符 50181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04" name="直接连接符 50182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07" name="直接连接符 50183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10" name="直接连接符 50184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13" name="直接连接符 50185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16" name="直接连接符 50186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19" name="矩形 51202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20" name="文本框 51203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422" name="直接连接符 51204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25" name="直接连接符 51205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28" name="直接连接符 51206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31" name="直接连接符 51207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34" name="直接连接符 51208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37" name="直接连接符 51209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40" name="直接连接符 51210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52225"/>
          <p:cNvSpPr/>
          <p:nvPr/>
        </p:nvSpPr>
        <p:spPr>
          <a:xfrm>
            <a:off x="601200" y="2156760"/>
            <a:ext cx="7946640" cy="38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ó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 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h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ě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 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（　　）　（　　）　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g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íng líng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  （　　）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3" name="文本框 52226"/>
          <p:cNvSpPr/>
          <p:nvPr/>
        </p:nvSpPr>
        <p:spPr>
          <a:xfrm>
            <a:off x="4614480" y="7650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看拼音，写词语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4" name="文本框 52227"/>
          <p:cNvSpPr/>
          <p:nvPr/>
        </p:nvSpPr>
        <p:spPr>
          <a:xfrm>
            <a:off x="4022640" y="5235480"/>
            <a:ext cx="119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玲玲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5" name="矩形 52228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6" name="矩形 52229"/>
          <p:cNvSpPr/>
          <p:nvPr/>
        </p:nvSpPr>
        <p:spPr>
          <a:xfrm>
            <a:off x="1531800" y="3435480"/>
            <a:ext cx="152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楼梯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7" name="矩形 52230"/>
          <p:cNvSpPr/>
          <p:nvPr/>
        </p:nvSpPr>
        <p:spPr>
          <a:xfrm>
            <a:off x="3836880" y="3429000"/>
            <a:ext cx="15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脑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8" name="矩形 52231"/>
          <p:cNvSpPr/>
          <p:nvPr/>
        </p:nvSpPr>
        <p:spPr>
          <a:xfrm>
            <a:off x="6084720" y="3429000"/>
            <a:ext cx="13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很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9" name="矩形 52232"/>
          <p:cNvSpPr/>
          <p:nvPr/>
        </p:nvSpPr>
        <p:spPr>
          <a:xfrm>
            <a:off x="1476360" y="530064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小狗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9217"/>
          <p:cNvGrpSpPr/>
          <p:nvPr/>
        </p:nvGrpSpPr>
        <p:grpSpPr>
          <a:xfrm>
            <a:off x="3484440" y="1149480"/>
            <a:ext cx="2779920" cy="2901600"/>
            <a:chOff x="3484440" y="1149480"/>
            <a:chExt cx="2779920" cy="2901600"/>
          </a:xfrm>
        </p:grpSpPr>
        <p:sp>
          <p:nvSpPr>
            <p:cNvPr id="172" name="矩形 9218"/>
            <p:cNvSpPr/>
            <p:nvPr/>
          </p:nvSpPr>
          <p:spPr>
            <a:xfrm>
              <a:off x="3484440" y="114948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484440" y="2624760"/>
              <a:ext cx="2779920" cy="360"/>
              <a:chOff x="3484440" y="2624760"/>
              <a:chExt cx="2779920" cy="360"/>
            </a:xfrm>
          </p:grpSpPr>
          <p:sp>
            <p:nvSpPr>
              <p:cNvPr id="174" name="直接连接符 9219"/>
              <p:cNvSpPr/>
              <p:nvPr/>
            </p:nvSpPr>
            <p:spPr>
              <a:xfrm>
                <a:off x="3484440" y="262476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484440" y="262476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74400" y="1149480"/>
              <a:ext cx="360" cy="2901600"/>
              <a:chOff x="4874400" y="1149480"/>
              <a:chExt cx="360" cy="2901600"/>
            </a:xfrm>
          </p:grpSpPr>
          <p:sp>
            <p:nvSpPr>
              <p:cNvPr id="177" name="直接连接符 9220"/>
              <p:cNvSpPr/>
              <p:nvPr/>
            </p:nvSpPr>
            <p:spPr>
              <a:xfrm>
                <a:off x="4874400" y="114948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874400" y="114948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9" name="组合 9221"/>
          <p:cNvGrpSpPr/>
          <p:nvPr/>
        </p:nvGrpSpPr>
        <p:grpSpPr>
          <a:xfrm>
            <a:off x="6318360" y="1131840"/>
            <a:ext cx="2779560" cy="2901600"/>
            <a:chOff x="6318360" y="1131840"/>
            <a:chExt cx="2779560" cy="2901600"/>
          </a:xfrm>
        </p:grpSpPr>
        <p:sp>
          <p:nvSpPr>
            <p:cNvPr id="180" name="矩形 9222"/>
            <p:cNvSpPr/>
            <p:nvPr/>
          </p:nvSpPr>
          <p:spPr>
            <a:xfrm>
              <a:off x="6318360" y="113184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18360" y="2607120"/>
              <a:ext cx="2779560" cy="360"/>
              <a:chOff x="6318360" y="2607120"/>
              <a:chExt cx="2779560" cy="360"/>
            </a:xfrm>
          </p:grpSpPr>
          <p:sp>
            <p:nvSpPr>
              <p:cNvPr id="182" name="直接连接符 9223"/>
              <p:cNvSpPr/>
              <p:nvPr/>
            </p:nvSpPr>
            <p:spPr>
              <a:xfrm>
                <a:off x="6318360" y="260712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318360" y="260712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708320" y="1131840"/>
              <a:ext cx="360" cy="2901600"/>
              <a:chOff x="7708320" y="1131840"/>
              <a:chExt cx="360" cy="2901600"/>
            </a:xfrm>
          </p:grpSpPr>
          <p:sp>
            <p:nvSpPr>
              <p:cNvPr id="185" name="直接连接符 9224"/>
              <p:cNvSpPr/>
              <p:nvPr/>
            </p:nvSpPr>
            <p:spPr>
              <a:xfrm>
                <a:off x="770832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770832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文本框 9225"/>
          <p:cNvSpPr/>
          <p:nvPr/>
        </p:nvSpPr>
        <p:spPr>
          <a:xfrm>
            <a:off x="3546360" y="11239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8" name="文本框 9226"/>
          <p:cNvSpPr/>
          <p:nvPr/>
        </p:nvSpPr>
        <p:spPr>
          <a:xfrm>
            <a:off x="655164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9" name="矩形 9227"/>
          <p:cNvSpPr/>
          <p:nvPr/>
        </p:nvSpPr>
        <p:spPr>
          <a:xfrm>
            <a:off x="3733920" y="838080"/>
            <a:ext cx="83808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0" name="矩形 9228"/>
          <p:cNvSpPr/>
          <p:nvPr/>
        </p:nvSpPr>
        <p:spPr>
          <a:xfrm>
            <a:off x="6705720" y="83808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1" name="矩形 9229"/>
          <p:cNvSpPr/>
          <p:nvPr/>
        </p:nvSpPr>
        <p:spPr>
          <a:xfrm>
            <a:off x="4343400" y="838080"/>
            <a:ext cx="152388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2" name="矩形 9230"/>
          <p:cNvSpPr/>
          <p:nvPr/>
        </p:nvSpPr>
        <p:spPr>
          <a:xfrm>
            <a:off x="7467480" y="838080"/>
            <a:ext cx="134964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93" name="组合 9231"/>
          <p:cNvGrpSpPr/>
          <p:nvPr/>
        </p:nvGrpSpPr>
        <p:grpSpPr>
          <a:xfrm>
            <a:off x="376200" y="1131840"/>
            <a:ext cx="2779920" cy="2901600"/>
            <a:chOff x="376200" y="1131840"/>
            <a:chExt cx="2779920" cy="2901600"/>
          </a:xfrm>
        </p:grpSpPr>
        <p:sp>
          <p:nvSpPr>
            <p:cNvPr id="194" name="矩形 9232"/>
            <p:cNvSpPr/>
            <p:nvPr/>
          </p:nvSpPr>
          <p:spPr>
            <a:xfrm>
              <a:off x="376200" y="113184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6200" y="2607120"/>
              <a:ext cx="2779920" cy="360"/>
              <a:chOff x="376200" y="2607120"/>
              <a:chExt cx="2779920" cy="360"/>
            </a:xfrm>
          </p:grpSpPr>
          <p:sp>
            <p:nvSpPr>
              <p:cNvPr id="196" name="直接连接符 9233"/>
              <p:cNvSpPr/>
              <p:nvPr/>
            </p:nvSpPr>
            <p:spPr>
              <a:xfrm>
                <a:off x="376200" y="260712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76200" y="260712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66160" y="1131840"/>
              <a:ext cx="360" cy="2901600"/>
              <a:chOff x="1766160" y="1131840"/>
              <a:chExt cx="360" cy="2901600"/>
            </a:xfrm>
          </p:grpSpPr>
          <p:sp>
            <p:nvSpPr>
              <p:cNvPr id="199" name="直接连接符 9234"/>
              <p:cNvSpPr/>
              <p:nvPr/>
            </p:nvSpPr>
            <p:spPr>
              <a:xfrm>
                <a:off x="176616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6616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文本框 9235"/>
          <p:cNvSpPr/>
          <p:nvPr/>
        </p:nvSpPr>
        <p:spPr>
          <a:xfrm>
            <a:off x="38268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糟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2" name="矩形 9236"/>
          <p:cNvSpPr/>
          <p:nvPr/>
        </p:nvSpPr>
        <p:spPr>
          <a:xfrm>
            <a:off x="609480" y="76212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3" name="矩形 9237"/>
          <p:cNvSpPr/>
          <p:nvPr/>
        </p:nvSpPr>
        <p:spPr>
          <a:xfrm>
            <a:off x="1447920" y="762120"/>
            <a:ext cx="121896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4" name="椭圆 9238"/>
          <p:cNvSpPr/>
          <p:nvPr/>
        </p:nvSpPr>
        <p:spPr>
          <a:xfrm>
            <a:off x="4267080" y="1523880"/>
            <a:ext cx="1676520" cy="144792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5" name="椭圆 9239"/>
          <p:cNvSpPr/>
          <p:nvPr/>
        </p:nvSpPr>
        <p:spPr>
          <a:xfrm>
            <a:off x="652320" y="1600200"/>
            <a:ext cx="838440" cy="220968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0241"/>
          <p:cNvGrpSpPr/>
          <p:nvPr/>
        </p:nvGrpSpPr>
        <p:grpSpPr>
          <a:xfrm>
            <a:off x="0" y="1055520"/>
            <a:ext cx="2779560" cy="2901600"/>
            <a:chOff x="0" y="1055520"/>
            <a:chExt cx="2779560" cy="2901600"/>
          </a:xfrm>
        </p:grpSpPr>
        <p:sp>
          <p:nvSpPr>
            <p:cNvPr id="207" name="矩形 10242"/>
            <p:cNvSpPr/>
            <p:nvPr/>
          </p:nvSpPr>
          <p:spPr>
            <a:xfrm>
              <a:off x="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0" y="2530800"/>
              <a:ext cx="2779560" cy="360"/>
              <a:chOff x="0" y="2530800"/>
              <a:chExt cx="2779560" cy="360"/>
            </a:xfrm>
          </p:grpSpPr>
          <p:sp>
            <p:nvSpPr>
              <p:cNvPr id="209" name="直接连接符 10243"/>
              <p:cNvSpPr/>
              <p:nvPr/>
            </p:nvSpPr>
            <p:spPr>
              <a:xfrm>
                <a:off x="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389960" y="1055520"/>
              <a:ext cx="360" cy="2901600"/>
              <a:chOff x="1389960" y="1055520"/>
              <a:chExt cx="360" cy="2901600"/>
            </a:xfrm>
          </p:grpSpPr>
          <p:sp>
            <p:nvSpPr>
              <p:cNvPr id="212" name="直接连接符 10244"/>
              <p:cNvSpPr/>
              <p:nvPr/>
            </p:nvSpPr>
            <p:spPr>
              <a:xfrm>
                <a:off x="13899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3899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14" name="文本框 10245"/>
          <p:cNvSpPr/>
          <p:nvPr/>
        </p:nvSpPr>
        <p:spPr>
          <a:xfrm>
            <a:off x="13032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15" name="组合 10246"/>
          <p:cNvGrpSpPr/>
          <p:nvPr/>
        </p:nvGrpSpPr>
        <p:grpSpPr>
          <a:xfrm>
            <a:off x="3576600" y="1055520"/>
            <a:ext cx="2779920" cy="2901600"/>
            <a:chOff x="3576600" y="1055520"/>
            <a:chExt cx="2779920" cy="2901600"/>
          </a:xfrm>
        </p:grpSpPr>
        <p:sp>
          <p:nvSpPr>
            <p:cNvPr id="216" name="矩形 10247"/>
            <p:cNvSpPr/>
            <p:nvPr/>
          </p:nvSpPr>
          <p:spPr>
            <a:xfrm>
              <a:off x="3576600" y="105552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76600" y="2530800"/>
              <a:ext cx="2779920" cy="360"/>
              <a:chOff x="3576600" y="2530800"/>
              <a:chExt cx="2779920" cy="360"/>
            </a:xfrm>
          </p:grpSpPr>
          <p:sp>
            <p:nvSpPr>
              <p:cNvPr id="218" name="直接连接符 10248"/>
              <p:cNvSpPr/>
              <p:nvPr/>
            </p:nvSpPr>
            <p:spPr>
              <a:xfrm>
                <a:off x="3576600" y="253080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576600" y="253080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966560" y="1055520"/>
              <a:ext cx="360" cy="2901600"/>
              <a:chOff x="4966560" y="1055520"/>
              <a:chExt cx="360" cy="2901600"/>
            </a:xfrm>
          </p:grpSpPr>
          <p:sp>
            <p:nvSpPr>
              <p:cNvPr id="221" name="直接连接符 10249"/>
              <p:cNvSpPr/>
              <p:nvPr/>
            </p:nvSpPr>
            <p:spPr>
              <a:xfrm>
                <a:off x="49665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9665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23" name="矩形 10250"/>
          <p:cNvSpPr/>
          <p:nvPr/>
        </p:nvSpPr>
        <p:spPr>
          <a:xfrm>
            <a:off x="304920" y="1371600"/>
            <a:ext cx="2133360" cy="10638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4" name="矩形 10251"/>
          <p:cNvSpPr/>
          <p:nvPr/>
        </p:nvSpPr>
        <p:spPr>
          <a:xfrm>
            <a:off x="914400" y="2438280"/>
            <a:ext cx="990720" cy="12193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5" name="文本框 10252"/>
          <p:cNvSpPr/>
          <p:nvPr/>
        </p:nvSpPr>
        <p:spPr>
          <a:xfrm>
            <a:off x="364500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26" name="组合 10253"/>
          <p:cNvGrpSpPr/>
          <p:nvPr/>
        </p:nvGrpSpPr>
        <p:grpSpPr>
          <a:xfrm>
            <a:off x="6361200" y="1055520"/>
            <a:ext cx="2779560" cy="2901600"/>
            <a:chOff x="6361200" y="1055520"/>
            <a:chExt cx="2779560" cy="2901600"/>
          </a:xfrm>
        </p:grpSpPr>
        <p:sp>
          <p:nvSpPr>
            <p:cNvPr id="227" name="矩形 10254"/>
            <p:cNvSpPr/>
            <p:nvPr/>
          </p:nvSpPr>
          <p:spPr>
            <a:xfrm>
              <a:off x="636120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361200" y="2530800"/>
              <a:ext cx="2779560" cy="360"/>
              <a:chOff x="6361200" y="2530800"/>
              <a:chExt cx="2779560" cy="360"/>
            </a:xfrm>
          </p:grpSpPr>
          <p:sp>
            <p:nvSpPr>
              <p:cNvPr id="229" name="直接连接符 10255"/>
              <p:cNvSpPr/>
              <p:nvPr/>
            </p:nvSpPr>
            <p:spPr>
              <a:xfrm>
                <a:off x="636120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36120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751160" y="1055520"/>
              <a:ext cx="360" cy="2901600"/>
              <a:chOff x="7751160" y="1055520"/>
              <a:chExt cx="360" cy="2901600"/>
            </a:xfrm>
          </p:grpSpPr>
          <p:sp>
            <p:nvSpPr>
              <p:cNvPr id="232" name="直接连接符 10256"/>
              <p:cNvSpPr/>
              <p:nvPr/>
            </p:nvSpPr>
            <p:spPr>
              <a:xfrm>
                <a:off x="77511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7511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34" name="文本框 10257"/>
          <p:cNvSpPr/>
          <p:nvPr/>
        </p:nvSpPr>
        <p:spPr>
          <a:xfrm>
            <a:off x="6450120" y="11620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5" name="矩形 10258"/>
          <p:cNvSpPr/>
          <p:nvPr/>
        </p:nvSpPr>
        <p:spPr>
          <a:xfrm>
            <a:off x="6705720" y="1600200"/>
            <a:ext cx="1904760" cy="8352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6" name="矩形 10259"/>
          <p:cNvSpPr/>
          <p:nvPr/>
        </p:nvSpPr>
        <p:spPr>
          <a:xfrm>
            <a:off x="6705720" y="2438280"/>
            <a:ext cx="1904760" cy="129564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7" name="椭圆 10260"/>
          <p:cNvSpPr/>
          <p:nvPr/>
        </p:nvSpPr>
        <p:spPr>
          <a:xfrm>
            <a:off x="652320" y="2362320"/>
            <a:ext cx="1557360" cy="14475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8" name="椭圆 10261"/>
          <p:cNvSpPr/>
          <p:nvPr/>
        </p:nvSpPr>
        <p:spPr>
          <a:xfrm>
            <a:off x="3657600" y="1447920"/>
            <a:ext cx="1219320" cy="23619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9" name="椭圆 10262"/>
          <p:cNvSpPr/>
          <p:nvPr/>
        </p:nvSpPr>
        <p:spPr>
          <a:xfrm>
            <a:off x="6781680" y="2286000"/>
            <a:ext cx="990720" cy="160020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0" name="文本框 10263"/>
          <p:cNvSpPr/>
          <p:nvPr/>
        </p:nvSpPr>
        <p:spPr>
          <a:xfrm>
            <a:off x="762120" y="3962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撇变成竖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1" name="文本框 10264"/>
          <p:cNvSpPr/>
          <p:nvPr/>
        </p:nvSpPr>
        <p:spPr>
          <a:xfrm>
            <a:off x="3809880" y="41911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2" name="文本框 10265"/>
          <p:cNvSpPr/>
          <p:nvPr/>
        </p:nvSpPr>
        <p:spPr>
          <a:xfrm>
            <a:off x="6877080" y="429264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短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1092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狗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花狗   野狗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上楼   高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楼梯   梯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大脑   头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脑筋   筋骨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肯定   不肯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糟乱   糟心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叭的一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玲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2289"/>
          <p:cNvSpPr/>
          <p:nvPr/>
        </p:nvSpPr>
        <p:spPr>
          <a:xfrm>
            <a:off x="7020000" y="2491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5" name="矩形 12290"/>
          <p:cNvSpPr/>
          <p:nvPr/>
        </p:nvSpPr>
        <p:spPr>
          <a:xfrm>
            <a:off x="539640" y="119664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幅画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6" name="矩形 12291"/>
          <p:cNvSpPr/>
          <p:nvPr/>
        </p:nvSpPr>
        <p:spPr>
          <a:xfrm>
            <a:off x="2843280" y="12679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端详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7" name="矩形 12292"/>
          <p:cNvSpPr/>
          <p:nvPr/>
        </p:nvSpPr>
        <p:spPr>
          <a:xfrm>
            <a:off x="5003640" y="3860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8" name="矩形 12293"/>
          <p:cNvSpPr/>
          <p:nvPr/>
        </p:nvSpPr>
        <p:spPr>
          <a:xfrm>
            <a:off x="7020000" y="3860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9" name="矩形 12294"/>
          <p:cNvSpPr/>
          <p:nvPr/>
        </p:nvSpPr>
        <p:spPr>
          <a:xfrm>
            <a:off x="6948360" y="1267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0" name="矩形 12295"/>
          <p:cNvSpPr/>
          <p:nvPr/>
        </p:nvSpPr>
        <p:spPr>
          <a:xfrm>
            <a:off x="2914560" y="25635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拾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1" name="矩形 12296"/>
          <p:cNvSpPr/>
          <p:nvPr/>
        </p:nvSpPr>
        <p:spPr>
          <a:xfrm>
            <a:off x="468360" y="3860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洋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2" name="矩形 12297"/>
          <p:cNvSpPr/>
          <p:nvPr/>
        </p:nvSpPr>
        <p:spPr>
          <a:xfrm>
            <a:off x="2914560" y="3860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3" name="矩形 12298"/>
          <p:cNvSpPr/>
          <p:nvPr/>
        </p:nvSpPr>
        <p:spPr>
          <a:xfrm>
            <a:off x="4932360" y="12679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情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4" name="矩形 12299"/>
          <p:cNvSpPr/>
          <p:nvPr/>
        </p:nvSpPr>
        <p:spPr>
          <a:xfrm>
            <a:off x="4932360" y="2491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5" name="矩形 12300"/>
          <p:cNvSpPr/>
          <p:nvPr/>
        </p:nvSpPr>
        <p:spPr>
          <a:xfrm>
            <a:off x="682560" y="25635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仔细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59280" y="1341000"/>
            <a:ext cx="4465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巧，精美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3315" descr="200712221207699_2"/>
          <p:cNvPicPr/>
          <p:nvPr/>
        </p:nvPicPr>
        <p:blipFill>
          <a:blip r:embed="rId1"/>
          <a:stretch/>
        </p:blipFill>
        <p:spPr>
          <a:xfrm>
            <a:off x="2987640" y="26028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admin</cp:lastModifiedBy>
  <dcterms:modified xsi:type="dcterms:W3CDTF">2016-01-08T08:52:47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