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02D-F9BE-4F7F-B775-70C4C93D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6BB-7173-4994-884A-3180D2B4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DDE-93C9-4553-B493-57A42B40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6B8-0F57-4E6C-B493-F8499C7B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5DB-E496-4A07-8D60-5BC5CA2D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872-65F3-4B0F-834C-AF873C18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9F7-A565-47CA-9F3B-320E2D6A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B08-F63E-4A2F-A08F-9B5D7A2F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281-0F58-441D-A58D-6E956863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864-9419-4333-855C-53AD9825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6A3-9603-4638-8C6B-567ED660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C7E-93B1-4BEC-8AAB-11689432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07D8-0688-4A18-A54B-0EAEA68789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428920" y="1428840"/>
            <a:ext cx="52862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10-27T03:27:23Z</dcterms:modified>
  <cp:revision>80</cp:revision>
  <dc:subject/>
  <dc:title>幻灯片 1</dc:title>
</cp:coreProperties>
</file>