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748-8B5C-4FBE-AD35-30E48D88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7805-F214-4BCC-8342-FFD5C552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047A-E846-45F7-BC57-1ED25389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6A4-5BA0-4D18-BC89-BC59F1C7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DF3-DA4A-4C5F-AEC6-E2C1B0B1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82A-AC0B-437D-8CD1-D96D709A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561-5702-4A3C-B6F9-56F6B5FE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D6F-539E-49AF-B262-9C4A9391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21CB-7AE4-48F3-A380-81DB0C85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BF0A-C3D2-4313-B6D5-C0519EEA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1498-1E91-4CA2-A449-065F1A82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D4F-63BE-4615-8FC4-A17FBF83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AAA5-A62C-4C19-A389-CE90E5FBBA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428920" y="1428840"/>
            <a:ext cx="528624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6-10-27T03:27:23Z</dcterms:modified>
  <cp:revision>80</cp:revision>
  <dc:subject/>
  <dc:title>幻灯片 1</dc:title>
</cp:coreProperties>
</file>