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ACA9-1E95-41EB-89D9-7BC4D087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E037-00F5-4ED2-9D24-1470AF3D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C10B-EEF3-4AE5-9E48-E8FA6AE8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C36B-6611-4AA7-8A15-671649F8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E91-B8E2-4862-B919-879693F7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007-927F-4BD6-9BE3-C4D0C599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60D5-C1C7-4EE7-82AC-674B84D3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F731-B9B9-4743-80AD-D2B575CA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5DB-4D86-4C90-942A-5E01F126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A983-605B-4F54-9AAC-7CF13B3F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295-A148-4E8E-B24E-58A6D2C1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9A5-2700-49E4-8228-69E799A4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18E4-A937-4ACC-B414-E515A15B1F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428920" y="1428840"/>
            <a:ext cx="528624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6-10-27T03:27:23Z</dcterms:modified>
  <cp:revision>80</cp:revision>
  <dc:subject/>
  <dc:title>幻灯片 1</dc:title>
</cp:coreProperties>
</file>