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34B-FC62-422F-8AE9-01B22991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B1F-0CD7-418E-A16C-A6847913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CF5-DAF9-4A30-B89D-86E7DBB0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BC3-1561-4F3E-B02E-E50F8CA7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440-2EC4-4D75-BA95-E708B868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902-2015-490E-BB78-7F718DF7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14D-992B-43E5-87E0-E53B4FB8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318-4A4C-4F22-9032-163B7CD3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DCF-984D-463F-B8E2-8A24D25E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B4E-BE64-4744-9F86-125DDB6F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CBB7-0CF8-4403-828A-30FF7B1C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C60-C7E6-4020-83A7-F7B139C8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0C51-390F-40D5-8914-BF741637A9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428920" y="1428840"/>
            <a:ext cx="52862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6-10-27T03:27:23Z</dcterms:modified>
  <cp:revision>80</cp:revision>
  <dc:subject/>
  <dc:title>幻灯片 1</dc:title>
</cp:coreProperties>
</file>