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81AD-2E36-40D2-8B3D-B9B29F29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3346-6551-4B46-AD52-20FA42B9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406A-EE52-4FC5-9B00-FB414197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7B22-C1BD-414A-A2B1-04487EF5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3F02-5F3D-4FBE-896C-4890039E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9B12-AC83-49FC-BA93-1F3E4904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070C-ED8F-47FA-ABC6-123E3F1D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2FCF-7987-4C85-9499-78A2E417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C97-D4E9-44E9-9539-0381A229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8B52-B8CF-4A46-86ED-AA1E3667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20CC-16D8-4A67-A2C6-C8532172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2C55-4F68-41DC-B5C2-A0EC6C99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6743-CAA2-442B-8AC2-712F40D3D5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428920" y="1428840"/>
            <a:ext cx="528624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indows 用户</cp:lastModifiedBy>
  <dcterms:modified xsi:type="dcterms:W3CDTF">2016-10-27T03:27:23Z</dcterms:modified>
  <cp:revision>80</cp:revision>
  <dc:subject/>
  <dc:title>幻灯片 1</dc:title>
</cp:coreProperties>
</file>