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9127-72F3-465C-A710-E21E8CCA0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9649-A9A1-4F30-BFF7-2001328F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E07F-1346-4EBF-9824-DAEF3ED39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288A-F2CC-452C-90EC-FDFECEE0C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0126-21DF-45AC-9B6A-87C4584A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1446-B0C1-4829-8EA2-53B2027C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51BB-2654-4CE9-8D9B-193C1B55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20D7-3FE2-4F08-A83F-1C0DF601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7628-D51E-4953-BD97-8F1EBAEA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3634-0779-4E6B-979F-FAB03F48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BFB3-9B6F-41F6-8032-177050D6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97B3-D16C-4BE2-AE0C-CFB69558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673C-724B-41BF-B551-7AF5E952BB0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428920" y="1428840"/>
            <a:ext cx="528624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Windows 用户</cp:lastModifiedBy>
  <dcterms:modified xsi:type="dcterms:W3CDTF">2016-10-27T03:27:23Z</dcterms:modified>
  <cp:revision>80</cp:revision>
  <dc:subject/>
  <dc:title>幻灯片 1</dc:title>
</cp:coreProperties>
</file>