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478949-1A32-4F46-A5C0-DCBC43D4F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CF2B20-04C3-4BF7-B8B9-4A6A03BED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F24133-E652-419D-9915-5F7BF7613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86979F-DA9E-42D2-B70B-1E6CFEF871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2607C-6953-4D8F-8786-37DA55779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1FBD0-8EBC-431B-AFBF-B9C5DBBC8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9799D-2740-4F6D-B22F-8FAC9F967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87BA0-6333-4D33-A4CD-8DBF88A7B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96707-080B-4C03-9364-85CF3599D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D0734-4F64-466F-8202-59FD76136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02E3B-60D3-4D51-B830-0841D2228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76C4E9-AD19-4A0B-A01C-72E09D28CA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87394-5171-42E7-B41E-6638F2218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B5BB4-29EA-4BBB-ADA7-79148B7C7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08736-0ED2-4A89-B411-66603759A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4E4E0-6E6B-468F-8905-EC481394FA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469EE9-77A9-4362-B4AE-12960A0C1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CFD331-A3B2-4742-9369-0A6DB77EE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F6A79F-2856-4924-BC57-4FA738D2F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2BB1D0-F61B-48D1-870F-6E3DF46A52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66B83-6C14-4A10-A0FA-41FDAAC9F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660423-36B6-48CC-A473-44B699E18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1B25E-7C5D-4F52-B24D-BE4A642E89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4203C3-E6EA-433E-8EA9-417F23778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7F89-C587-472E-BCF2-53EC5E2B1FC9}"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F440-58AD-4D5D-9834-CFE478538855}" type="datetime3">
              <a:rPr b="0" lang="zh-CN" sz="1400" spc="-1" strike="noStrike">
                <a:solidFill>
                  <a:srgbClr val="000000"/>
                </a:solidFill>
                <a:latin typeface="Comic Sans MS"/>
              </a:rPr>
              <a:t>2026年7月31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1594-8184-48C0-AC64-9D79A4720B8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C7E708E1-AA5D-4DD9-93C0-BCF83541A374}" type="slidenum">
              <a:t>1</a:t>
            </a:fld>
          </a:p>
        </p:txBody>
      </p:sp>
      <p:sp>
        <p:nvSpPr>
          <p:cNvPr id="5" name="PlaceHolder 4"/>
          <p:cNvSpPr>
            <a:spLocks noGrp="1"/>
          </p:cNvSpPr>
          <p:nvPr>
            <p:ph type="dt" idx="3"/>
          </p:nvPr>
        </p:nvSpPr>
        <p:spPr/>
        <p:txBody>
          <a:bodyPr/>
          <a:p>
            <a:fld id="{551179B9-6804-4A53-AAB3-F8489E764A6A}" type="datetime3">
              <a:rPr lang="en-US"/>
              <a:t>July 31,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CC81E1C-5602-41EA-BD48-A681BED43B1C}"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B970F57-08D0-4FD9-8410-C0C324F3E71E}"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F9695ED-14F6-4D86-831A-858914599BAC}"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80525A1-E934-46A6-B500-DB7E44EDD235}"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9FFE1FC-ED5A-4D51-B0FB-4D9D36C21304}"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302DE7AC-0050-4499-8566-C4BFBCA33529}"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339CB2E6-4CA5-4D13-9B94-A75B0350E1D1}"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FF1A7591-D479-4888-B47E-E801284CD44C}"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D3D28F3-CA7E-41EF-9937-050F7D062B02}"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E6EF928-D445-4EA2-89AA-2CF160035056}"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AD2AE8D-98B8-4DB0-B7BC-1E5EE291AED8}"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6019256-0F05-43F2-8FDD-571727B8EC9D}"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E75869E-DCBB-4761-B089-66AB64902067}"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DD2869E-D791-42B1-AE1F-E836D68258A0}"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E65DE88-71CA-4B8C-B052-83A59F608534}"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4F84DF70-DD48-43B8-9436-C0758B8A532E}"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3D73CAC3-BC35-4D3C-98F2-544EDA879EA8}"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512FA550-18A5-4D04-B53B-7B931159FD60}"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F21E5D43-4A50-49FC-B936-F0B6EEB0500E}"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71E150CE-2F49-400F-BFEC-536022416EAE}"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F72C4228-ECAE-4573-868A-E42583EE67FF}"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6D072C5-4403-4125-985F-9E48B2C85FB4}"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01FEA06-8E40-4877-AF89-F35988EE885A}"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ACE2D6A-988E-473D-BD75-0B8ED3F0E0AF}"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6CF7E39A-57D2-42C5-B223-7F40EDFCE7C8}"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DFE7D64-CEF6-4CFA-89D6-4BF5A8EC448F}"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242EB878-2263-4B52-9375-0E58F9FF8A99}"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2CB37306-DF30-42E6-B1EB-70C4586931F5}"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09354EA-71E1-4031-A490-F284F6457633}"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9F51C2E-5A91-4445-A0E6-C9C305869EE4}"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1C10A22-15D0-4665-A269-316A7819792B}"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747051A-7E15-454E-9744-25882A43DCB4}"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A836151-152F-4103-A667-B3AB591F7493}"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F43E4D3-6787-45B2-BF7F-D933BD445C6B}"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16C5BFC-953E-4841-9F25-8C3021551285}"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6F943CF-2CA0-413F-A844-CD1813B661F1}"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ABBDA82-D136-4DB8-9783-DF9D4D71633F}"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6E2AED38-AE72-4020-A368-BB34A79027CB}"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90379F7-4234-4A86-8D3E-06467B766F23}"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BB442073-B106-458C-90D7-D65FD959DEE5}"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7C138E97-1D96-4621-967A-37C18EAD7FF1}"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A9F70E97-214A-4CF5-A012-E62714C3CE40}"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CBF87CA-8436-490C-A3A6-96C3CD116768}"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B1EEA3C-3F6F-46DC-B1B4-30D9D35591E8}"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54EC4C3-FA13-4F61-8D3D-E04C02ACE35D}"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D7D0972F-57FF-42AD-BADE-E334AC1CC3DC}"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4758444D-C99D-445A-B5B4-591A67C85798}"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B9D9AFE1-CB1E-496C-981B-87959B1AA9D1}"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748DA18A-28F7-446E-84B5-9BCDC202AEAD}"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7CE9FDE-113C-46CE-BBE2-6A68415C36A4}"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6175F440-6296-496E-A2D7-63E6973267A8}"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75945AE-9865-4D0B-AFA9-5AC6A8466881}"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0FA3AE4-50D1-4F8B-BEF9-1115F20E2719}"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728F049-E590-46C1-9BC1-8FB02E65CC69}"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A61F0A3-5E73-4B90-88A4-2641AB4D806E}"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82F8989-E86A-4C83-8016-8A8B5D7EAE75}"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A2862D05-9FEA-41C2-B3F3-441E86976407}"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D2A748F-2278-4731-A850-406F8F799355}"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43A08D3-E06E-40B9-BC87-3F1679B94BFF}"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E3DAE57-1268-4566-AE6F-45B3AD0F56A7}"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3070549-9122-4098-8003-44108A1324AF}"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1268AD2-816D-4B62-A27C-01CEEC61F597}"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8A2C7F5-E2EA-47C3-A14F-C43E905D42BD}"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6BB3431-304E-4986-AEA4-6D31881ED9A2}"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F7DB2734-5C38-4082-B596-BDB160EB7080}"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D0C9FA1C-2FCB-4589-AE8D-F65A0793C367}"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F8E8FFC9-BDA0-479F-BB98-D8F9E9FD13B3}"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F2BFA93-69A1-4FC2-BE4B-65261FB1B7AF}"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6DE89EB6-298B-4C58-8621-E20E4F012F1C}"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49BD261-A2CD-4D20-8675-5BA3FB10E208}"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BB1C2AED-5DB2-407D-894C-611015C2FBA9}"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9236106-A5F9-4EA6-BEC9-CEDFDA680EB6}"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10758A1-AAC1-4D6D-9597-FBDE04327B5D}"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E8DDD47E-E646-475C-9007-E37C21306BD4}"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41444AA-24B2-45A2-9C94-785EBDD31455}"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CEEF6E1-A933-4D91-B0F3-08C84E924958}"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AE7CB47-E152-4DC5-B710-A83CFAFF603D}"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6320DD6-86B7-475F-97FD-F68E6327ABEA}"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5F85067-2BD1-45ED-A20D-42241DF4D6FE}"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4FE85BA-7EC9-44BF-B1FE-28E3AD5C2483}"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70064F6-E457-4F07-8E97-8D5116796DFE}"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DB0B4CC-7CE6-4693-A669-38F6EE27DA98}"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ABB1CF50-34C3-4845-9E8A-29997A3558CF}"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AA3B66FE-F7D1-43FF-91AA-1EDE596F6704}"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C4D3FAB-319D-4B13-9057-1DB256071D66}"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5A7A2CC-32E9-4D8B-B242-9E7C922EBE60}"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5950E27-35D9-4119-883B-B68F9A786370}"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D3287899-2DA8-467A-8E10-8AB3826818AD}"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9E7E0D22-5D4A-4A5C-B96A-4F5D5F39C650}"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3BD331D-EE28-4A04-ABE8-53759294C0FE}"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39563BFA-DC35-412F-8144-6B3D00423AE3}"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FB0A8707-2FD4-43A5-AB5F-DC824609D7A5}"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42DC26DA-1907-4685-92ED-FE7A06C690F6}"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6DBAABA5-C813-4DE2-87CF-67A1EAF9BDC0}"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1AEA3B3B-78FD-4818-9D73-1D0080A15A70}"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505E854-E91D-4604-8380-5399B6F6B6FC}"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746C0CF-E2E3-4AFD-B118-E351B5CEEF7B}"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722D6E03-813A-4309-9A51-A1D803A4BD21}"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37ECF50-52D1-4A74-ABA3-B862349D7AE4}"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48FC4992-8D69-4FDC-9041-C75FE42A7E13}"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0766D14-CDFC-4A1B-A90B-BA53FBF2A882}"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D12EE81B-93E2-4EC5-9DC2-7B243537DEB2}"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75238552-D5F6-462D-8A8B-FAD7B810DD1A}"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62876A74-DEB1-4CC0-AF44-CADA7422F6B5}"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5095502-6FAD-4A85-A68E-DF771D090EBE}"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4567AA62-D925-4395-8D04-C8DF7CE3E87D}"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BFEF1CCD-9440-4759-AC93-E86C4F3CB14E}"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E700A955-1B20-4188-AE00-ADC25D4C6FE6}"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1C805486-757A-42F7-9D89-576220103BE0}"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8A01519-D7F1-4D89-B7FD-8691403337F1}"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45068792-DD22-43D6-9057-6AD61C7B84A6}"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D4633D8-8116-4E06-A45A-6D7FA92E6ECD}"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A8886BB4-7AA3-4D0C-AE5D-8DA4E1A98082}"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11E21037-16F7-4D3B-9F7B-4CC3C0D144F4}"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4EC15482-24F4-4845-8E1A-76ECA7F6CE0C}"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4C1C2B60-C4A6-49DC-B1C8-F4AEB0B7D33B}"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5EEFC9ED-93E7-4A15-99A9-F31561E2EA20}"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AE69306-B97F-4BAD-A802-B34FDA73FA4B}"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E58FD6A-F61A-4774-9F4D-E906469D6E97}"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BCDC34F-DBBA-45EE-80ED-3DFB0AD0DAA3}"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84BC670-9463-45E8-A5EE-6E9E7C26682D}"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E749E1D-02B0-472B-B59A-61A3516C57B0}"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