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1B2-4A96-4D9B-B388-169B4D64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7AF-5757-4E2C-ADD8-156B4E90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F13-A881-46F6-8DB8-5072D4EE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247-8B04-41BD-9AB3-DB2961BA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436-E421-4FDB-8548-D3EF7D5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F46-6AA8-4958-B53E-37694DA0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D71-D144-4DEF-A9C7-52DCF120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108-8C63-48A0-B050-9D7072F2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453-6C24-4D41-82DA-7AA70691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57A-B4B8-40B7-8B9B-7A4977DE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2CB-B94F-48B4-9C2A-237AFFFC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C5E-FF47-4DFE-8ABD-6EE39A65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242-D9C8-46EA-A6EB-E6C31437F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4960" y="857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dmin</cp:lastModifiedBy>
  <dcterms:modified xsi:type="dcterms:W3CDTF">2012-09-11T14:01:39Z</dcterms:modified>
  <cp:revision>5</cp:revision>
  <dc:subject/>
  <dc:title>欢 度 国 庆</dc:title>
</cp:coreProperties>
</file>