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9" descr="bg2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76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 </a:t>
            </a:r>
            <a:fld id="{77D1CBEF-FF46-41EE-A744-9181D9AF3903}" type="slidenum">
              <a:rPr b="1" i="1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2" descr="BG4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da58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349"/>
              </a:spcBef>
              <a:buClr>
                <a:srgbClr val="963d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03" descr="bg1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7"/>
          <p:cNvSpPr/>
          <p:nvPr/>
        </p:nvSpPr>
        <p:spPr>
          <a:xfrm>
            <a:off x="4683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5.wmf"/><Relationship Id="rId5" Type="http://schemas.openxmlformats.org/officeDocument/2006/relationships/image" Target="../media/image6.png"/><Relationship Id="rId6" Type="http://schemas.openxmlformats.org/officeDocument/2006/relationships/image" Target="../media/image5.wmf"/><Relationship Id="rId7" Type="http://schemas.openxmlformats.org/officeDocument/2006/relationships/image" Target="../media/image6.png"/><Relationship Id="rId8" Type="http://schemas.openxmlformats.org/officeDocument/2006/relationships/image" Target="../media/image5.wmf"/><Relationship Id="rId9" Type="http://schemas.openxmlformats.org/officeDocument/2006/relationships/image" Target="../media/image6.png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51pptmoban.com/" TargetMode="External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11280" y="198900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张海山草泥马体"/>
                <a:ea typeface="张海山草泥马体"/>
              </a:rPr>
              <a:t>适合国庆党建的通用</a:t>
            </a:r>
            <a:r>
              <a:rPr b="0" lang="en-US" sz="4400" spc="-1" strike="noStrike">
                <a:solidFill>
                  <a:srgbClr val="ffffff"/>
                </a:solidFill>
                <a:latin typeface="张海山草泥马体"/>
                <a:ea typeface="张海山草泥马体"/>
              </a:rPr>
              <a:t>PPT</a:t>
            </a:r>
            <a:r>
              <a:rPr b="0" lang="zh-CN" sz="4400" spc="-1" strike="noStrike">
                <a:solidFill>
                  <a:srgbClr val="ffffff"/>
                </a:solidFill>
                <a:latin typeface="张海山草泥马体"/>
                <a:ea typeface="张海山草泥马体"/>
              </a:rPr>
              <a:t>模板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4"/>
          <p:cNvSpPr/>
          <p:nvPr/>
        </p:nvSpPr>
        <p:spPr>
          <a:xfrm>
            <a:off x="8481960" y="66279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c000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c000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c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www.1ppt.com/hangye/ </a:t>
            </a:r>
            <a:endParaRPr b="1" i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c000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c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c000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www.1ppt.com/sucai/</a:t>
            </a:r>
            <a:endParaRPr b="1" i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c000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c000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www.1ppt.com/tubiao/      </a:t>
            </a:r>
            <a:endParaRPr b="1" i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c000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c000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c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www.1ppt.com/powerpoint/      </a:t>
            </a:r>
            <a:endParaRPr b="1" i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c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c000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www.1ppt.com/excel/  </a:t>
            </a:r>
            <a:endParaRPr b="1" i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c000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c000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www.1ppt.com/kejian/ </a:t>
            </a:r>
            <a:endParaRPr b="1" i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c000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c000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www.1ppt.com/shiti/  </a:t>
            </a:r>
            <a:endParaRPr b="1" i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c000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www.1ppt.com/jiaoan/  </a:t>
            </a:r>
            <a:endParaRPr b="1" i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 </a:t>
            </a:r>
            <a:endParaRPr b="1" i="1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684360" y="2852640"/>
            <a:ext cx="8207280" cy="40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15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年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日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65"/>
          <p:cNvGrpSpPr/>
          <p:nvPr/>
        </p:nvGrpSpPr>
        <p:grpSpPr>
          <a:xfrm>
            <a:off x="479520" y="1268280"/>
            <a:ext cx="8207280" cy="863640"/>
            <a:chOff x="479520" y="1268280"/>
            <a:chExt cx="8207280" cy="863640"/>
          </a:xfrm>
        </p:grpSpPr>
        <p:grpSp>
          <p:nvGrpSpPr>
            <p:cNvPr id="125" name="Group 66"/>
            <p:cNvGrpSpPr/>
            <p:nvPr/>
          </p:nvGrpSpPr>
          <p:grpSpPr>
            <a:xfrm>
              <a:off x="479520" y="1268280"/>
              <a:ext cx="8207280" cy="576360"/>
              <a:chOff x="479520" y="1268280"/>
              <a:chExt cx="8207280" cy="576360"/>
            </a:xfrm>
          </p:grpSpPr>
          <p:sp>
            <p:nvSpPr>
              <p:cNvPr id="126" name="Rectangle 67"/>
              <p:cNvSpPr/>
              <p:nvPr/>
            </p:nvSpPr>
            <p:spPr>
              <a:xfrm>
                <a:off x="479520" y="1268280"/>
                <a:ext cx="1025640" cy="57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68"/>
              <p:cNvSpPr/>
              <p:nvPr/>
            </p:nvSpPr>
            <p:spPr>
              <a:xfrm>
                <a:off x="1505160" y="1268280"/>
                <a:ext cx="102528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69"/>
              <p:cNvSpPr/>
              <p:nvPr/>
            </p:nvSpPr>
            <p:spPr>
              <a:xfrm>
                <a:off x="2530440" y="1268280"/>
                <a:ext cx="1025640" cy="57636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70"/>
              <p:cNvSpPr/>
              <p:nvPr/>
            </p:nvSpPr>
            <p:spPr>
              <a:xfrm>
                <a:off x="3556080" y="1268280"/>
                <a:ext cx="102564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71"/>
              <p:cNvSpPr/>
              <p:nvPr/>
            </p:nvSpPr>
            <p:spPr>
              <a:xfrm>
                <a:off x="4584600" y="1268280"/>
                <a:ext cx="1025640" cy="576360"/>
              </a:xfrm>
              <a:prstGeom prst="rect">
                <a:avLst/>
              </a:prstGeom>
              <a:solidFill>
                <a:srgbClr val="ff9021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72"/>
              <p:cNvSpPr/>
              <p:nvPr/>
            </p:nvSpPr>
            <p:spPr>
              <a:xfrm>
                <a:off x="5610240" y="1268280"/>
                <a:ext cx="1025640" cy="576360"/>
              </a:xfrm>
              <a:prstGeom prst="rect">
                <a:avLst/>
              </a:prstGeom>
              <a:solidFill>
                <a:srgbClr val="da58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73"/>
              <p:cNvSpPr/>
              <p:nvPr/>
            </p:nvSpPr>
            <p:spPr>
              <a:xfrm>
                <a:off x="6635880" y="1268280"/>
                <a:ext cx="1025280" cy="576360"/>
              </a:xfrm>
              <a:prstGeom prst="rect">
                <a:avLst/>
              </a:prstGeom>
              <a:solidFill>
                <a:srgbClr val="963d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74"/>
              <p:cNvSpPr/>
              <p:nvPr/>
            </p:nvSpPr>
            <p:spPr>
              <a:xfrm>
                <a:off x="7661160" y="1268280"/>
                <a:ext cx="1025640" cy="576360"/>
              </a:xfrm>
              <a:prstGeom prst="rect">
                <a:avLst/>
              </a:prstGeom>
              <a:solidFill>
                <a:srgbClr val="ffc78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Group 75"/>
            <p:cNvGrpSpPr/>
            <p:nvPr/>
          </p:nvGrpSpPr>
          <p:grpSpPr>
            <a:xfrm>
              <a:off x="479520" y="1844640"/>
              <a:ext cx="8207280" cy="287280"/>
              <a:chOff x="479520" y="1844640"/>
              <a:chExt cx="8207280" cy="287280"/>
            </a:xfrm>
          </p:grpSpPr>
          <p:sp>
            <p:nvSpPr>
              <p:cNvPr id="135" name="Rectangle 76"/>
              <p:cNvSpPr/>
              <p:nvPr/>
            </p:nvSpPr>
            <p:spPr>
              <a:xfrm>
                <a:off x="479520" y="184464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Arial"/>
                  </a:rPr>
                  <a:t>背景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Rectangle 77"/>
              <p:cNvSpPr/>
              <p:nvPr/>
            </p:nvSpPr>
            <p:spPr>
              <a:xfrm>
                <a:off x="1505160" y="184464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Arial"/>
                  </a:rPr>
                  <a:t>文本和线条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Rectangle 78"/>
              <p:cNvSpPr/>
              <p:nvPr/>
            </p:nvSpPr>
            <p:spPr>
              <a:xfrm>
                <a:off x="2530440" y="184464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Arial"/>
                  </a:rPr>
                  <a:t>阴影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Rectangle 79"/>
              <p:cNvSpPr/>
              <p:nvPr/>
            </p:nvSpPr>
            <p:spPr>
              <a:xfrm>
                <a:off x="3556080" y="184464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Arial"/>
                  </a:rPr>
                  <a:t>标题文本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Rectangle 80"/>
              <p:cNvSpPr/>
              <p:nvPr/>
            </p:nvSpPr>
            <p:spPr>
              <a:xfrm>
                <a:off x="4584600" y="184464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Arial"/>
                  </a:rPr>
                  <a:t>填充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Rectangle 81"/>
              <p:cNvSpPr/>
              <p:nvPr/>
            </p:nvSpPr>
            <p:spPr>
              <a:xfrm>
                <a:off x="5610240" y="184464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Arial"/>
                  </a:rPr>
                  <a:t>强调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Rectangle 82"/>
              <p:cNvSpPr/>
              <p:nvPr/>
            </p:nvSpPr>
            <p:spPr>
              <a:xfrm>
                <a:off x="6635880" y="184464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Arial"/>
                  </a:rPr>
                  <a:t>超链接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Rectangle 83"/>
              <p:cNvSpPr/>
              <p:nvPr/>
            </p:nvSpPr>
            <p:spPr>
              <a:xfrm>
                <a:off x="7661160" y="184464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Arial"/>
                  </a:rPr>
                  <a:t>已访超链接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245916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配色方案修改：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配色方案在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格式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幻灯片设计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配色方案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编辑配色方案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的添加：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添加修改在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下调整。直接选择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图片删除或修改。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字体格式的设置：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括标题和文本格式的设置在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图示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_01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3"/>
          <p:cNvGrpSpPr/>
          <p:nvPr/>
        </p:nvGrpSpPr>
        <p:grpSpPr>
          <a:xfrm>
            <a:off x="2197080" y="1484280"/>
            <a:ext cx="5543640" cy="792000"/>
            <a:chOff x="2197080" y="1484280"/>
            <a:chExt cx="5543640" cy="792000"/>
          </a:xfrm>
        </p:grpSpPr>
        <p:sp>
          <p:nvSpPr>
            <p:cNvPr id="146" name="AutoShape 4"/>
            <p:cNvSpPr/>
            <p:nvPr/>
          </p:nvSpPr>
          <p:spPr>
            <a:xfrm>
              <a:off x="2197080" y="1484280"/>
              <a:ext cx="5543640" cy="792000"/>
            </a:xfrm>
            <a:prstGeom prst="roundRect">
              <a:avLst>
                <a:gd name="adj" fmla="val 13028"/>
              </a:avLst>
            </a:prstGeom>
            <a:gradFill rotWithShape="0">
              <a:gsLst>
                <a:gs pos="0">
                  <a:srgbClr val="ff9021"/>
                </a:gs>
                <a:gs pos="100000">
                  <a:srgbClr val="963d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单击此处添加标题文字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</a:rPr>
                <a:t>单击此处添加文字内容   单击此处添加文字内容   单击此处添加文字内容</a:t>
              </a:r>
              <a:endParaRPr b="1" i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AutoShape 5"/>
            <p:cNvSpPr/>
            <p:nvPr/>
          </p:nvSpPr>
          <p:spPr>
            <a:xfrm>
              <a:off x="2225520" y="1520640"/>
              <a:ext cx="548604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6"/>
          <p:cNvGrpSpPr/>
          <p:nvPr/>
        </p:nvGrpSpPr>
        <p:grpSpPr>
          <a:xfrm>
            <a:off x="2197080" y="2565360"/>
            <a:ext cx="5543640" cy="792000"/>
            <a:chOff x="2197080" y="2565360"/>
            <a:chExt cx="5543640" cy="792000"/>
          </a:xfrm>
        </p:grpSpPr>
        <p:sp>
          <p:nvSpPr>
            <p:cNvPr id="149" name="AutoShape 7"/>
            <p:cNvSpPr/>
            <p:nvPr/>
          </p:nvSpPr>
          <p:spPr>
            <a:xfrm>
              <a:off x="2197080" y="2565360"/>
              <a:ext cx="5543640" cy="792000"/>
            </a:xfrm>
            <a:prstGeom prst="roundRect">
              <a:avLst>
                <a:gd name="adj" fmla="val 13028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单击此处添加标题文字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</a:rPr>
                <a:t>单击此处添加文字内容   单击此处添加文字内容   单击此处添加文字内容</a:t>
              </a:r>
              <a:endParaRPr b="1" i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8"/>
            <p:cNvSpPr/>
            <p:nvPr/>
          </p:nvSpPr>
          <p:spPr>
            <a:xfrm>
              <a:off x="2225520" y="2601720"/>
              <a:ext cx="548604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9"/>
          <p:cNvGrpSpPr/>
          <p:nvPr/>
        </p:nvGrpSpPr>
        <p:grpSpPr>
          <a:xfrm>
            <a:off x="2197080" y="3645000"/>
            <a:ext cx="5543640" cy="792000"/>
            <a:chOff x="2197080" y="3645000"/>
            <a:chExt cx="5543640" cy="792000"/>
          </a:xfrm>
        </p:grpSpPr>
        <p:sp>
          <p:nvSpPr>
            <p:cNvPr id="152" name="AutoShape 10"/>
            <p:cNvSpPr/>
            <p:nvPr/>
          </p:nvSpPr>
          <p:spPr>
            <a:xfrm>
              <a:off x="2197080" y="3645000"/>
              <a:ext cx="5543640" cy="792000"/>
            </a:xfrm>
            <a:prstGeom prst="roundRect">
              <a:avLst>
                <a:gd name="adj" fmla="val 13028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单击此处添加标题文字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</a:rPr>
                <a:t>单击此处添加文字内容   单击此处添加文字内容   单击此处添加文字内容</a:t>
              </a:r>
              <a:endParaRPr b="1" i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AutoShape 11"/>
            <p:cNvSpPr/>
            <p:nvPr/>
          </p:nvSpPr>
          <p:spPr>
            <a:xfrm>
              <a:off x="2225520" y="3681360"/>
              <a:ext cx="548604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12"/>
          <p:cNvGrpSpPr/>
          <p:nvPr/>
        </p:nvGrpSpPr>
        <p:grpSpPr>
          <a:xfrm>
            <a:off x="2197080" y="4724280"/>
            <a:ext cx="5543640" cy="792360"/>
            <a:chOff x="2197080" y="4724280"/>
            <a:chExt cx="5543640" cy="792360"/>
          </a:xfrm>
        </p:grpSpPr>
        <p:sp>
          <p:nvSpPr>
            <p:cNvPr id="155" name="AutoShape 13"/>
            <p:cNvSpPr/>
            <p:nvPr/>
          </p:nvSpPr>
          <p:spPr>
            <a:xfrm>
              <a:off x="2197080" y="4724280"/>
              <a:ext cx="5543640" cy="792360"/>
            </a:xfrm>
            <a:prstGeom prst="roundRect">
              <a:avLst>
                <a:gd name="adj" fmla="val 11824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单击此处添加标题文字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</a:rPr>
                <a:t>单击此处添加文字内容   单击此处添加文字内容   单击此处添加文字内容</a:t>
              </a:r>
              <a:endParaRPr b="1" i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AutoShape 14"/>
            <p:cNvSpPr/>
            <p:nvPr/>
          </p:nvSpPr>
          <p:spPr>
            <a:xfrm>
              <a:off x="2225520" y="4761000"/>
              <a:ext cx="5486040" cy="32364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15"/>
          <p:cNvGrpSpPr/>
          <p:nvPr/>
        </p:nvGrpSpPr>
        <p:grpSpPr>
          <a:xfrm>
            <a:off x="1332000" y="1484280"/>
            <a:ext cx="792000" cy="792000"/>
            <a:chOff x="1332000" y="1484280"/>
            <a:chExt cx="792000" cy="792000"/>
          </a:xfrm>
        </p:grpSpPr>
        <p:sp>
          <p:nvSpPr>
            <p:cNvPr id="158" name="AutoShape 16"/>
            <p:cNvSpPr/>
            <p:nvPr/>
          </p:nvSpPr>
          <p:spPr>
            <a:xfrm>
              <a:off x="1332000" y="1484280"/>
              <a:ext cx="792000" cy="792000"/>
            </a:xfrm>
            <a:prstGeom prst="roundRect">
              <a:avLst>
                <a:gd name="adj" fmla="val 13028"/>
              </a:avLst>
            </a:prstGeom>
            <a:solidFill>
              <a:srgbClr val="ff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WordArt 17"/>
            <p:cNvSpPr txBox="1"/>
            <p:nvPr/>
          </p:nvSpPr>
          <p:spPr>
            <a:xfrm>
              <a:off x="1586160" y="1698480"/>
              <a:ext cx="214200" cy="362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1" strike="noStrike">
                  <a:ln w="0">
                    <a:noFill/>
                  </a:ln>
                  <a:solidFill>
                    <a:srgbClr val="963d00"/>
                  </a:solidFill>
                  <a:latin typeface="Arial Black"/>
                </a:rPr>
                <a:t>1</a:t>
              </a:r>
              <a:endParaRPr b="1" i="1" lang="en-US" sz="1400" spc="1" strike="noStrike">
                <a:ln w="0">
                  <a:noFill/>
                </a:ln>
                <a:solidFill>
                  <a:srgbClr val="963d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60" name="AutoShape 18"/>
            <p:cNvSpPr/>
            <p:nvPr/>
          </p:nvSpPr>
          <p:spPr>
            <a:xfrm>
              <a:off x="1368360" y="1520640"/>
              <a:ext cx="71928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19"/>
          <p:cNvGrpSpPr/>
          <p:nvPr/>
        </p:nvGrpSpPr>
        <p:grpSpPr>
          <a:xfrm>
            <a:off x="1332000" y="2565360"/>
            <a:ext cx="792000" cy="792000"/>
            <a:chOff x="1332000" y="2565360"/>
            <a:chExt cx="792000" cy="792000"/>
          </a:xfrm>
        </p:grpSpPr>
        <p:sp>
          <p:nvSpPr>
            <p:cNvPr id="162" name="AutoShape 20"/>
            <p:cNvSpPr/>
            <p:nvPr/>
          </p:nvSpPr>
          <p:spPr>
            <a:xfrm>
              <a:off x="1332000" y="2565360"/>
              <a:ext cx="792000" cy="792000"/>
            </a:xfrm>
            <a:prstGeom prst="roundRect">
              <a:avLst>
                <a:gd name="adj" fmla="val 13028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WordArt 21"/>
            <p:cNvSpPr txBox="1"/>
            <p:nvPr/>
          </p:nvSpPr>
          <p:spPr>
            <a:xfrm>
              <a:off x="1586160" y="2779560"/>
              <a:ext cx="285480" cy="362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2</a:t>
              </a:r>
              <a:endParaRPr b="1" i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64" name="AutoShape 22"/>
            <p:cNvSpPr/>
            <p:nvPr/>
          </p:nvSpPr>
          <p:spPr>
            <a:xfrm>
              <a:off x="1368360" y="2601720"/>
              <a:ext cx="71928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Group 23"/>
          <p:cNvGrpSpPr/>
          <p:nvPr/>
        </p:nvGrpSpPr>
        <p:grpSpPr>
          <a:xfrm>
            <a:off x="1332000" y="3645000"/>
            <a:ext cx="792000" cy="792000"/>
            <a:chOff x="1332000" y="3645000"/>
            <a:chExt cx="792000" cy="792000"/>
          </a:xfrm>
        </p:grpSpPr>
        <p:sp>
          <p:nvSpPr>
            <p:cNvPr id="166" name="AutoShape 24"/>
            <p:cNvSpPr/>
            <p:nvPr/>
          </p:nvSpPr>
          <p:spPr>
            <a:xfrm>
              <a:off x="1332000" y="3645000"/>
              <a:ext cx="792000" cy="792000"/>
            </a:xfrm>
            <a:prstGeom prst="roundRect">
              <a:avLst>
                <a:gd name="adj" fmla="val 14227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WordArt 25"/>
            <p:cNvSpPr txBox="1"/>
            <p:nvPr/>
          </p:nvSpPr>
          <p:spPr>
            <a:xfrm>
              <a:off x="1586160" y="3859200"/>
              <a:ext cx="285480" cy="36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3</a:t>
              </a:r>
              <a:endParaRPr b="1" i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68" name="AutoShape 26"/>
            <p:cNvSpPr/>
            <p:nvPr/>
          </p:nvSpPr>
          <p:spPr>
            <a:xfrm>
              <a:off x="1368360" y="3679920"/>
              <a:ext cx="719280" cy="32364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27"/>
          <p:cNvGrpSpPr/>
          <p:nvPr/>
        </p:nvGrpSpPr>
        <p:grpSpPr>
          <a:xfrm>
            <a:off x="1332000" y="4724280"/>
            <a:ext cx="792000" cy="792360"/>
            <a:chOff x="1332000" y="4724280"/>
            <a:chExt cx="792000" cy="792360"/>
          </a:xfrm>
        </p:grpSpPr>
        <p:sp>
          <p:nvSpPr>
            <p:cNvPr id="170" name="AutoShape 28"/>
            <p:cNvSpPr/>
            <p:nvPr/>
          </p:nvSpPr>
          <p:spPr>
            <a:xfrm>
              <a:off x="1332000" y="4724280"/>
              <a:ext cx="792000" cy="792360"/>
            </a:xfrm>
            <a:custGeom>
              <a:avLst/>
              <a:gdLst>
                <a:gd name="textAreaLeft" fmla="*/ 32760 w 792000"/>
                <a:gd name="textAreaRight" fmla="*/ 759240 w 792000"/>
                <a:gd name="textAreaTop" fmla="*/ 32760 h 792360"/>
                <a:gd name="textAreaBottom" fmla="*/ 759600 h 792360"/>
              </a:gdLst>
              <a:ahLst/>
              <a:rect l="textAreaLeft" t="textAreaTop" r="textAreaRight" b="textAreaBottom"/>
              <a:pathLst>
                <a:path w="21600" h="21610">
                  <a:moveTo>
                    <a:pt x="3073" y="0"/>
                  </a:moveTo>
                  <a:arcTo wR="3073" hR="3073" stAng="16200000" swAng="-5400000"/>
                  <a:lnTo>
                    <a:pt x="0" y="18537"/>
                  </a:lnTo>
                  <a:arcTo wR="3073" hR="3073" stAng="10800000" swAng="-5400000"/>
                  <a:lnTo>
                    <a:pt x="18527" y="21610"/>
                  </a:lnTo>
                  <a:arcTo wR="3073" hR="3073" stAng="5400000" swAng="-5400000"/>
                  <a:lnTo>
                    <a:pt x="21600" y="3073"/>
                  </a:lnTo>
                  <a:arcTo wR="3073" hR="3073" stAng="0" swAng="-5400000"/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WordArt 29"/>
            <p:cNvSpPr txBox="1"/>
            <p:nvPr/>
          </p:nvSpPr>
          <p:spPr>
            <a:xfrm>
              <a:off x="1586160" y="4938480"/>
              <a:ext cx="285480" cy="362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4</a:t>
              </a:r>
              <a:endParaRPr b="1" i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72" name="AutoShape 30"/>
            <p:cNvSpPr/>
            <p:nvPr/>
          </p:nvSpPr>
          <p:spPr>
            <a:xfrm>
              <a:off x="1368360" y="4761000"/>
              <a:ext cx="719280" cy="32364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图示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_0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3"/>
          <p:cNvGrpSpPr/>
          <p:nvPr/>
        </p:nvGrpSpPr>
        <p:grpSpPr>
          <a:xfrm>
            <a:off x="1042920" y="2133720"/>
            <a:ext cx="3313080" cy="3456000"/>
            <a:chOff x="1042920" y="2133720"/>
            <a:chExt cx="3313080" cy="3456000"/>
          </a:xfrm>
        </p:grpSpPr>
        <p:sp>
          <p:nvSpPr>
            <p:cNvPr id="175" name="AutoShape 4"/>
            <p:cNvSpPr/>
            <p:nvPr/>
          </p:nvSpPr>
          <p:spPr>
            <a:xfrm>
              <a:off x="1042920" y="2133720"/>
              <a:ext cx="3313080" cy="3456000"/>
            </a:xfrm>
            <a:custGeom>
              <a:avLst/>
              <a:gdLst>
                <a:gd name="textAreaLeft" fmla="*/ 28440 w 3313080"/>
                <a:gd name="textAreaRight" fmla="*/ 3284640 w 3313080"/>
                <a:gd name="textAreaTop" fmla="*/ 28440 h 3456000"/>
                <a:gd name="textAreaBottom" fmla="*/ 3427560 h 3456000"/>
              </a:gdLst>
              <a:ahLst/>
              <a:rect l="textAreaLeft" t="textAreaTop" r="textAreaRight" b="textAreaBottom"/>
              <a:pathLst>
                <a:path w="21600" h="22532">
                  <a:moveTo>
                    <a:pt x="638" y="0"/>
                  </a:moveTo>
                  <a:arcTo wR="638" hR="638" stAng="16200000" swAng="-5400000"/>
                  <a:lnTo>
                    <a:pt x="0" y="21894"/>
                  </a:lnTo>
                  <a:arcTo wR="638" hR="638" stAng="10800000" swAng="-5400000"/>
                  <a:lnTo>
                    <a:pt x="20962" y="22532"/>
                  </a:lnTo>
                  <a:arcTo wR="638" hR="638" stAng="5400000" swAng="-5400000"/>
                  <a:lnTo>
                    <a:pt x="21600" y="638"/>
                  </a:lnTo>
                  <a:arcTo wR="638" hR="638" stAng="0" swAng="-5400000"/>
                  <a:close/>
                </a:path>
              </a:pathLst>
            </a:custGeom>
            <a:gradFill rotWithShape="0">
              <a:gsLst>
                <a:gs pos="0">
                  <a:srgbClr val="ff9021"/>
                </a:gs>
                <a:gs pos="100000">
                  <a:srgbClr val="963d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5"/>
            <p:cNvSpPr/>
            <p:nvPr/>
          </p:nvSpPr>
          <p:spPr>
            <a:xfrm>
              <a:off x="1079640" y="2170080"/>
              <a:ext cx="320832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Group 6"/>
          <p:cNvGrpSpPr/>
          <p:nvPr/>
        </p:nvGrpSpPr>
        <p:grpSpPr>
          <a:xfrm>
            <a:off x="1060560" y="1573200"/>
            <a:ext cx="3295440" cy="487080"/>
            <a:chOff x="1060560" y="1573200"/>
            <a:chExt cx="3295440" cy="487080"/>
          </a:xfrm>
        </p:grpSpPr>
        <p:sp>
          <p:nvSpPr>
            <p:cNvPr id="178" name="AutoShape 7"/>
            <p:cNvSpPr/>
            <p:nvPr/>
          </p:nvSpPr>
          <p:spPr>
            <a:xfrm>
              <a:off x="1060560" y="1573200"/>
              <a:ext cx="3295440" cy="487080"/>
            </a:xfrm>
            <a:prstGeom prst="roundRect">
              <a:avLst>
                <a:gd name="adj" fmla="val 13028"/>
              </a:avLst>
            </a:prstGeom>
            <a:solidFill>
              <a:srgbClr val="ff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963d00"/>
                  </a:solidFill>
                  <a:latin typeface="Arial"/>
                </a:rPr>
                <a:t>单击此处添加标题文字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8"/>
            <p:cNvSpPr/>
            <p:nvPr/>
          </p:nvSpPr>
          <p:spPr>
            <a:xfrm>
              <a:off x="1092240" y="1609560"/>
              <a:ext cx="3226320" cy="20016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9"/>
          <p:cNvGrpSpPr/>
          <p:nvPr/>
        </p:nvGrpSpPr>
        <p:grpSpPr>
          <a:xfrm>
            <a:off x="4896000" y="2133720"/>
            <a:ext cx="3313080" cy="3456000"/>
            <a:chOff x="4896000" y="2133720"/>
            <a:chExt cx="3313080" cy="3456000"/>
          </a:xfrm>
        </p:grpSpPr>
        <p:sp>
          <p:nvSpPr>
            <p:cNvPr id="181" name="AutoShape 10"/>
            <p:cNvSpPr/>
            <p:nvPr/>
          </p:nvSpPr>
          <p:spPr>
            <a:xfrm>
              <a:off x="4896000" y="2133720"/>
              <a:ext cx="3313080" cy="3456000"/>
            </a:xfrm>
            <a:custGeom>
              <a:avLst/>
              <a:gdLst>
                <a:gd name="textAreaLeft" fmla="*/ 28440 w 3313080"/>
                <a:gd name="textAreaRight" fmla="*/ 3284640 w 3313080"/>
                <a:gd name="textAreaTop" fmla="*/ 28440 h 3456000"/>
                <a:gd name="textAreaBottom" fmla="*/ 3427560 h 3456000"/>
              </a:gdLst>
              <a:ahLst/>
              <a:rect l="textAreaLeft" t="textAreaTop" r="textAreaRight" b="textAreaBottom"/>
              <a:pathLst>
                <a:path w="21600" h="22532">
                  <a:moveTo>
                    <a:pt x="638" y="0"/>
                  </a:moveTo>
                  <a:arcTo wR="638" hR="638" stAng="16200000" swAng="-5400000"/>
                  <a:lnTo>
                    <a:pt x="0" y="21894"/>
                  </a:lnTo>
                  <a:arcTo wR="638" hR="638" stAng="10800000" swAng="-5400000"/>
                  <a:lnTo>
                    <a:pt x="20962" y="22532"/>
                  </a:lnTo>
                  <a:arcTo wR="638" hR="638" stAng="5400000" swAng="-5400000"/>
                  <a:lnTo>
                    <a:pt x="21600" y="638"/>
                  </a:lnTo>
                  <a:arcTo wR="638" hR="638" stAng="0" swAng="-5400000"/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11"/>
            <p:cNvSpPr/>
            <p:nvPr/>
          </p:nvSpPr>
          <p:spPr>
            <a:xfrm>
              <a:off x="4932360" y="2170080"/>
              <a:ext cx="320832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12"/>
          <p:cNvGrpSpPr/>
          <p:nvPr/>
        </p:nvGrpSpPr>
        <p:grpSpPr>
          <a:xfrm>
            <a:off x="4913280" y="1573200"/>
            <a:ext cx="3295800" cy="487440"/>
            <a:chOff x="4913280" y="1573200"/>
            <a:chExt cx="3295800" cy="487440"/>
          </a:xfrm>
        </p:grpSpPr>
        <p:sp>
          <p:nvSpPr>
            <p:cNvPr id="184" name="AutoShape 13"/>
            <p:cNvSpPr/>
            <p:nvPr/>
          </p:nvSpPr>
          <p:spPr>
            <a:xfrm>
              <a:off x="4913280" y="1573200"/>
              <a:ext cx="3295800" cy="487440"/>
            </a:xfrm>
            <a:prstGeom prst="roundRect">
              <a:avLst>
                <a:gd name="adj" fmla="val 13028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单击此处添加标题文字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14"/>
            <p:cNvSpPr/>
            <p:nvPr/>
          </p:nvSpPr>
          <p:spPr>
            <a:xfrm>
              <a:off x="4944960" y="1609560"/>
              <a:ext cx="3227400" cy="20016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图示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_04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3"/>
          <p:cNvSpPr/>
          <p:nvPr/>
        </p:nvSpPr>
        <p:spPr>
          <a:xfrm>
            <a:off x="1728720" y="3859200"/>
            <a:ext cx="648036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4"/>
          <p:cNvSpPr/>
          <p:nvPr/>
        </p:nvSpPr>
        <p:spPr>
          <a:xfrm>
            <a:off x="1728720" y="4579920"/>
            <a:ext cx="648036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5"/>
          <p:cNvSpPr/>
          <p:nvPr/>
        </p:nvSpPr>
        <p:spPr>
          <a:xfrm>
            <a:off x="1728720" y="4941720"/>
            <a:ext cx="648036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6"/>
          <p:cNvSpPr/>
          <p:nvPr/>
        </p:nvSpPr>
        <p:spPr>
          <a:xfrm>
            <a:off x="1728720" y="4221000"/>
            <a:ext cx="648036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7"/>
          <p:cNvSpPr/>
          <p:nvPr/>
        </p:nvSpPr>
        <p:spPr>
          <a:xfrm>
            <a:off x="1728720" y="3502080"/>
            <a:ext cx="648036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8"/>
          <p:cNvSpPr/>
          <p:nvPr/>
        </p:nvSpPr>
        <p:spPr>
          <a:xfrm>
            <a:off x="1728720" y="3141720"/>
            <a:ext cx="648036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9"/>
          <p:cNvSpPr/>
          <p:nvPr/>
        </p:nvSpPr>
        <p:spPr>
          <a:xfrm>
            <a:off x="1728720" y="2781360"/>
            <a:ext cx="648036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0"/>
          <p:cNvSpPr/>
          <p:nvPr/>
        </p:nvSpPr>
        <p:spPr>
          <a:xfrm>
            <a:off x="1728720" y="2421000"/>
            <a:ext cx="648036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1"/>
          <p:cNvSpPr/>
          <p:nvPr/>
        </p:nvSpPr>
        <p:spPr>
          <a:xfrm>
            <a:off x="1728720" y="2062080"/>
            <a:ext cx="648036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2"/>
          <p:cNvSpPr/>
          <p:nvPr/>
        </p:nvSpPr>
        <p:spPr>
          <a:xfrm>
            <a:off x="1728720" y="1701720"/>
            <a:ext cx="648036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1924200" y="53863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1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4"/>
          <p:cNvSpPr/>
          <p:nvPr/>
        </p:nvSpPr>
        <p:spPr>
          <a:xfrm>
            <a:off x="2645280" y="53863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2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5"/>
          <p:cNvSpPr/>
          <p:nvPr/>
        </p:nvSpPr>
        <p:spPr>
          <a:xfrm>
            <a:off x="3364200" y="53863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3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6"/>
          <p:cNvSpPr/>
          <p:nvPr/>
        </p:nvSpPr>
        <p:spPr>
          <a:xfrm>
            <a:off x="4084920" y="53863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4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7"/>
          <p:cNvSpPr/>
          <p:nvPr/>
        </p:nvSpPr>
        <p:spPr>
          <a:xfrm>
            <a:off x="4804200" y="53863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5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8"/>
          <p:cNvSpPr/>
          <p:nvPr/>
        </p:nvSpPr>
        <p:spPr>
          <a:xfrm>
            <a:off x="5524920" y="53863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6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9"/>
          <p:cNvSpPr/>
          <p:nvPr/>
        </p:nvSpPr>
        <p:spPr>
          <a:xfrm>
            <a:off x="6243840" y="53863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7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0"/>
          <p:cNvSpPr/>
          <p:nvPr/>
        </p:nvSpPr>
        <p:spPr>
          <a:xfrm>
            <a:off x="6964560" y="53863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8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1"/>
          <p:cNvSpPr/>
          <p:nvPr/>
        </p:nvSpPr>
        <p:spPr>
          <a:xfrm>
            <a:off x="7677360" y="53863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9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22"/>
          <p:cNvGrpSpPr/>
          <p:nvPr/>
        </p:nvGrpSpPr>
        <p:grpSpPr>
          <a:xfrm>
            <a:off x="1836720" y="4579920"/>
            <a:ext cx="503280" cy="720720"/>
            <a:chOff x="1836720" y="4579920"/>
            <a:chExt cx="503280" cy="720720"/>
          </a:xfrm>
        </p:grpSpPr>
        <p:sp>
          <p:nvSpPr>
            <p:cNvPr id="207" name="AutoShape 23"/>
            <p:cNvSpPr/>
            <p:nvPr/>
          </p:nvSpPr>
          <p:spPr>
            <a:xfrm>
              <a:off x="1836720" y="4579920"/>
              <a:ext cx="503280" cy="720720"/>
            </a:xfrm>
            <a:custGeom>
              <a:avLst/>
              <a:gdLst>
                <a:gd name="textAreaLeft" fmla="*/ 19080 w 503280"/>
                <a:gd name="textAreaRight" fmla="*/ 484200 w 503280"/>
                <a:gd name="textAreaTop" fmla="*/ 19080 h 720720"/>
                <a:gd name="textAreaBottom" fmla="*/ 701640 h 720720"/>
              </a:gdLst>
              <a:ahLst/>
              <a:rect l="textAreaLeft" t="textAreaTop" r="textAreaRight" b="textAreaBottom"/>
              <a:pathLst>
                <a:path w="21600" h="30926">
                  <a:moveTo>
                    <a:pt x="2814" y="0"/>
                  </a:moveTo>
                  <a:arcTo wR="2814" hR="2814" stAng="16200000" swAng="-5400000"/>
                  <a:lnTo>
                    <a:pt x="0" y="28112"/>
                  </a:lnTo>
                  <a:arcTo wR="2814" hR="2814" stAng="10800000" swAng="-5400000"/>
                  <a:lnTo>
                    <a:pt x="18786" y="30926"/>
                  </a:lnTo>
                  <a:arcTo wR="2814" hR="2814" stAng="5400000" swAng="-5400000"/>
                  <a:lnTo>
                    <a:pt x="21600" y="2814"/>
                  </a:lnTo>
                  <a:arcTo wR="2814" hR="2814" stAng="0" swAng="-5400000"/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AutoShape 24"/>
            <p:cNvSpPr/>
            <p:nvPr/>
          </p:nvSpPr>
          <p:spPr>
            <a:xfrm>
              <a:off x="1873080" y="4616280"/>
              <a:ext cx="432000" cy="576360"/>
            </a:xfrm>
            <a:custGeom>
              <a:avLst/>
              <a:gdLst>
                <a:gd name="textAreaLeft" fmla="*/ 14040 w 432000"/>
                <a:gd name="textAreaRight" fmla="*/ 417960 w 432000"/>
                <a:gd name="textAreaTop" fmla="*/ 14040 h 576360"/>
                <a:gd name="textAreaBottom" fmla="*/ 562320 h 576360"/>
              </a:gdLst>
              <a:ahLst/>
              <a:rect l="textAreaLeft" t="textAreaTop" r="textAreaRight" b="textAreaBottom"/>
              <a:pathLst>
                <a:path w="21600" h="28812">
                  <a:moveTo>
                    <a:pt x="2435" y="0"/>
                  </a:moveTo>
                  <a:arcTo wR="2435" hR="2435" stAng="16200000" swAng="-5400000"/>
                  <a:lnTo>
                    <a:pt x="0" y="26377"/>
                  </a:lnTo>
                  <a:arcTo wR="2435" hR="2435" stAng="10800000" swAng="-5400000"/>
                  <a:lnTo>
                    <a:pt x="19165" y="28812"/>
                  </a:lnTo>
                  <a:arcTo wR="2435" hR="2435" stAng="5400000" swAng="-5400000"/>
                  <a:lnTo>
                    <a:pt x="21600" y="2435"/>
                  </a:lnTo>
                  <a:arcTo wR="2435" hR="2435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Group 25"/>
          <p:cNvGrpSpPr/>
          <p:nvPr/>
        </p:nvGrpSpPr>
        <p:grpSpPr>
          <a:xfrm>
            <a:off x="2557440" y="4219560"/>
            <a:ext cx="503280" cy="1081080"/>
            <a:chOff x="2557440" y="4219560"/>
            <a:chExt cx="503280" cy="1081080"/>
          </a:xfrm>
        </p:grpSpPr>
        <p:sp>
          <p:nvSpPr>
            <p:cNvPr id="210" name="AutoShape 26"/>
            <p:cNvSpPr/>
            <p:nvPr/>
          </p:nvSpPr>
          <p:spPr>
            <a:xfrm>
              <a:off x="2557440" y="4219560"/>
              <a:ext cx="503280" cy="1081080"/>
            </a:xfrm>
            <a:custGeom>
              <a:avLst/>
              <a:gdLst>
                <a:gd name="textAreaLeft" fmla="*/ 19080 w 503280"/>
                <a:gd name="textAreaRight" fmla="*/ 484200 w 503280"/>
                <a:gd name="textAreaTop" fmla="*/ 19080 h 1081080"/>
                <a:gd name="textAreaBottom" fmla="*/ 1062000 h 1081080"/>
              </a:gdLst>
              <a:ahLst/>
              <a:rect l="textAreaLeft" t="textAreaTop" r="textAreaRight" b="textAreaBottom"/>
              <a:pathLst>
                <a:path w="21600" h="46381">
                  <a:moveTo>
                    <a:pt x="2814" y="0"/>
                  </a:moveTo>
                  <a:arcTo wR="2814" hR="2814" stAng="16200000" swAng="-5400000"/>
                  <a:lnTo>
                    <a:pt x="0" y="43567"/>
                  </a:lnTo>
                  <a:arcTo wR="2814" hR="2814" stAng="10800000" swAng="-5400000"/>
                  <a:lnTo>
                    <a:pt x="18786" y="46381"/>
                  </a:lnTo>
                  <a:arcTo wR="2814" hR="2814" stAng="5400000" swAng="-5400000"/>
                  <a:lnTo>
                    <a:pt x="21600" y="2814"/>
                  </a:lnTo>
                  <a:arcTo wR="2814" hR="2814" stAng="0" swAng="-5400000"/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AutoShape 27"/>
            <p:cNvSpPr/>
            <p:nvPr/>
          </p:nvSpPr>
          <p:spPr>
            <a:xfrm>
              <a:off x="2592360" y="4255920"/>
              <a:ext cx="432000" cy="576360"/>
            </a:xfrm>
            <a:custGeom>
              <a:avLst/>
              <a:gdLst>
                <a:gd name="textAreaLeft" fmla="*/ 14040 w 432000"/>
                <a:gd name="textAreaRight" fmla="*/ 417960 w 432000"/>
                <a:gd name="textAreaTop" fmla="*/ 14040 h 576360"/>
                <a:gd name="textAreaBottom" fmla="*/ 562320 h 576360"/>
              </a:gdLst>
              <a:ahLst/>
              <a:rect l="textAreaLeft" t="textAreaTop" r="textAreaRight" b="textAreaBottom"/>
              <a:pathLst>
                <a:path w="21600" h="28812">
                  <a:moveTo>
                    <a:pt x="2435" y="0"/>
                  </a:moveTo>
                  <a:arcTo wR="2435" hR="2435" stAng="16200000" swAng="-5400000"/>
                  <a:lnTo>
                    <a:pt x="0" y="26377"/>
                  </a:lnTo>
                  <a:arcTo wR="2435" hR="2435" stAng="10800000" swAng="-5400000"/>
                  <a:lnTo>
                    <a:pt x="19165" y="28812"/>
                  </a:lnTo>
                  <a:arcTo wR="2435" hR="2435" stAng="5400000" swAng="-5400000"/>
                  <a:lnTo>
                    <a:pt x="21600" y="2435"/>
                  </a:lnTo>
                  <a:arcTo wR="2435" hR="2435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Group 28"/>
          <p:cNvGrpSpPr/>
          <p:nvPr/>
        </p:nvGrpSpPr>
        <p:grpSpPr>
          <a:xfrm>
            <a:off x="3276720" y="3860640"/>
            <a:ext cx="503280" cy="1440000"/>
            <a:chOff x="3276720" y="3860640"/>
            <a:chExt cx="503280" cy="1440000"/>
          </a:xfrm>
        </p:grpSpPr>
        <p:sp>
          <p:nvSpPr>
            <p:cNvPr id="213" name="AutoShape 29"/>
            <p:cNvSpPr/>
            <p:nvPr/>
          </p:nvSpPr>
          <p:spPr>
            <a:xfrm>
              <a:off x="3276720" y="3860640"/>
              <a:ext cx="503280" cy="1440000"/>
            </a:xfrm>
            <a:custGeom>
              <a:avLst/>
              <a:gdLst>
                <a:gd name="textAreaLeft" fmla="*/ 19080 w 503280"/>
                <a:gd name="textAreaRight" fmla="*/ 484200 w 503280"/>
                <a:gd name="textAreaTop" fmla="*/ 19080 h 1440000"/>
                <a:gd name="textAreaBottom" fmla="*/ 1420920 h 1440000"/>
              </a:gdLst>
              <a:ahLst/>
              <a:rect l="textAreaLeft" t="textAreaTop" r="textAreaRight" b="textAreaBottom"/>
              <a:pathLst>
                <a:path w="21600" h="61774">
                  <a:moveTo>
                    <a:pt x="2814" y="0"/>
                  </a:moveTo>
                  <a:arcTo wR="2814" hR="2814" stAng="16200000" swAng="-5400000"/>
                  <a:lnTo>
                    <a:pt x="0" y="58960"/>
                  </a:lnTo>
                  <a:arcTo wR="2814" hR="2814" stAng="10800000" swAng="-5400000"/>
                  <a:lnTo>
                    <a:pt x="18786" y="61774"/>
                  </a:lnTo>
                  <a:arcTo wR="2814" hR="2814" stAng="5400000" swAng="-5400000"/>
                  <a:lnTo>
                    <a:pt x="21600" y="2814"/>
                  </a:lnTo>
                  <a:arcTo wR="2814" hR="2814" stAng="0" swAng="-5400000"/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AutoShape 30"/>
            <p:cNvSpPr/>
            <p:nvPr/>
          </p:nvSpPr>
          <p:spPr>
            <a:xfrm>
              <a:off x="3313080" y="3895560"/>
              <a:ext cx="432000" cy="576360"/>
            </a:xfrm>
            <a:custGeom>
              <a:avLst/>
              <a:gdLst>
                <a:gd name="textAreaLeft" fmla="*/ 14040 w 432000"/>
                <a:gd name="textAreaRight" fmla="*/ 417960 w 432000"/>
                <a:gd name="textAreaTop" fmla="*/ 14040 h 576360"/>
                <a:gd name="textAreaBottom" fmla="*/ 562320 h 576360"/>
              </a:gdLst>
              <a:ahLst/>
              <a:rect l="textAreaLeft" t="textAreaTop" r="textAreaRight" b="textAreaBottom"/>
              <a:pathLst>
                <a:path w="21600" h="28812">
                  <a:moveTo>
                    <a:pt x="2435" y="0"/>
                  </a:moveTo>
                  <a:arcTo wR="2435" hR="2435" stAng="16200000" swAng="-5400000"/>
                  <a:lnTo>
                    <a:pt x="0" y="26377"/>
                  </a:lnTo>
                  <a:arcTo wR="2435" hR="2435" stAng="10800000" swAng="-5400000"/>
                  <a:lnTo>
                    <a:pt x="19165" y="28812"/>
                  </a:lnTo>
                  <a:arcTo wR="2435" hR="2435" stAng="5400000" swAng="-5400000"/>
                  <a:lnTo>
                    <a:pt x="21600" y="2435"/>
                  </a:lnTo>
                  <a:arcTo wR="2435" hR="2435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31"/>
          <p:cNvGrpSpPr/>
          <p:nvPr/>
        </p:nvGrpSpPr>
        <p:grpSpPr>
          <a:xfrm>
            <a:off x="3995640" y="3500280"/>
            <a:ext cx="503280" cy="1800360"/>
            <a:chOff x="3995640" y="3500280"/>
            <a:chExt cx="503280" cy="1800360"/>
          </a:xfrm>
        </p:grpSpPr>
        <p:sp>
          <p:nvSpPr>
            <p:cNvPr id="216" name="AutoShape 32"/>
            <p:cNvSpPr/>
            <p:nvPr/>
          </p:nvSpPr>
          <p:spPr>
            <a:xfrm>
              <a:off x="3995640" y="3500280"/>
              <a:ext cx="503280" cy="1800360"/>
            </a:xfrm>
            <a:custGeom>
              <a:avLst/>
              <a:gdLst>
                <a:gd name="textAreaLeft" fmla="*/ 19080 w 503280"/>
                <a:gd name="textAreaRight" fmla="*/ 484200 w 503280"/>
                <a:gd name="textAreaTop" fmla="*/ 19080 h 1800360"/>
                <a:gd name="textAreaBottom" fmla="*/ 1781280 h 1800360"/>
              </a:gdLst>
              <a:ahLst/>
              <a:rect l="textAreaLeft" t="textAreaTop" r="textAreaRight" b="textAreaBottom"/>
              <a:pathLst>
                <a:path w="21600" h="77229">
                  <a:moveTo>
                    <a:pt x="2814" y="0"/>
                  </a:moveTo>
                  <a:arcTo wR="2814" hR="2814" stAng="16200000" swAng="-5400000"/>
                  <a:lnTo>
                    <a:pt x="0" y="74415"/>
                  </a:lnTo>
                  <a:arcTo wR="2814" hR="2814" stAng="10800000" swAng="-5400000"/>
                  <a:lnTo>
                    <a:pt x="18786" y="77229"/>
                  </a:lnTo>
                  <a:arcTo wR="2814" hR="2814" stAng="5400000" swAng="-5400000"/>
                  <a:lnTo>
                    <a:pt x="21600" y="2814"/>
                  </a:lnTo>
                  <a:arcTo wR="2814" hR="2814" stAng="0" swAng="-5400000"/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AutoShape 33"/>
            <p:cNvSpPr/>
            <p:nvPr/>
          </p:nvSpPr>
          <p:spPr>
            <a:xfrm>
              <a:off x="4032360" y="3535200"/>
              <a:ext cx="431640" cy="576360"/>
            </a:xfrm>
            <a:custGeom>
              <a:avLst/>
              <a:gdLst>
                <a:gd name="textAreaLeft" fmla="*/ 14040 w 431640"/>
                <a:gd name="textAreaRight" fmla="*/ 417600 w 431640"/>
                <a:gd name="textAreaTop" fmla="*/ 14040 h 576360"/>
                <a:gd name="textAreaBottom" fmla="*/ 562320 h 576360"/>
              </a:gdLst>
              <a:ahLst/>
              <a:rect l="textAreaLeft" t="textAreaTop" r="textAreaRight" b="textAreaBottom"/>
              <a:pathLst>
                <a:path w="21600" h="28836">
                  <a:moveTo>
                    <a:pt x="2435" y="0"/>
                  </a:moveTo>
                  <a:arcTo wR="2435" hR="2435" stAng="16200000" swAng="-5400000"/>
                  <a:lnTo>
                    <a:pt x="0" y="26401"/>
                  </a:lnTo>
                  <a:arcTo wR="2435" hR="2435" stAng="10800000" swAng="-5400000"/>
                  <a:lnTo>
                    <a:pt x="19165" y="28836"/>
                  </a:lnTo>
                  <a:arcTo wR="2435" hR="2435" stAng="5400000" swAng="-5400000"/>
                  <a:lnTo>
                    <a:pt x="21600" y="2435"/>
                  </a:lnTo>
                  <a:arcTo wR="2435" hR="2435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Group 34"/>
          <p:cNvGrpSpPr/>
          <p:nvPr/>
        </p:nvGrpSpPr>
        <p:grpSpPr>
          <a:xfrm>
            <a:off x="5437080" y="2779560"/>
            <a:ext cx="503280" cy="2521080"/>
            <a:chOff x="5437080" y="2779560"/>
            <a:chExt cx="503280" cy="2521080"/>
          </a:xfrm>
        </p:grpSpPr>
        <p:sp>
          <p:nvSpPr>
            <p:cNvPr id="219" name="AutoShape 35"/>
            <p:cNvSpPr/>
            <p:nvPr/>
          </p:nvSpPr>
          <p:spPr>
            <a:xfrm>
              <a:off x="5437080" y="2779560"/>
              <a:ext cx="503280" cy="2521080"/>
            </a:xfrm>
            <a:custGeom>
              <a:avLst/>
              <a:gdLst>
                <a:gd name="textAreaLeft" fmla="*/ 19080 w 503280"/>
                <a:gd name="textAreaRight" fmla="*/ 484200 w 503280"/>
                <a:gd name="textAreaTop" fmla="*/ 19080 h 2521080"/>
                <a:gd name="textAreaBottom" fmla="*/ 2502000 h 2521080"/>
              </a:gdLst>
              <a:ahLst/>
              <a:rect l="textAreaLeft" t="textAreaTop" r="textAreaRight" b="textAreaBottom"/>
              <a:pathLst>
                <a:path w="21600" h="108139">
                  <a:moveTo>
                    <a:pt x="2814" y="0"/>
                  </a:moveTo>
                  <a:arcTo wR="2814" hR="2814" stAng="16200000" swAng="-5400000"/>
                  <a:lnTo>
                    <a:pt x="0" y="105325"/>
                  </a:lnTo>
                  <a:arcTo wR="2814" hR="2814" stAng="10800000" swAng="-5400000"/>
                  <a:lnTo>
                    <a:pt x="18786" y="108139"/>
                  </a:lnTo>
                  <a:arcTo wR="2814" hR="2814" stAng="5400000" swAng="-5400000"/>
                  <a:lnTo>
                    <a:pt x="21600" y="2814"/>
                  </a:lnTo>
                  <a:arcTo wR="2814" hR="2814" stAng="0" swAng="-5400000"/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AutoShape 36"/>
            <p:cNvSpPr/>
            <p:nvPr/>
          </p:nvSpPr>
          <p:spPr>
            <a:xfrm>
              <a:off x="5473800" y="2816280"/>
              <a:ext cx="431640" cy="576360"/>
            </a:xfrm>
            <a:custGeom>
              <a:avLst/>
              <a:gdLst>
                <a:gd name="textAreaLeft" fmla="*/ 14040 w 431640"/>
                <a:gd name="textAreaRight" fmla="*/ 417600 w 431640"/>
                <a:gd name="textAreaTop" fmla="*/ 14040 h 576360"/>
                <a:gd name="textAreaBottom" fmla="*/ 562320 h 576360"/>
              </a:gdLst>
              <a:ahLst/>
              <a:rect l="textAreaLeft" t="textAreaTop" r="textAreaRight" b="textAreaBottom"/>
              <a:pathLst>
                <a:path w="21600" h="28836">
                  <a:moveTo>
                    <a:pt x="2435" y="0"/>
                  </a:moveTo>
                  <a:arcTo wR="2435" hR="2435" stAng="16200000" swAng="-5400000"/>
                  <a:lnTo>
                    <a:pt x="0" y="26401"/>
                  </a:lnTo>
                  <a:arcTo wR="2435" hR="2435" stAng="10800000" swAng="-5400000"/>
                  <a:lnTo>
                    <a:pt x="19165" y="28836"/>
                  </a:lnTo>
                  <a:arcTo wR="2435" hR="2435" stAng="5400000" swAng="-5400000"/>
                  <a:lnTo>
                    <a:pt x="21600" y="2435"/>
                  </a:lnTo>
                  <a:arcTo wR="2435" hR="2435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Group 37"/>
          <p:cNvGrpSpPr/>
          <p:nvPr/>
        </p:nvGrpSpPr>
        <p:grpSpPr>
          <a:xfrm>
            <a:off x="6156360" y="2419200"/>
            <a:ext cx="503280" cy="2881440"/>
            <a:chOff x="6156360" y="2419200"/>
            <a:chExt cx="503280" cy="2881440"/>
          </a:xfrm>
        </p:grpSpPr>
        <p:sp>
          <p:nvSpPr>
            <p:cNvPr id="222" name="AutoShape 38"/>
            <p:cNvSpPr/>
            <p:nvPr/>
          </p:nvSpPr>
          <p:spPr>
            <a:xfrm>
              <a:off x="6156360" y="2419200"/>
              <a:ext cx="503280" cy="2881440"/>
            </a:xfrm>
            <a:custGeom>
              <a:avLst/>
              <a:gdLst>
                <a:gd name="textAreaLeft" fmla="*/ 19080 w 503280"/>
                <a:gd name="textAreaRight" fmla="*/ 484200 w 503280"/>
                <a:gd name="textAreaTop" fmla="*/ 19080 h 2881440"/>
                <a:gd name="textAreaBottom" fmla="*/ 2862360 h 2881440"/>
              </a:gdLst>
              <a:ahLst/>
              <a:rect l="textAreaLeft" t="textAreaTop" r="textAreaRight" b="textAreaBottom"/>
              <a:pathLst>
                <a:path w="21600" h="123594">
                  <a:moveTo>
                    <a:pt x="2814" y="0"/>
                  </a:moveTo>
                  <a:arcTo wR="2814" hR="2814" stAng="16200000" swAng="-5400000"/>
                  <a:lnTo>
                    <a:pt x="0" y="120780"/>
                  </a:lnTo>
                  <a:arcTo wR="2814" hR="2814" stAng="10800000" swAng="-5400000"/>
                  <a:lnTo>
                    <a:pt x="18786" y="123594"/>
                  </a:lnTo>
                  <a:arcTo wR="2814" hR="2814" stAng="5400000" swAng="-5400000"/>
                  <a:lnTo>
                    <a:pt x="21600" y="2814"/>
                  </a:lnTo>
                  <a:arcTo wR="2814" hR="2814" stAng="0" swAng="-5400000"/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AutoShape 39"/>
            <p:cNvSpPr/>
            <p:nvPr/>
          </p:nvSpPr>
          <p:spPr>
            <a:xfrm>
              <a:off x="6192720" y="2455920"/>
              <a:ext cx="432000" cy="576360"/>
            </a:xfrm>
            <a:custGeom>
              <a:avLst/>
              <a:gdLst>
                <a:gd name="textAreaLeft" fmla="*/ 14040 w 432000"/>
                <a:gd name="textAreaRight" fmla="*/ 417960 w 432000"/>
                <a:gd name="textAreaTop" fmla="*/ 14040 h 576360"/>
                <a:gd name="textAreaBottom" fmla="*/ 562320 h 576360"/>
              </a:gdLst>
              <a:ahLst/>
              <a:rect l="textAreaLeft" t="textAreaTop" r="textAreaRight" b="textAreaBottom"/>
              <a:pathLst>
                <a:path w="21600" h="28812">
                  <a:moveTo>
                    <a:pt x="2435" y="0"/>
                  </a:moveTo>
                  <a:arcTo wR="2435" hR="2435" stAng="16200000" swAng="-5400000"/>
                  <a:lnTo>
                    <a:pt x="0" y="26377"/>
                  </a:lnTo>
                  <a:arcTo wR="2435" hR="2435" stAng="10800000" swAng="-5400000"/>
                  <a:lnTo>
                    <a:pt x="19165" y="28812"/>
                  </a:lnTo>
                  <a:arcTo wR="2435" hR="2435" stAng="5400000" swAng="-5400000"/>
                  <a:lnTo>
                    <a:pt x="21600" y="2435"/>
                  </a:lnTo>
                  <a:arcTo wR="2435" hR="2435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Group 40"/>
          <p:cNvGrpSpPr/>
          <p:nvPr/>
        </p:nvGrpSpPr>
        <p:grpSpPr>
          <a:xfrm>
            <a:off x="6877080" y="2060640"/>
            <a:ext cx="503280" cy="3240000"/>
            <a:chOff x="6877080" y="2060640"/>
            <a:chExt cx="503280" cy="3240000"/>
          </a:xfrm>
        </p:grpSpPr>
        <p:sp>
          <p:nvSpPr>
            <p:cNvPr id="225" name="AutoShape 41"/>
            <p:cNvSpPr/>
            <p:nvPr/>
          </p:nvSpPr>
          <p:spPr>
            <a:xfrm>
              <a:off x="6877080" y="2060640"/>
              <a:ext cx="503280" cy="3240000"/>
            </a:xfrm>
            <a:custGeom>
              <a:avLst/>
              <a:gdLst>
                <a:gd name="textAreaLeft" fmla="*/ 19080 w 503280"/>
                <a:gd name="textAreaRight" fmla="*/ 484200 w 503280"/>
                <a:gd name="textAreaTop" fmla="*/ 19080 h 3240000"/>
                <a:gd name="textAreaBottom" fmla="*/ 3220920 h 3240000"/>
              </a:gdLst>
              <a:ahLst/>
              <a:rect l="textAreaLeft" t="textAreaTop" r="textAreaRight" b="textAreaBottom"/>
              <a:pathLst>
                <a:path w="21600" h="138972">
                  <a:moveTo>
                    <a:pt x="2814" y="0"/>
                  </a:moveTo>
                  <a:arcTo wR="2814" hR="2814" stAng="16200000" swAng="-5400000"/>
                  <a:lnTo>
                    <a:pt x="0" y="136158"/>
                  </a:lnTo>
                  <a:arcTo wR="2814" hR="2814" stAng="10800000" swAng="-5400000"/>
                  <a:lnTo>
                    <a:pt x="18786" y="138972"/>
                  </a:lnTo>
                  <a:arcTo wR="2814" hR="2814" stAng="5400000" swAng="-5400000"/>
                  <a:lnTo>
                    <a:pt x="21600" y="2814"/>
                  </a:lnTo>
                  <a:arcTo wR="2814" hR="2814" stAng="0" swAng="-5400000"/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AutoShape 42"/>
            <p:cNvSpPr/>
            <p:nvPr/>
          </p:nvSpPr>
          <p:spPr>
            <a:xfrm>
              <a:off x="6913440" y="2095560"/>
              <a:ext cx="432000" cy="576360"/>
            </a:xfrm>
            <a:custGeom>
              <a:avLst/>
              <a:gdLst>
                <a:gd name="textAreaLeft" fmla="*/ 14040 w 432000"/>
                <a:gd name="textAreaRight" fmla="*/ 417960 w 432000"/>
                <a:gd name="textAreaTop" fmla="*/ 14040 h 576360"/>
                <a:gd name="textAreaBottom" fmla="*/ 562320 h 576360"/>
              </a:gdLst>
              <a:ahLst/>
              <a:rect l="textAreaLeft" t="textAreaTop" r="textAreaRight" b="textAreaBottom"/>
              <a:pathLst>
                <a:path w="21600" h="28812">
                  <a:moveTo>
                    <a:pt x="2435" y="0"/>
                  </a:moveTo>
                  <a:arcTo wR="2435" hR="2435" stAng="16200000" swAng="-5400000"/>
                  <a:lnTo>
                    <a:pt x="0" y="26377"/>
                  </a:lnTo>
                  <a:arcTo wR="2435" hR="2435" stAng="10800000" swAng="-5400000"/>
                  <a:lnTo>
                    <a:pt x="19165" y="28812"/>
                  </a:lnTo>
                  <a:arcTo wR="2435" hR="2435" stAng="5400000" swAng="-5400000"/>
                  <a:lnTo>
                    <a:pt x="21600" y="2435"/>
                  </a:lnTo>
                  <a:arcTo wR="2435" hR="2435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Group 43"/>
          <p:cNvGrpSpPr/>
          <p:nvPr/>
        </p:nvGrpSpPr>
        <p:grpSpPr>
          <a:xfrm>
            <a:off x="7596360" y="1700280"/>
            <a:ext cx="502920" cy="3600360"/>
            <a:chOff x="7596360" y="1700280"/>
            <a:chExt cx="502920" cy="3600360"/>
          </a:xfrm>
        </p:grpSpPr>
        <p:sp>
          <p:nvSpPr>
            <p:cNvPr id="228" name="AutoShape 44"/>
            <p:cNvSpPr/>
            <p:nvPr/>
          </p:nvSpPr>
          <p:spPr>
            <a:xfrm>
              <a:off x="7596360" y="1700280"/>
              <a:ext cx="502920" cy="3600360"/>
            </a:xfrm>
            <a:custGeom>
              <a:avLst/>
              <a:gdLst>
                <a:gd name="textAreaLeft" fmla="*/ 19080 w 502920"/>
                <a:gd name="textAreaRight" fmla="*/ 483840 w 502920"/>
                <a:gd name="textAreaTop" fmla="*/ 19080 h 3600360"/>
                <a:gd name="textAreaBottom" fmla="*/ 3581280 h 3600360"/>
              </a:gdLst>
              <a:ahLst/>
              <a:rect l="textAreaLeft" t="textAreaTop" r="textAreaRight" b="textAreaBottom"/>
              <a:pathLst>
                <a:path w="21600" h="154537">
                  <a:moveTo>
                    <a:pt x="2814" y="0"/>
                  </a:moveTo>
                  <a:arcTo wR="2814" hR="2814" stAng="16200000" swAng="-5400000"/>
                  <a:lnTo>
                    <a:pt x="0" y="151723"/>
                  </a:lnTo>
                  <a:arcTo wR="2814" hR="2814" stAng="10800000" swAng="-5400000"/>
                  <a:lnTo>
                    <a:pt x="18786" y="154537"/>
                  </a:lnTo>
                  <a:arcTo wR="2814" hR="2814" stAng="5400000" swAng="-5400000"/>
                  <a:lnTo>
                    <a:pt x="21600" y="2814"/>
                  </a:lnTo>
                  <a:arcTo wR="2814" hR="2814" stAng="0" swAng="-5400000"/>
                  <a:close/>
                </a:path>
              </a:pathLst>
            </a:custGeom>
            <a:gradFill rotWithShape="0">
              <a:gsLst>
                <a:gs pos="0">
                  <a:srgbClr val="ff9021"/>
                </a:gs>
                <a:gs pos="100000">
                  <a:srgbClr val="963d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AutoShape 45"/>
            <p:cNvSpPr/>
            <p:nvPr/>
          </p:nvSpPr>
          <p:spPr>
            <a:xfrm>
              <a:off x="7632720" y="1735200"/>
              <a:ext cx="431640" cy="576360"/>
            </a:xfrm>
            <a:custGeom>
              <a:avLst/>
              <a:gdLst>
                <a:gd name="textAreaLeft" fmla="*/ 14040 w 431640"/>
                <a:gd name="textAreaRight" fmla="*/ 417600 w 431640"/>
                <a:gd name="textAreaTop" fmla="*/ 14040 h 576360"/>
                <a:gd name="textAreaBottom" fmla="*/ 562320 h 576360"/>
              </a:gdLst>
              <a:ahLst/>
              <a:rect l="textAreaLeft" t="textAreaTop" r="textAreaRight" b="textAreaBottom"/>
              <a:pathLst>
                <a:path w="21600" h="28836">
                  <a:moveTo>
                    <a:pt x="2435" y="0"/>
                  </a:moveTo>
                  <a:arcTo wR="2435" hR="2435" stAng="16200000" swAng="-5400000"/>
                  <a:lnTo>
                    <a:pt x="0" y="26401"/>
                  </a:lnTo>
                  <a:arcTo wR="2435" hR="2435" stAng="10800000" swAng="-5400000"/>
                  <a:lnTo>
                    <a:pt x="19165" y="28836"/>
                  </a:lnTo>
                  <a:arcTo wR="2435" hR="2435" stAng="5400000" swAng="-5400000"/>
                  <a:lnTo>
                    <a:pt x="21600" y="2435"/>
                  </a:lnTo>
                  <a:arcTo wR="2435" hR="2435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46"/>
            <p:cNvSpPr/>
            <p:nvPr/>
          </p:nvSpPr>
          <p:spPr>
            <a:xfrm>
              <a:off x="7637400" y="1989000"/>
              <a:ext cx="401760" cy="324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单击此处添加文字</a:t>
              </a: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内容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Freeform 47"/>
          <p:cNvSpPr/>
          <p:nvPr/>
        </p:nvSpPr>
        <p:spPr>
          <a:xfrm>
            <a:off x="1728720" y="1482840"/>
            <a:ext cx="6769080" cy="3817800"/>
          </a:xfrm>
          <a:custGeom>
            <a:avLst/>
            <a:gdLst>
              <a:gd name="textAreaLeft" fmla="*/ 0 w 6769080"/>
              <a:gd name="textAreaRight" fmla="*/ 6769440 w 6769080"/>
              <a:gd name="textAreaTop" fmla="*/ 0 h 3817800"/>
              <a:gd name="textAreaBottom" fmla="*/ 3818160 h 3817800"/>
            </a:gdLst>
            <a:ahLst/>
            <a:rect l="textAreaLeft" t="textAreaTop" r="textAreaRight" b="textAreaBottom"/>
            <a:pathLst>
              <a:path w="3016" h="2767">
                <a:moveTo>
                  <a:pt x="0" y="0"/>
                </a:moveTo>
                <a:lnTo>
                  <a:pt x="0" y="2767"/>
                </a:lnTo>
                <a:lnTo>
                  <a:pt x="3016" y="2767"/>
                </a:lnTo>
              </a:path>
            </a:pathLst>
          </a:custGeom>
          <a:noFill/>
          <a:ln w="255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8"/>
          <p:cNvSpPr/>
          <p:nvPr/>
        </p:nvSpPr>
        <p:spPr>
          <a:xfrm>
            <a:off x="866160" y="167328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49"/>
          <p:cNvSpPr/>
          <p:nvPr/>
        </p:nvSpPr>
        <p:spPr>
          <a:xfrm>
            <a:off x="866160" y="49863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50"/>
          <p:cNvSpPr/>
          <p:nvPr/>
        </p:nvSpPr>
        <p:spPr>
          <a:xfrm>
            <a:off x="866160" y="461808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1"/>
          <p:cNvSpPr/>
          <p:nvPr/>
        </p:nvSpPr>
        <p:spPr>
          <a:xfrm>
            <a:off x="866160" y="42498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2"/>
          <p:cNvSpPr/>
          <p:nvPr/>
        </p:nvSpPr>
        <p:spPr>
          <a:xfrm>
            <a:off x="866160" y="38815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3"/>
          <p:cNvSpPr/>
          <p:nvPr/>
        </p:nvSpPr>
        <p:spPr>
          <a:xfrm>
            <a:off x="866160" y="351324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54"/>
          <p:cNvSpPr/>
          <p:nvPr/>
        </p:nvSpPr>
        <p:spPr>
          <a:xfrm>
            <a:off x="866160" y="31449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55"/>
          <p:cNvSpPr/>
          <p:nvPr/>
        </p:nvSpPr>
        <p:spPr>
          <a:xfrm>
            <a:off x="866160" y="277668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6"/>
          <p:cNvSpPr/>
          <p:nvPr/>
        </p:nvSpPr>
        <p:spPr>
          <a:xfrm>
            <a:off x="866160" y="24084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57"/>
          <p:cNvSpPr/>
          <p:nvPr/>
        </p:nvSpPr>
        <p:spPr>
          <a:xfrm>
            <a:off x="866160" y="20397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Group 58"/>
          <p:cNvGrpSpPr/>
          <p:nvPr/>
        </p:nvGrpSpPr>
        <p:grpSpPr>
          <a:xfrm>
            <a:off x="4716360" y="3139920"/>
            <a:ext cx="503280" cy="2160720"/>
            <a:chOff x="4716360" y="3139920"/>
            <a:chExt cx="503280" cy="2160720"/>
          </a:xfrm>
        </p:grpSpPr>
        <p:sp>
          <p:nvSpPr>
            <p:cNvPr id="243" name="AutoShape 59"/>
            <p:cNvSpPr/>
            <p:nvPr/>
          </p:nvSpPr>
          <p:spPr>
            <a:xfrm>
              <a:off x="4716360" y="3139920"/>
              <a:ext cx="503280" cy="2160720"/>
            </a:xfrm>
            <a:custGeom>
              <a:avLst/>
              <a:gdLst>
                <a:gd name="textAreaLeft" fmla="*/ 19080 w 503280"/>
                <a:gd name="textAreaRight" fmla="*/ 484200 w 503280"/>
                <a:gd name="textAreaTop" fmla="*/ 19080 h 2160720"/>
                <a:gd name="textAreaBottom" fmla="*/ 2141640 h 2160720"/>
              </a:gdLst>
              <a:ahLst/>
              <a:rect l="textAreaLeft" t="textAreaTop" r="textAreaRight" b="textAreaBottom"/>
              <a:pathLst>
                <a:path w="21600" h="92684">
                  <a:moveTo>
                    <a:pt x="2814" y="0"/>
                  </a:moveTo>
                  <a:arcTo wR="2814" hR="2814" stAng="16200000" swAng="-5400000"/>
                  <a:lnTo>
                    <a:pt x="0" y="89870"/>
                  </a:lnTo>
                  <a:arcTo wR="2814" hR="2814" stAng="10800000" swAng="-5400000"/>
                  <a:lnTo>
                    <a:pt x="18786" y="92684"/>
                  </a:lnTo>
                  <a:arcTo wR="2814" hR="2814" stAng="5400000" swAng="-5400000"/>
                  <a:lnTo>
                    <a:pt x="21600" y="2814"/>
                  </a:lnTo>
                  <a:arcTo wR="2814" hR="2814" stAng="0" swAng="-5400000"/>
                  <a:close/>
                </a:path>
              </a:pathLst>
            </a:custGeom>
            <a:solidFill>
              <a:srgbClr val="ff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AutoShape 60"/>
            <p:cNvSpPr/>
            <p:nvPr/>
          </p:nvSpPr>
          <p:spPr>
            <a:xfrm>
              <a:off x="4753080" y="3176640"/>
              <a:ext cx="431640" cy="576360"/>
            </a:xfrm>
            <a:custGeom>
              <a:avLst/>
              <a:gdLst>
                <a:gd name="textAreaLeft" fmla="*/ 14040 w 431640"/>
                <a:gd name="textAreaRight" fmla="*/ 417600 w 431640"/>
                <a:gd name="textAreaTop" fmla="*/ 14040 h 576360"/>
                <a:gd name="textAreaBottom" fmla="*/ 562320 h 576360"/>
              </a:gdLst>
              <a:ahLst/>
              <a:rect l="textAreaLeft" t="textAreaTop" r="textAreaRight" b="textAreaBottom"/>
              <a:pathLst>
                <a:path w="21600" h="28836">
                  <a:moveTo>
                    <a:pt x="2435" y="0"/>
                  </a:moveTo>
                  <a:arcTo wR="2435" hR="2435" stAng="16200000" swAng="-5400000"/>
                  <a:lnTo>
                    <a:pt x="0" y="26401"/>
                  </a:lnTo>
                  <a:arcTo wR="2435" hR="2435" stAng="10800000" swAng="-5400000"/>
                  <a:lnTo>
                    <a:pt x="19165" y="28836"/>
                  </a:lnTo>
                  <a:arcTo wR="2435" hR="2435" stAng="5400000" swAng="-5400000"/>
                  <a:lnTo>
                    <a:pt x="21600" y="2435"/>
                  </a:lnTo>
                  <a:arcTo wR="2435" hR="2435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61"/>
            <p:cNvSpPr/>
            <p:nvPr/>
          </p:nvSpPr>
          <p:spPr>
            <a:xfrm>
              <a:off x="4756320" y="3357720"/>
              <a:ext cx="392040" cy="180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63d00"/>
                  </a:solidFill>
                  <a:latin typeface="Arial"/>
                </a:rPr>
                <a:t>单击添加文字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图示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_05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rc 3"/>
          <p:cNvSpPr/>
          <p:nvPr/>
        </p:nvSpPr>
        <p:spPr>
          <a:xfrm rot="7873200">
            <a:off x="2123640" y="3860640"/>
            <a:ext cx="1211400" cy="1207800"/>
          </a:xfrm>
          <a:custGeom>
            <a:avLst/>
            <a:gdLst>
              <a:gd name="textAreaLeft" fmla="*/ 0 w 1211400"/>
              <a:gd name="textAreaRight" fmla="*/ 1211760 w 1211400"/>
              <a:gd name="textAreaTop" fmla="*/ 0 h 1207800"/>
              <a:gd name="textAreaBottom" fmla="*/ 1208160 h 1207800"/>
            </a:gdLst>
            <a:ahLst/>
            <a:rect l="textAreaLeft" t="textAreaTop" r="textAreaRight" b="textAreaBottom"/>
            <a:pathLst>
              <a:path fill="none" w="19905" h="19873">
                <a:moveTo>
                  <a:pt x="8462" y="-1"/>
                </a:moveTo>
                <a:cubicBezTo>
                  <a:pt x="13623" y="2197"/>
                  <a:pt x="17727" y="6316"/>
                  <a:pt x="19905" y="11485"/>
                </a:cubicBezTo>
              </a:path>
              <a:path stroke="0" w="19905" h="19873">
                <a:moveTo>
                  <a:pt x="8462" y="-1"/>
                </a:moveTo>
                <a:cubicBezTo>
                  <a:pt x="13623" y="2197"/>
                  <a:pt x="17727" y="6316"/>
                  <a:pt x="19905" y="11485"/>
                </a:cubicBezTo>
                <a:lnTo>
                  <a:pt x="0" y="19873"/>
                </a:lnTo>
                <a:lnTo>
                  <a:pt x="8462" y="-1"/>
                </a:lnTo>
                <a:close/>
              </a:path>
            </a:pathLst>
          </a:custGeom>
          <a:noFill/>
          <a:ln cap="rnd" w="38160">
            <a:solidFill>
              <a:srgbClr val="963d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rc 4"/>
          <p:cNvSpPr/>
          <p:nvPr/>
        </p:nvSpPr>
        <p:spPr>
          <a:xfrm rot="3306600">
            <a:off x="3201840" y="2939760"/>
            <a:ext cx="1211400" cy="1208160"/>
          </a:xfrm>
          <a:custGeom>
            <a:avLst/>
            <a:gdLst>
              <a:gd name="textAreaLeft" fmla="*/ 0 w 1211400"/>
              <a:gd name="textAreaRight" fmla="*/ 1211760 w 1211400"/>
              <a:gd name="textAreaTop" fmla="*/ 0 h 1208160"/>
              <a:gd name="textAreaBottom" fmla="*/ 1208160 h 1208160"/>
            </a:gdLst>
            <a:ahLst/>
            <a:rect l="textAreaLeft" t="textAreaTop" r="textAreaRight" b="textAreaBottom"/>
            <a:pathLst>
              <a:path fill="none" w="19905" h="19873">
                <a:moveTo>
                  <a:pt x="8462" y="-1"/>
                </a:moveTo>
                <a:cubicBezTo>
                  <a:pt x="13623" y="2197"/>
                  <a:pt x="17727" y="6316"/>
                  <a:pt x="19905" y="11485"/>
                </a:cubicBezTo>
              </a:path>
              <a:path stroke="0" w="19905" h="19873">
                <a:moveTo>
                  <a:pt x="8462" y="-1"/>
                </a:moveTo>
                <a:cubicBezTo>
                  <a:pt x="13623" y="2197"/>
                  <a:pt x="17727" y="6316"/>
                  <a:pt x="19905" y="11485"/>
                </a:cubicBezTo>
                <a:lnTo>
                  <a:pt x="0" y="19873"/>
                </a:lnTo>
                <a:lnTo>
                  <a:pt x="8462" y="-1"/>
                </a:lnTo>
                <a:close/>
              </a:path>
            </a:pathLst>
          </a:custGeom>
          <a:noFill/>
          <a:ln cap="rnd" w="38160">
            <a:solidFill>
              <a:srgbClr val="963d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rc 5"/>
          <p:cNvSpPr/>
          <p:nvPr/>
        </p:nvSpPr>
        <p:spPr>
          <a:xfrm rot="11977800">
            <a:off x="1115640" y="3213000"/>
            <a:ext cx="1211400" cy="1208160"/>
          </a:xfrm>
          <a:custGeom>
            <a:avLst/>
            <a:gdLst>
              <a:gd name="textAreaLeft" fmla="*/ 0 w 1211400"/>
              <a:gd name="textAreaRight" fmla="*/ 1211760 w 1211400"/>
              <a:gd name="textAreaTop" fmla="*/ 0 h 1208160"/>
              <a:gd name="textAreaBottom" fmla="*/ 1208160 h 1208160"/>
            </a:gdLst>
            <a:ahLst/>
            <a:rect l="textAreaLeft" t="textAreaTop" r="textAreaRight" b="textAreaBottom"/>
            <a:pathLst>
              <a:path fill="none" w="19905" h="19873">
                <a:moveTo>
                  <a:pt x="8462" y="-1"/>
                </a:moveTo>
                <a:cubicBezTo>
                  <a:pt x="13623" y="2197"/>
                  <a:pt x="17727" y="6316"/>
                  <a:pt x="19905" y="11485"/>
                </a:cubicBezTo>
              </a:path>
              <a:path stroke="0" w="19905" h="19873">
                <a:moveTo>
                  <a:pt x="8462" y="-1"/>
                </a:moveTo>
                <a:cubicBezTo>
                  <a:pt x="13623" y="2197"/>
                  <a:pt x="17727" y="6316"/>
                  <a:pt x="19905" y="11485"/>
                </a:cubicBezTo>
                <a:lnTo>
                  <a:pt x="0" y="19873"/>
                </a:lnTo>
                <a:lnTo>
                  <a:pt x="8462" y="-1"/>
                </a:lnTo>
                <a:close/>
              </a:path>
            </a:pathLst>
          </a:custGeom>
          <a:noFill/>
          <a:ln cap="rnd" w="38160">
            <a:solidFill>
              <a:srgbClr val="9e9e9e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Group 6"/>
          <p:cNvGrpSpPr/>
          <p:nvPr/>
        </p:nvGrpSpPr>
        <p:grpSpPr>
          <a:xfrm>
            <a:off x="1189080" y="1773360"/>
            <a:ext cx="3022200" cy="3022200"/>
            <a:chOff x="1189080" y="1773360"/>
            <a:chExt cx="3022200" cy="3022200"/>
          </a:xfrm>
        </p:grpSpPr>
        <p:sp>
          <p:nvSpPr>
            <p:cNvPr id="251" name="Line 7"/>
            <p:cNvSpPr/>
            <p:nvPr/>
          </p:nvSpPr>
          <p:spPr>
            <a:xfrm flipH="1">
              <a:off x="1676880" y="1773360"/>
              <a:ext cx="1072800" cy="3022200"/>
            </a:xfrm>
            <a:prstGeom prst="line">
              <a:avLst/>
            </a:prstGeom>
            <a:ln w="38160">
              <a:solidFill>
                <a:srgbClr val="9e9e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8"/>
            <p:cNvSpPr/>
            <p:nvPr/>
          </p:nvSpPr>
          <p:spPr>
            <a:xfrm>
              <a:off x="2749680" y="1773360"/>
              <a:ext cx="975600" cy="3022200"/>
            </a:xfrm>
            <a:prstGeom prst="line">
              <a:avLst/>
            </a:prstGeom>
            <a:ln w="38160">
              <a:solidFill>
                <a:srgbClr val="963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9"/>
            <p:cNvSpPr/>
            <p:nvPr/>
          </p:nvSpPr>
          <p:spPr>
            <a:xfrm flipH="1">
              <a:off x="1676880" y="2942280"/>
              <a:ext cx="2534400" cy="1853280"/>
            </a:xfrm>
            <a:prstGeom prst="line">
              <a:avLst/>
            </a:prstGeom>
            <a:ln w="38160">
              <a:solidFill>
                <a:srgbClr val="9e9e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10"/>
            <p:cNvSpPr/>
            <p:nvPr/>
          </p:nvSpPr>
          <p:spPr>
            <a:xfrm>
              <a:off x="1189080" y="2942280"/>
              <a:ext cx="2536560" cy="1853280"/>
            </a:xfrm>
            <a:prstGeom prst="line">
              <a:avLst/>
            </a:prstGeom>
            <a:ln w="38160">
              <a:solidFill>
                <a:srgbClr val="963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11"/>
            <p:cNvSpPr/>
            <p:nvPr/>
          </p:nvSpPr>
          <p:spPr>
            <a:xfrm>
              <a:off x="1189080" y="2942280"/>
              <a:ext cx="2990160" cy="0"/>
            </a:xfrm>
            <a:prstGeom prst="line">
              <a:avLst/>
            </a:prstGeom>
            <a:ln w="38160">
              <a:solidFill>
                <a:srgbClr val="9e9e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Arc 12"/>
          <p:cNvSpPr/>
          <p:nvPr/>
        </p:nvSpPr>
        <p:spPr>
          <a:xfrm rot="16542000">
            <a:off x="1330200" y="1726560"/>
            <a:ext cx="1211400" cy="1208160"/>
          </a:xfrm>
          <a:custGeom>
            <a:avLst/>
            <a:gdLst>
              <a:gd name="textAreaLeft" fmla="*/ 0 w 1211400"/>
              <a:gd name="textAreaRight" fmla="*/ 1211760 w 1211400"/>
              <a:gd name="textAreaTop" fmla="*/ 0 h 1208160"/>
              <a:gd name="textAreaBottom" fmla="*/ 1208160 h 1208160"/>
            </a:gdLst>
            <a:ahLst/>
            <a:rect l="textAreaLeft" t="textAreaTop" r="textAreaRight" b="textAreaBottom"/>
            <a:pathLst>
              <a:path fill="none" w="19905" h="19873">
                <a:moveTo>
                  <a:pt x="8462" y="-1"/>
                </a:moveTo>
                <a:cubicBezTo>
                  <a:pt x="13623" y="2197"/>
                  <a:pt x="17727" y="6316"/>
                  <a:pt x="19905" y="11485"/>
                </a:cubicBezTo>
              </a:path>
              <a:path stroke="0" w="19905" h="19873">
                <a:moveTo>
                  <a:pt x="8462" y="-1"/>
                </a:moveTo>
                <a:cubicBezTo>
                  <a:pt x="13623" y="2197"/>
                  <a:pt x="17727" y="6316"/>
                  <a:pt x="19905" y="11485"/>
                </a:cubicBezTo>
                <a:lnTo>
                  <a:pt x="0" y="19873"/>
                </a:lnTo>
                <a:lnTo>
                  <a:pt x="8462" y="-1"/>
                </a:lnTo>
                <a:close/>
              </a:path>
            </a:pathLst>
          </a:custGeom>
          <a:noFill/>
          <a:ln cap="rnd" w="38160">
            <a:solidFill>
              <a:srgbClr val="9e9e9e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13"/>
          <p:cNvSpPr/>
          <p:nvPr/>
        </p:nvSpPr>
        <p:spPr>
          <a:xfrm>
            <a:off x="3132000" y="5138640"/>
            <a:ext cx="1152720" cy="4510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445e7a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Group 14"/>
          <p:cNvGrpSpPr/>
          <p:nvPr/>
        </p:nvGrpSpPr>
        <p:grpSpPr>
          <a:xfrm>
            <a:off x="3073680" y="4106880"/>
            <a:ext cx="1282320" cy="1326600"/>
            <a:chOff x="3073680" y="4106880"/>
            <a:chExt cx="1282320" cy="1326600"/>
          </a:xfrm>
        </p:grpSpPr>
        <p:grpSp>
          <p:nvGrpSpPr>
            <p:cNvPr id="259" name="Group 15"/>
            <p:cNvGrpSpPr/>
            <p:nvPr/>
          </p:nvGrpSpPr>
          <p:grpSpPr>
            <a:xfrm>
              <a:off x="3089160" y="4106880"/>
              <a:ext cx="1266840" cy="1247760"/>
              <a:chOff x="3089160" y="4106880"/>
              <a:chExt cx="1266840" cy="1247760"/>
            </a:xfrm>
          </p:grpSpPr>
          <p:pic>
            <p:nvPicPr>
              <p:cNvPr id="260" name="Picture 16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3089160" y="4106880"/>
                <a:ext cx="1266840" cy="124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1" name="Oval 17"/>
              <p:cNvSpPr/>
              <p:nvPr/>
            </p:nvSpPr>
            <p:spPr>
              <a:xfrm>
                <a:off x="3089160" y="4106880"/>
                <a:ext cx="1258200" cy="1247760"/>
              </a:xfrm>
              <a:prstGeom prst="ellipse">
                <a:avLst/>
              </a:prstGeom>
              <a:gradFill rotWithShape="0">
                <a:gsLst>
                  <a:gs pos="0">
                    <a:srgbClr val="1967b1"/>
                  </a:gs>
                  <a:gs pos="100000">
                    <a:srgbClr val="153b8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Arial"/>
                  </a:rPr>
                  <a:t>单击此处</a:t>
                </a: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Arial"/>
                  </a:rPr>
                  <a:t>添加文字</a:t>
                </a: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62" name="Picture 18" descr="Picture2"/>
            <p:cNvPicPr/>
            <p:nvPr/>
          </p:nvPicPr>
          <p:blipFill>
            <a:blip r:embed="rId2"/>
            <a:stretch/>
          </p:blipFill>
          <p:spPr>
            <a:xfrm>
              <a:off x="3216240" y="4119480"/>
              <a:ext cx="1000080" cy="439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63" name="Group 19"/>
            <p:cNvGrpSpPr/>
            <p:nvPr/>
          </p:nvGrpSpPr>
          <p:grpSpPr>
            <a:xfrm>
              <a:off x="3073680" y="4921920"/>
              <a:ext cx="1281240" cy="511560"/>
              <a:chOff x="3073680" y="4921920"/>
              <a:chExt cx="1281240" cy="511560"/>
            </a:xfrm>
          </p:grpSpPr>
          <p:grpSp>
            <p:nvGrpSpPr>
              <p:cNvPr id="264" name="Group 20"/>
              <p:cNvGrpSpPr/>
              <p:nvPr/>
            </p:nvGrpSpPr>
            <p:grpSpPr>
              <a:xfrm>
                <a:off x="3297600" y="4921920"/>
                <a:ext cx="1057320" cy="481320"/>
                <a:chOff x="3297600" y="4921920"/>
                <a:chExt cx="1057320" cy="481320"/>
              </a:xfrm>
            </p:grpSpPr>
            <p:sp>
              <p:nvSpPr>
                <p:cNvPr id="265" name="AutoShape 21"/>
                <p:cNvSpPr/>
                <p:nvPr/>
              </p:nvSpPr>
              <p:spPr>
                <a:xfrm flipH="1" flipV="1" rot="3964800">
                  <a:off x="3873240" y="4777560"/>
                  <a:ext cx="185400" cy="768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AutoShape 22"/>
                <p:cNvSpPr/>
                <p:nvPr/>
              </p:nvSpPr>
              <p:spPr>
                <a:xfrm flipH="1" flipV="1" rot="4780200">
                  <a:off x="3754440" y="4826160"/>
                  <a:ext cx="185400" cy="768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AutoShape 23"/>
                <p:cNvSpPr/>
                <p:nvPr/>
              </p:nvSpPr>
              <p:spPr>
                <a:xfrm flipH="1" flipV="1" rot="5076000">
                  <a:off x="3681720" y="4835880"/>
                  <a:ext cx="185400" cy="768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AutoShape 24"/>
                <p:cNvSpPr/>
                <p:nvPr/>
              </p:nvSpPr>
              <p:spPr>
                <a:xfrm flipH="1" flipV="1" rot="5608200">
                  <a:off x="3593880" y="4843800"/>
                  <a:ext cx="185400" cy="768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9" name="Group 25"/>
              <p:cNvGrpSpPr/>
              <p:nvPr/>
            </p:nvGrpSpPr>
            <p:grpSpPr>
              <a:xfrm>
                <a:off x="3073680" y="4929120"/>
                <a:ext cx="1055520" cy="504360"/>
                <a:chOff x="3073680" y="4929120"/>
                <a:chExt cx="1055520" cy="504360"/>
              </a:xfrm>
            </p:grpSpPr>
            <p:sp>
              <p:nvSpPr>
                <p:cNvPr id="270" name="AutoShape 26"/>
                <p:cNvSpPr/>
                <p:nvPr/>
              </p:nvSpPr>
              <p:spPr>
                <a:xfrm flipH="1" flipV="1" rot="5317800">
                  <a:off x="3649320" y="4843800"/>
                  <a:ext cx="186480" cy="768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AutoShape 27"/>
                <p:cNvSpPr/>
                <p:nvPr/>
              </p:nvSpPr>
              <p:spPr>
                <a:xfrm flipH="1" flipV="1" rot="6133800">
                  <a:off x="3521880" y="4842360"/>
                  <a:ext cx="186480" cy="767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AutoShape 28"/>
                <p:cNvSpPr/>
                <p:nvPr/>
              </p:nvSpPr>
              <p:spPr>
                <a:xfrm flipH="1" flipV="1" rot="6429000">
                  <a:off x="3450960" y="4822200"/>
                  <a:ext cx="186480" cy="768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AutoShape 29"/>
                <p:cNvSpPr/>
                <p:nvPr/>
              </p:nvSpPr>
              <p:spPr>
                <a:xfrm flipH="1" flipV="1" rot="6961200">
                  <a:off x="3366360" y="4797360"/>
                  <a:ext cx="186120" cy="768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30"/>
          <p:cNvGrpSpPr/>
          <p:nvPr/>
        </p:nvGrpSpPr>
        <p:grpSpPr>
          <a:xfrm>
            <a:off x="1189080" y="4240080"/>
            <a:ext cx="1008000" cy="1016640"/>
            <a:chOff x="1189080" y="4240080"/>
            <a:chExt cx="1008000" cy="1016640"/>
          </a:xfrm>
        </p:grpSpPr>
        <p:grpSp>
          <p:nvGrpSpPr>
            <p:cNvPr id="275" name="Group 31"/>
            <p:cNvGrpSpPr/>
            <p:nvPr/>
          </p:nvGrpSpPr>
          <p:grpSpPr>
            <a:xfrm>
              <a:off x="1189080" y="4240080"/>
              <a:ext cx="1008000" cy="989280"/>
              <a:chOff x="1189080" y="4240080"/>
              <a:chExt cx="1008000" cy="989280"/>
            </a:xfrm>
          </p:grpSpPr>
          <p:grpSp>
            <p:nvGrpSpPr>
              <p:cNvPr id="276" name="Group 32"/>
              <p:cNvGrpSpPr/>
              <p:nvPr/>
            </p:nvGrpSpPr>
            <p:grpSpPr>
              <a:xfrm>
                <a:off x="1189080" y="4240080"/>
                <a:ext cx="1008000" cy="989280"/>
                <a:chOff x="1189080" y="4240080"/>
                <a:chExt cx="1008000" cy="989280"/>
              </a:xfrm>
            </p:grpSpPr>
            <p:pic>
              <p:nvPicPr>
                <p:cNvPr id="277" name="Picture 33" descr="circuler_1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89080" y="4240080"/>
                  <a:ext cx="1008000" cy="98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78" name="Oval 34"/>
                <p:cNvSpPr/>
                <p:nvPr/>
              </p:nvSpPr>
              <p:spPr>
                <a:xfrm>
                  <a:off x="1189080" y="4240080"/>
                  <a:ext cx="1001160" cy="989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808080"/>
                    </a:gs>
                  </a:gsLst>
                  <a:lin ang="2700000"/>
                </a:gra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Arial"/>
                    </a:rPr>
                    <a:t>单击此处</a:t>
                  </a:r>
                  <a:endParaRPr b="1" i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Arial"/>
                    </a:rPr>
                    <a:t>添加文字</a:t>
                  </a:r>
                  <a:endParaRPr b="1" i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79" name="Picture 35" descr="Picture2"/>
              <p:cNvPicPr/>
              <p:nvPr/>
            </p:nvPicPr>
            <p:blipFill>
              <a:blip r:embed="rId4"/>
              <a:stretch/>
            </p:blipFill>
            <p:spPr>
              <a:xfrm>
                <a:off x="1289520" y="4249440"/>
                <a:ext cx="795960" cy="349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80" name="Group 36"/>
            <p:cNvGrpSpPr/>
            <p:nvPr/>
          </p:nvGrpSpPr>
          <p:grpSpPr>
            <a:xfrm>
              <a:off x="1249920" y="4907880"/>
              <a:ext cx="874080" cy="348840"/>
              <a:chOff x="1249920" y="4907880"/>
              <a:chExt cx="874080" cy="348840"/>
            </a:xfrm>
          </p:grpSpPr>
          <p:grpSp>
            <p:nvGrpSpPr>
              <p:cNvPr id="281" name="Group 37"/>
              <p:cNvGrpSpPr/>
              <p:nvPr/>
            </p:nvGrpSpPr>
            <p:grpSpPr>
              <a:xfrm>
                <a:off x="1402560" y="4907880"/>
                <a:ext cx="721440" cy="327600"/>
                <a:chOff x="1402560" y="4907880"/>
                <a:chExt cx="721440" cy="327600"/>
              </a:xfrm>
            </p:grpSpPr>
            <p:sp>
              <p:nvSpPr>
                <p:cNvPr id="282" name="AutoShape 38"/>
                <p:cNvSpPr/>
                <p:nvPr/>
              </p:nvSpPr>
              <p:spPr>
                <a:xfrm flipH="1" flipV="1" rot="3964800">
                  <a:off x="1795320" y="4809240"/>
                  <a:ext cx="126360" cy="52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AutoShape 39"/>
                <p:cNvSpPr/>
                <p:nvPr/>
              </p:nvSpPr>
              <p:spPr>
                <a:xfrm flipH="1" flipV="1" rot="4780200">
                  <a:off x="1714320" y="4840560"/>
                  <a:ext cx="12636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AutoShape 40"/>
                <p:cNvSpPr/>
                <p:nvPr/>
              </p:nvSpPr>
              <p:spPr>
                <a:xfrm flipH="1" flipV="1" rot="5076000">
                  <a:off x="1665000" y="4847040"/>
                  <a:ext cx="12636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AutoShape 41"/>
                <p:cNvSpPr/>
                <p:nvPr/>
              </p:nvSpPr>
              <p:spPr>
                <a:xfrm flipH="1" flipV="1" rot="5608200">
                  <a:off x="1604880" y="4853520"/>
                  <a:ext cx="12636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6" name="Group 42"/>
              <p:cNvGrpSpPr/>
              <p:nvPr/>
            </p:nvGrpSpPr>
            <p:grpSpPr>
              <a:xfrm>
                <a:off x="1249920" y="4912920"/>
                <a:ext cx="720720" cy="343800"/>
                <a:chOff x="1249920" y="4912920"/>
                <a:chExt cx="720720" cy="343800"/>
              </a:xfrm>
            </p:grpSpPr>
            <p:sp>
              <p:nvSpPr>
                <p:cNvPr id="287" name="AutoShape 43"/>
                <p:cNvSpPr/>
                <p:nvPr/>
              </p:nvSpPr>
              <p:spPr>
                <a:xfrm flipH="1" flipV="1" rot="5317800">
                  <a:off x="1643760" y="4854240"/>
                  <a:ext cx="126720" cy="52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AutoShape 44"/>
                <p:cNvSpPr/>
                <p:nvPr/>
              </p:nvSpPr>
              <p:spPr>
                <a:xfrm flipH="1" flipV="1" rot="6133800">
                  <a:off x="1556280" y="4853160"/>
                  <a:ext cx="12672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AutoShape 45"/>
                <p:cNvSpPr/>
                <p:nvPr/>
              </p:nvSpPr>
              <p:spPr>
                <a:xfrm flipH="1" flipV="1" rot="6429000">
                  <a:off x="1507680" y="4839840"/>
                  <a:ext cx="12672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AutoShape 46"/>
                <p:cNvSpPr/>
                <p:nvPr/>
              </p:nvSpPr>
              <p:spPr>
                <a:xfrm flipH="1" flipV="1" rot="6961200">
                  <a:off x="1449720" y="4821840"/>
                  <a:ext cx="12672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1" name="Group 47"/>
          <p:cNvGrpSpPr/>
          <p:nvPr/>
        </p:nvGrpSpPr>
        <p:grpSpPr>
          <a:xfrm>
            <a:off x="684360" y="2440080"/>
            <a:ext cx="1008000" cy="1016640"/>
            <a:chOff x="684360" y="2440080"/>
            <a:chExt cx="1008000" cy="1016640"/>
          </a:xfrm>
        </p:grpSpPr>
        <p:grpSp>
          <p:nvGrpSpPr>
            <p:cNvPr id="292" name="Group 48"/>
            <p:cNvGrpSpPr/>
            <p:nvPr/>
          </p:nvGrpSpPr>
          <p:grpSpPr>
            <a:xfrm>
              <a:off x="684360" y="2440080"/>
              <a:ext cx="1008000" cy="988920"/>
              <a:chOff x="684360" y="2440080"/>
              <a:chExt cx="1008000" cy="988920"/>
            </a:xfrm>
          </p:grpSpPr>
          <p:grpSp>
            <p:nvGrpSpPr>
              <p:cNvPr id="293" name="Group 49"/>
              <p:cNvGrpSpPr/>
              <p:nvPr/>
            </p:nvGrpSpPr>
            <p:grpSpPr>
              <a:xfrm>
                <a:off x="684360" y="2440080"/>
                <a:ext cx="1008000" cy="988920"/>
                <a:chOff x="684360" y="2440080"/>
                <a:chExt cx="1008000" cy="988920"/>
              </a:xfrm>
            </p:grpSpPr>
            <p:pic>
              <p:nvPicPr>
                <p:cNvPr id="294" name="Picture 50" descr="circuler_1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4360" y="2440080"/>
                  <a:ext cx="1008000" cy="986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5" name="Oval 51"/>
                <p:cNvSpPr/>
                <p:nvPr/>
              </p:nvSpPr>
              <p:spPr>
                <a:xfrm>
                  <a:off x="684360" y="2440080"/>
                  <a:ext cx="1001160" cy="988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808080"/>
                    </a:gs>
                  </a:gsLst>
                  <a:lin ang="2700000"/>
                </a:gra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Arial"/>
                    </a:rPr>
                    <a:t>单击此处</a:t>
                  </a:r>
                  <a:endParaRPr b="1" i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Arial"/>
                    </a:rPr>
                    <a:t>添加文字</a:t>
                  </a:r>
                  <a:endParaRPr b="1" i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96" name="Picture 52" descr="Picture2"/>
              <p:cNvPicPr/>
              <p:nvPr/>
            </p:nvPicPr>
            <p:blipFill>
              <a:blip r:embed="rId6"/>
              <a:stretch/>
            </p:blipFill>
            <p:spPr>
              <a:xfrm>
                <a:off x="784800" y="2449440"/>
                <a:ext cx="795960" cy="349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97" name="Group 53"/>
            <p:cNvGrpSpPr/>
            <p:nvPr/>
          </p:nvGrpSpPr>
          <p:grpSpPr>
            <a:xfrm>
              <a:off x="745200" y="3107880"/>
              <a:ext cx="874080" cy="348840"/>
              <a:chOff x="745200" y="3107880"/>
              <a:chExt cx="874080" cy="348840"/>
            </a:xfrm>
          </p:grpSpPr>
          <p:grpSp>
            <p:nvGrpSpPr>
              <p:cNvPr id="298" name="Group 54"/>
              <p:cNvGrpSpPr/>
              <p:nvPr/>
            </p:nvGrpSpPr>
            <p:grpSpPr>
              <a:xfrm>
                <a:off x="897840" y="3107880"/>
                <a:ext cx="721440" cy="327600"/>
                <a:chOff x="897840" y="3107880"/>
                <a:chExt cx="721440" cy="327600"/>
              </a:xfrm>
            </p:grpSpPr>
            <p:sp>
              <p:nvSpPr>
                <p:cNvPr id="299" name="AutoShape 55"/>
                <p:cNvSpPr/>
                <p:nvPr/>
              </p:nvSpPr>
              <p:spPr>
                <a:xfrm flipH="1" flipV="1" rot="3964800">
                  <a:off x="1290600" y="3009240"/>
                  <a:ext cx="126360" cy="52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AutoShape 56"/>
                <p:cNvSpPr/>
                <p:nvPr/>
              </p:nvSpPr>
              <p:spPr>
                <a:xfrm flipH="1" flipV="1" rot="4780200">
                  <a:off x="1209600" y="3040560"/>
                  <a:ext cx="12636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AutoShape 57"/>
                <p:cNvSpPr/>
                <p:nvPr/>
              </p:nvSpPr>
              <p:spPr>
                <a:xfrm flipH="1" flipV="1" rot="5076000">
                  <a:off x="1160280" y="3047040"/>
                  <a:ext cx="12636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AutoShape 58"/>
                <p:cNvSpPr/>
                <p:nvPr/>
              </p:nvSpPr>
              <p:spPr>
                <a:xfrm flipH="1" flipV="1" rot="5608200">
                  <a:off x="1100160" y="3053520"/>
                  <a:ext cx="12636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3" name="Group 59"/>
              <p:cNvGrpSpPr/>
              <p:nvPr/>
            </p:nvGrpSpPr>
            <p:grpSpPr>
              <a:xfrm>
                <a:off x="745200" y="3112920"/>
                <a:ext cx="720720" cy="343800"/>
                <a:chOff x="745200" y="3112920"/>
                <a:chExt cx="720720" cy="343800"/>
              </a:xfrm>
            </p:grpSpPr>
            <p:sp>
              <p:nvSpPr>
                <p:cNvPr id="304" name="AutoShape 60"/>
                <p:cNvSpPr/>
                <p:nvPr/>
              </p:nvSpPr>
              <p:spPr>
                <a:xfrm flipH="1" flipV="1" rot="5317800">
                  <a:off x="1139040" y="3054240"/>
                  <a:ext cx="126720" cy="52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AutoShape 61"/>
                <p:cNvSpPr/>
                <p:nvPr/>
              </p:nvSpPr>
              <p:spPr>
                <a:xfrm flipH="1" flipV="1" rot="6133800">
                  <a:off x="1051560" y="3053160"/>
                  <a:ext cx="12672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AutoShape 62"/>
                <p:cNvSpPr/>
                <p:nvPr/>
              </p:nvSpPr>
              <p:spPr>
                <a:xfrm flipH="1" flipV="1" rot="6429000">
                  <a:off x="1002960" y="3039840"/>
                  <a:ext cx="12672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AutoShape 63"/>
                <p:cNvSpPr/>
                <p:nvPr/>
              </p:nvSpPr>
              <p:spPr>
                <a:xfrm flipH="1" flipV="1" rot="6961200">
                  <a:off x="945000" y="3021840"/>
                  <a:ext cx="12672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8" name="Group 64"/>
          <p:cNvGrpSpPr/>
          <p:nvPr/>
        </p:nvGrpSpPr>
        <p:grpSpPr>
          <a:xfrm>
            <a:off x="3708360" y="2421000"/>
            <a:ext cx="1008000" cy="1016640"/>
            <a:chOff x="3708360" y="2421000"/>
            <a:chExt cx="1008000" cy="1016640"/>
          </a:xfrm>
        </p:grpSpPr>
        <p:grpSp>
          <p:nvGrpSpPr>
            <p:cNvPr id="309" name="Group 65"/>
            <p:cNvGrpSpPr/>
            <p:nvPr/>
          </p:nvGrpSpPr>
          <p:grpSpPr>
            <a:xfrm>
              <a:off x="3708360" y="2421000"/>
              <a:ext cx="1008000" cy="988920"/>
              <a:chOff x="3708360" y="2421000"/>
              <a:chExt cx="1008000" cy="988920"/>
            </a:xfrm>
          </p:grpSpPr>
          <p:grpSp>
            <p:nvGrpSpPr>
              <p:cNvPr id="310" name="Group 66"/>
              <p:cNvGrpSpPr/>
              <p:nvPr/>
            </p:nvGrpSpPr>
            <p:grpSpPr>
              <a:xfrm>
                <a:off x="3708360" y="2421000"/>
                <a:ext cx="1008000" cy="988920"/>
                <a:chOff x="3708360" y="2421000"/>
                <a:chExt cx="1008000" cy="988920"/>
              </a:xfrm>
            </p:grpSpPr>
            <p:pic>
              <p:nvPicPr>
                <p:cNvPr id="311" name="Picture 67" descr="circuler_1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708360" y="2421000"/>
                  <a:ext cx="1008000" cy="986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2" name="Oval 68"/>
                <p:cNvSpPr/>
                <p:nvPr/>
              </p:nvSpPr>
              <p:spPr>
                <a:xfrm>
                  <a:off x="3708360" y="2421000"/>
                  <a:ext cx="1001160" cy="988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808080"/>
                    </a:gs>
                  </a:gsLst>
                  <a:lin ang="2700000"/>
                </a:gra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Arial"/>
                    </a:rPr>
                    <a:t>单击此处</a:t>
                  </a:r>
                  <a:endParaRPr b="1" i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Arial"/>
                    </a:rPr>
                    <a:t>添加文字</a:t>
                  </a:r>
                  <a:endParaRPr b="1" i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13" name="Picture 69" descr="Picture2"/>
              <p:cNvPicPr/>
              <p:nvPr/>
            </p:nvPicPr>
            <p:blipFill>
              <a:blip r:embed="rId8"/>
              <a:stretch/>
            </p:blipFill>
            <p:spPr>
              <a:xfrm>
                <a:off x="3808800" y="2430360"/>
                <a:ext cx="795960" cy="349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14" name="Group 70"/>
            <p:cNvGrpSpPr/>
            <p:nvPr/>
          </p:nvGrpSpPr>
          <p:grpSpPr>
            <a:xfrm>
              <a:off x="3769200" y="3088800"/>
              <a:ext cx="874080" cy="348840"/>
              <a:chOff x="3769200" y="3088800"/>
              <a:chExt cx="874080" cy="348840"/>
            </a:xfrm>
          </p:grpSpPr>
          <p:grpSp>
            <p:nvGrpSpPr>
              <p:cNvPr id="315" name="Group 71"/>
              <p:cNvGrpSpPr/>
              <p:nvPr/>
            </p:nvGrpSpPr>
            <p:grpSpPr>
              <a:xfrm>
                <a:off x="3921840" y="3088800"/>
                <a:ext cx="721440" cy="327600"/>
                <a:chOff x="3921840" y="3088800"/>
                <a:chExt cx="721440" cy="327600"/>
              </a:xfrm>
            </p:grpSpPr>
            <p:sp>
              <p:nvSpPr>
                <p:cNvPr id="316" name="AutoShape 72"/>
                <p:cNvSpPr/>
                <p:nvPr/>
              </p:nvSpPr>
              <p:spPr>
                <a:xfrm flipH="1" flipV="1" rot="3964800">
                  <a:off x="4314600" y="2990160"/>
                  <a:ext cx="126360" cy="52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AutoShape 73"/>
                <p:cNvSpPr/>
                <p:nvPr/>
              </p:nvSpPr>
              <p:spPr>
                <a:xfrm flipH="1" flipV="1" rot="4780200">
                  <a:off x="4233600" y="3021480"/>
                  <a:ext cx="12636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AutoShape 74"/>
                <p:cNvSpPr/>
                <p:nvPr/>
              </p:nvSpPr>
              <p:spPr>
                <a:xfrm flipH="1" flipV="1" rot="5076000">
                  <a:off x="4184280" y="3027960"/>
                  <a:ext cx="12636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AutoShape 75"/>
                <p:cNvSpPr/>
                <p:nvPr/>
              </p:nvSpPr>
              <p:spPr>
                <a:xfrm flipH="1" flipV="1" rot="5608200">
                  <a:off x="4124160" y="3034440"/>
                  <a:ext cx="12636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0" name="Group 76"/>
              <p:cNvGrpSpPr/>
              <p:nvPr/>
            </p:nvGrpSpPr>
            <p:grpSpPr>
              <a:xfrm>
                <a:off x="3769200" y="3093840"/>
                <a:ext cx="720720" cy="343800"/>
                <a:chOff x="3769200" y="3093840"/>
                <a:chExt cx="720720" cy="343800"/>
              </a:xfrm>
            </p:grpSpPr>
            <p:sp>
              <p:nvSpPr>
                <p:cNvPr id="321" name="AutoShape 77"/>
                <p:cNvSpPr/>
                <p:nvPr/>
              </p:nvSpPr>
              <p:spPr>
                <a:xfrm flipH="1" flipV="1" rot="5317800">
                  <a:off x="4163040" y="3035160"/>
                  <a:ext cx="126720" cy="52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AutoShape 78"/>
                <p:cNvSpPr/>
                <p:nvPr/>
              </p:nvSpPr>
              <p:spPr>
                <a:xfrm flipH="1" flipV="1" rot="6133800">
                  <a:off x="4075560" y="3034080"/>
                  <a:ext cx="12672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AutoShape 79"/>
                <p:cNvSpPr/>
                <p:nvPr/>
              </p:nvSpPr>
              <p:spPr>
                <a:xfrm flipH="1" flipV="1" rot="6429000">
                  <a:off x="4026960" y="3020760"/>
                  <a:ext cx="12672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AutoShape 80"/>
                <p:cNvSpPr/>
                <p:nvPr/>
              </p:nvSpPr>
              <p:spPr>
                <a:xfrm flipH="1" flipV="1" rot="6961200">
                  <a:off x="3969000" y="3002760"/>
                  <a:ext cx="12672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25" name="Group 81"/>
          <p:cNvGrpSpPr/>
          <p:nvPr/>
        </p:nvGrpSpPr>
        <p:grpSpPr>
          <a:xfrm>
            <a:off x="2197080" y="1268280"/>
            <a:ext cx="1008000" cy="1016640"/>
            <a:chOff x="2197080" y="1268280"/>
            <a:chExt cx="1008000" cy="1016640"/>
          </a:xfrm>
        </p:grpSpPr>
        <p:grpSp>
          <p:nvGrpSpPr>
            <p:cNvPr id="326" name="Group 82"/>
            <p:cNvGrpSpPr/>
            <p:nvPr/>
          </p:nvGrpSpPr>
          <p:grpSpPr>
            <a:xfrm>
              <a:off x="2197080" y="1268280"/>
              <a:ext cx="1008000" cy="989280"/>
              <a:chOff x="2197080" y="1268280"/>
              <a:chExt cx="1008000" cy="989280"/>
            </a:xfrm>
          </p:grpSpPr>
          <p:grpSp>
            <p:nvGrpSpPr>
              <p:cNvPr id="327" name="Group 83"/>
              <p:cNvGrpSpPr/>
              <p:nvPr/>
            </p:nvGrpSpPr>
            <p:grpSpPr>
              <a:xfrm>
                <a:off x="2197080" y="1268280"/>
                <a:ext cx="1008000" cy="989280"/>
                <a:chOff x="2197080" y="1268280"/>
                <a:chExt cx="1008000" cy="989280"/>
              </a:xfrm>
            </p:grpSpPr>
            <p:pic>
              <p:nvPicPr>
                <p:cNvPr id="328" name="Picture 84" descr="circuler_1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2197080" y="1268280"/>
                  <a:ext cx="1008000" cy="98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29" name="Oval 85"/>
                <p:cNvSpPr/>
                <p:nvPr/>
              </p:nvSpPr>
              <p:spPr>
                <a:xfrm>
                  <a:off x="2197080" y="1268280"/>
                  <a:ext cx="1001160" cy="989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808080"/>
                    </a:gs>
                  </a:gsLst>
                  <a:lin ang="2700000"/>
                </a:gra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Arial"/>
                    </a:rPr>
                    <a:t>单击此处</a:t>
                  </a:r>
                  <a:endParaRPr b="1" i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Arial"/>
                    </a:rPr>
                    <a:t>添加文字</a:t>
                  </a:r>
                  <a:endParaRPr b="1" i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30" name="Picture 86" descr="Picture2"/>
              <p:cNvPicPr/>
              <p:nvPr/>
            </p:nvPicPr>
            <p:blipFill>
              <a:blip r:embed="rId10"/>
              <a:stretch/>
            </p:blipFill>
            <p:spPr>
              <a:xfrm>
                <a:off x="2297520" y="1277640"/>
                <a:ext cx="795960" cy="349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31" name="Group 87"/>
            <p:cNvGrpSpPr/>
            <p:nvPr/>
          </p:nvGrpSpPr>
          <p:grpSpPr>
            <a:xfrm>
              <a:off x="2257920" y="1936080"/>
              <a:ext cx="874080" cy="348840"/>
              <a:chOff x="2257920" y="1936080"/>
              <a:chExt cx="874080" cy="348840"/>
            </a:xfrm>
          </p:grpSpPr>
          <p:grpSp>
            <p:nvGrpSpPr>
              <p:cNvPr id="332" name="Group 88"/>
              <p:cNvGrpSpPr/>
              <p:nvPr/>
            </p:nvGrpSpPr>
            <p:grpSpPr>
              <a:xfrm>
                <a:off x="2410560" y="1936080"/>
                <a:ext cx="721440" cy="327600"/>
                <a:chOff x="2410560" y="1936080"/>
                <a:chExt cx="721440" cy="327600"/>
              </a:xfrm>
            </p:grpSpPr>
            <p:sp>
              <p:nvSpPr>
                <p:cNvPr id="333" name="AutoShape 89"/>
                <p:cNvSpPr/>
                <p:nvPr/>
              </p:nvSpPr>
              <p:spPr>
                <a:xfrm flipH="1" flipV="1" rot="3964800">
                  <a:off x="2803320" y="1837440"/>
                  <a:ext cx="126360" cy="52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AutoShape 90"/>
                <p:cNvSpPr/>
                <p:nvPr/>
              </p:nvSpPr>
              <p:spPr>
                <a:xfrm flipH="1" flipV="1" rot="4780200">
                  <a:off x="2722320" y="1868760"/>
                  <a:ext cx="12636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AutoShape 91"/>
                <p:cNvSpPr/>
                <p:nvPr/>
              </p:nvSpPr>
              <p:spPr>
                <a:xfrm flipH="1" flipV="1" rot="5076000">
                  <a:off x="2673000" y="1875240"/>
                  <a:ext cx="12636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AutoShape 92"/>
                <p:cNvSpPr/>
                <p:nvPr/>
              </p:nvSpPr>
              <p:spPr>
                <a:xfrm flipH="1" flipV="1" rot="5608200">
                  <a:off x="2612880" y="1881720"/>
                  <a:ext cx="12636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7" name="Group 93"/>
              <p:cNvGrpSpPr/>
              <p:nvPr/>
            </p:nvGrpSpPr>
            <p:grpSpPr>
              <a:xfrm>
                <a:off x="2257920" y="1941120"/>
                <a:ext cx="720720" cy="343800"/>
                <a:chOff x="2257920" y="1941120"/>
                <a:chExt cx="720720" cy="343800"/>
              </a:xfrm>
            </p:grpSpPr>
            <p:sp>
              <p:nvSpPr>
                <p:cNvPr id="338" name="AutoShape 94"/>
                <p:cNvSpPr/>
                <p:nvPr/>
              </p:nvSpPr>
              <p:spPr>
                <a:xfrm flipH="1" flipV="1" rot="5317800">
                  <a:off x="2651760" y="1882440"/>
                  <a:ext cx="126720" cy="52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AutoShape 95"/>
                <p:cNvSpPr/>
                <p:nvPr/>
              </p:nvSpPr>
              <p:spPr>
                <a:xfrm flipH="1" flipV="1" rot="6133800">
                  <a:off x="2564280" y="1881360"/>
                  <a:ext cx="12672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AutoShape 96"/>
                <p:cNvSpPr/>
                <p:nvPr/>
              </p:nvSpPr>
              <p:spPr>
                <a:xfrm flipH="1" flipV="1" rot="6429000">
                  <a:off x="2515680" y="1868040"/>
                  <a:ext cx="12672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AutoShape 97"/>
                <p:cNvSpPr/>
                <p:nvPr/>
              </p:nvSpPr>
              <p:spPr>
                <a:xfrm flipH="1" flipV="1" rot="6961200">
                  <a:off x="2457720" y="1850040"/>
                  <a:ext cx="12672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42" name="Arc 98"/>
          <p:cNvSpPr/>
          <p:nvPr/>
        </p:nvSpPr>
        <p:spPr>
          <a:xfrm rot="21229800">
            <a:off x="2844360" y="1717200"/>
            <a:ext cx="1211400" cy="1208160"/>
          </a:xfrm>
          <a:custGeom>
            <a:avLst/>
            <a:gdLst>
              <a:gd name="textAreaLeft" fmla="*/ 0 w 1211400"/>
              <a:gd name="textAreaRight" fmla="*/ 1211760 w 1211400"/>
              <a:gd name="textAreaTop" fmla="*/ 0 h 1208160"/>
              <a:gd name="textAreaBottom" fmla="*/ 1208160 h 1208160"/>
            </a:gdLst>
            <a:ahLst/>
            <a:rect l="textAreaLeft" t="textAreaTop" r="textAreaRight" b="textAreaBottom"/>
            <a:pathLst>
              <a:path fill="none" w="19905" h="19873">
                <a:moveTo>
                  <a:pt x="8462" y="-1"/>
                </a:moveTo>
                <a:cubicBezTo>
                  <a:pt x="13623" y="2197"/>
                  <a:pt x="17727" y="6316"/>
                  <a:pt x="19905" y="11485"/>
                </a:cubicBezTo>
              </a:path>
              <a:path stroke="0" w="19905" h="19873">
                <a:moveTo>
                  <a:pt x="8462" y="-1"/>
                </a:moveTo>
                <a:cubicBezTo>
                  <a:pt x="13623" y="2197"/>
                  <a:pt x="17727" y="6316"/>
                  <a:pt x="19905" y="11485"/>
                </a:cubicBezTo>
                <a:lnTo>
                  <a:pt x="0" y="19873"/>
                </a:lnTo>
                <a:lnTo>
                  <a:pt x="8462" y="-1"/>
                </a:lnTo>
                <a:close/>
              </a:path>
            </a:pathLst>
          </a:custGeom>
          <a:noFill/>
          <a:ln cap="rnd" w="38160">
            <a:solidFill>
              <a:srgbClr val="9e9e9e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99"/>
          <p:cNvSpPr/>
          <p:nvPr/>
        </p:nvSpPr>
        <p:spPr>
          <a:xfrm>
            <a:off x="1171440" y="5229360"/>
            <a:ext cx="895320" cy="360360"/>
          </a:xfrm>
          <a:prstGeom prst="ellipse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445e7a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100"/>
          <p:cNvSpPr/>
          <p:nvPr/>
        </p:nvSpPr>
        <p:spPr>
          <a:xfrm>
            <a:off x="5219640" y="2073240"/>
            <a:ext cx="2957400" cy="3084480"/>
          </a:xfrm>
          <a:custGeom>
            <a:avLst/>
            <a:gdLst>
              <a:gd name="textAreaLeft" fmla="*/ 25560 w 2957400"/>
              <a:gd name="textAreaRight" fmla="*/ 2931840 w 2957400"/>
              <a:gd name="textAreaTop" fmla="*/ 25560 h 3084480"/>
              <a:gd name="textAreaBottom" fmla="*/ 3058920 h 3084480"/>
            </a:gdLst>
            <a:ahLst/>
            <a:rect l="textAreaLeft" t="textAreaTop" r="textAreaRight" b="textAreaBottom"/>
            <a:pathLst>
              <a:path w="21600" h="22528">
                <a:moveTo>
                  <a:pt x="638" y="0"/>
                </a:moveTo>
                <a:arcTo wR="638" hR="638" stAng="16200000" swAng="-5400000"/>
                <a:lnTo>
                  <a:pt x="0" y="21890"/>
                </a:lnTo>
                <a:arcTo wR="638" hR="638" stAng="10800000" swAng="-5400000"/>
                <a:lnTo>
                  <a:pt x="20962" y="22528"/>
                </a:lnTo>
                <a:arcTo wR="638" hR="638" stAng="5400000" swAng="-5400000"/>
                <a:lnTo>
                  <a:pt x="21600" y="638"/>
                </a:lnTo>
                <a:arcTo wR="638" hR="638" stAng="0" swAng="-5400000"/>
                <a:close/>
              </a:path>
            </a:pathLst>
          </a:custGeom>
          <a:gradFill rotWithShape="0">
            <a:gsLst>
              <a:gs pos="0">
                <a:srgbClr val="ff9021"/>
              </a:gs>
              <a:gs pos="100000">
                <a:srgbClr val="963d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单击此处添加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单击此处添加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单击此处添加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单击此处添加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单击此处添加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101"/>
          <p:cNvSpPr/>
          <p:nvPr/>
        </p:nvSpPr>
        <p:spPr>
          <a:xfrm>
            <a:off x="5253120" y="2106720"/>
            <a:ext cx="2892240" cy="288720"/>
          </a:xfrm>
          <a:prstGeom prst="roundRect">
            <a:avLst>
              <a:gd name="adj" fmla="val 25981"/>
            </a:avLst>
          </a:prstGeom>
          <a:gradFill rotWithShape="0">
            <a:gsLst>
              <a:gs pos="0">
                <a:srgbClr val="ffffff">
                  <a:alpha val="75294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102"/>
          <p:cNvGrpSpPr/>
          <p:nvPr/>
        </p:nvGrpSpPr>
        <p:grpSpPr>
          <a:xfrm>
            <a:off x="5235480" y="1573200"/>
            <a:ext cx="2941560" cy="434880"/>
            <a:chOff x="5235480" y="1573200"/>
            <a:chExt cx="2941560" cy="434880"/>
          </a:xfrm>
        </p:grpSpPr>
        <p:sp>
          <p:nvSpPr>
            <p:cNvPr id="347" name="AutoShape 103"/>
            <p:cNvSpPr/>
            <p:nvPr/>
          </p:nvSpPr>
          <p:spPr>
            <a:xfrm>
              <a:off x="5235480" y="1573200"/>
              <a:ext cx="2941560" cy="434880"/>
            </a:xfrm>
            <a:prstGeom prst="roundRect">
              <a:avLst>
                <a:gd name="adj" fmla="val 13028"/>
              </a:avLst>
            </a:prstGeom>
            <a:solidFill>
              <a:srgbClr val="ff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963d00"/>
                  </a:solidFill>
                  <a:latin typeface="Arial"/>
                </a:rPr>
                <a:t>单击此处添加标题文字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AutoShape 104"/>
            <p:cNvSpPr/>
            <p:nvPr/>
          </p:nvSpPr>
          <p:spPr>
            <a:xfrm>
              <a:off x="5263920" y="1606680"/>
              <a:ext cx="2879640" cy="17712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3"/>
          <p:cNvSpPr/>
          <p:nvPr/>
        </p:nvSpPr>
        <p:spPr>
          <a:xfrm>
            <a:off x="1477800" y="2421000"/>
            <a:ext cx="61851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感谢您的关注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1PPT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模板网 </a:t>
            </a:r>
            <a:r>
              <a:rPr b="1" lang="en-US" sz="2000" spc="-1" strike="noStrike" u="sng">
                <a:solidFill>
                  <a:srgbClr val="963d00"/>
                </a:solidFill>
                <a:uFillTx/>
                <a:latin typeface="Arial"/>
                <a:hlinkClick r:id="rId1"/>
              </a:rPr>
              <a:t>www.51pptmoban.co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整理发布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NordriDesign</dc:creator>
  <dc:description>nordridesign.com</dc:description>
  <cp:keywords>ppt幻灯设计/ppt模板设计</cp:keywords>
  <dc:language>en-US</dc:language>
  <cp:lastModifiedBy>YANGS-PC</cp:lastModifiedBy>
  <dcterms:modified xsi:type="dcterms:W3CDTF">2015-07-02T09:08:47Z</dcterms:modified>
  <cp:revision>276</cp:revision>
  <dc:subject/>
  <dc:title>PowerPoint Template</dc:title>
</cp:coreProperties>
</file>