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AE3-48A1-4DFA-BDFA-B53D62B3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28B-11B2-43F6-9977-560DBA77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0ED-EAAF-45B6-A628-C05AD472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A5E-2156-4974-9B15-21BF216F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28E-DE34-423E-9CAF-0E33C3A4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06D-07E7-45B8-A46F-080445CF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89E-6379-499F-B2AC-5A9EAED1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8FB-1B41-4CFC-8366-E92B352A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E1D-E388-41DC-9B81-1F44FC2B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406-1188-4A2D-B851-32CF8479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AAF-E103-4C01-B51A-F757CC8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962-FC97-44B9-9B88-5F3E62A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11D3-352F-4CE8-B125-00C76C39D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欢 度 国 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4960" y="857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Beer</dc:creator>
  <dc:description/>
  <dc:language>en-US</dc:language>
  <cp:lastModifiedBy>admin</cp:lastModifiedBy>
  <dcterms:modified xsi:type="dcterms:W3CDTF">2012-09-11T14:01:39Z</dcterms:modified>
  <cp:revision>5</cp:revision>
  <dc:subject/>
  <dc:title>欢 度 国 庆</dc:title>
</cp:coreProperties>
</file>