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B37-AF86-4F45-90B0-E2A089E4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DCE-7078-49BD-AB45-1A36F670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41B-0963-48C1-8F28-D1DC8F10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8AC-2DFB-4414-AA4C-184AA8B8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BBB-285A-4985-A403-F23A59D9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127-8784-4C0A-A3E5-4E169048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BB8-AF53-43C9-990A-5FDEF1CB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167-25A1-4978-8077-2DED3604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B69-BC5C-418D-ABD6-C405ED79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E4B-D2FB-49A2-8DFA-85BA0C02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726-1912-4FDA-AA1A-D8F201B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774-A3C1-4A3F-A502-EEF8EA3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9858-21BF-42D1-A6C7-A5B4232A6F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4960" y="857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dmin</cp:lastModifiedBy>
  <dcterms:modified xsi:type="dcterms:W3CDTF">2012-09-11T14:01:39Z</dcterms:modified>
  <cp:revision>5</cp:revision>
  <dc:subject/>
  <dc:title>欢 度 国 庆</dc:title>
</cp:coreProperties>
</file>