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C76-7CC0-46AE-9B84-363E8D26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1F0-5BDA-4F67-9134-36622D51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CE7-8E5F-45A6-938C-FCB1B784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6C2-33C1-44E9-BF0A-EFE9FEAC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764-FDA2-482A-860E-DE390B35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8F8-6BD1-4007-94ED-65535C82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9FE-A8E2-47F6-A402-BDC16E59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FBB-10C3-4142-9105-69689ED6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2F1-23C9-4596-8F44-3D4D86E0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68F-DE6B-4A95-B798-9872CCAE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427-C9A0-4785-90AA-1D71EA1E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691-C1B5-4990-9675-28B5BB29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0F42-88DF-431B-BE40-44BB1FF2EF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欢 度 国 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4960" y="857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1pptmoban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7:24Z</dcterms:created>
  <dc:creator>Beer</dc:creator>
  <dc:description/>
  <dc:language>en-US</dc:language>
  <cp:lastModifiedBy>admin</cp:lastModifiedBy>
  <dcterms:modified xsi:type="dcterms:W3CDTF">2012-09-11T14:01:39Z</dcterms:modified>
  <cp:revision>5</cp:revision>
  <dc:subject/>
  <dc:title>欢 度 国 庆</dc:title>
</cp:coreProperties>
</file>