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F60D4-3CF8-4079-B761-E47F42D15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F07CA-0E43-4D19-BDA6-C98CC8A81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1949E-EC4D-454A-B34A-F1550A6EA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8E049-085C-421C-8FBD-9F5653FF1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95251-1D83-4825-B058-D34373F5D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1DB1F-34DD-4B27-81C5-47F0B9E13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9EDEE-00BF-4DA0-9265-A1BB4ABDB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DFABD-F710-4488-8416-D45319D23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B78EE-1D1B-4A7B-958E-CB8AB3B7A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C80E1-E962-42E7-82F8-BC8FC6478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55D9F-5066-411C-B04A-437DD0D12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168E0-AFF7-4222-9CEE-2542D77F9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110A9-50F1-464A-B883-2D973FB33A6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51pptmoban.com/" TargetMode="External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ff"/>
                </a:solidFill>
                <a:latin typeface="黑体"/>
                <a:ea typeface="黑体"/>
              </a:rPr>
              <a:t>欢 度 国 庆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614960" y="857160"/>
            <a:ext cx="316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51pptmoban.com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搜集整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5T15:07:24Z</dcterms:created>
  <dc:creator>Beer</dc:creator>
  <dc:description/>
  <dc:language>en-US</dc:language>
  <cp:lastModifiedBy>admin</cp:lastModifiedBy>
  <dcterms:modified xsi:type="dcterms:W3CDTF">2012-09-11T14:01:39Z</dcterms:modified>
  <cp:revision>5</cp:revision>
  <dc:subject/>
  <dc:title>欢 度 国 庆</dc:title>
</cp:coreProperties>
</file>